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wmf" ContentType="image/x-wmf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ADC8-D52E-494F-B9AB-894986324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DD89-A30D-4F4A-9439-113F3043F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6346-6A15-45C9-A3BA-8DDB7D81D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60A2-2375-4109-A0E1-3CEA0F6B0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CF20-E89B-4058-854A-485B43337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293D-3E0B-4EE8-BF6C-F592B2D85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9C0E-1AEB-4853-9092-28A5EA7EE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ED4C-C626-4133-A3DC-5049CCCE8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E518-541D-4ED8-8587-08C90BD67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AB6E-50ED-45C2-9712-4D055DB5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1CC1-B3B0-4910-9653-4D9F6B3F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1308-AC3A-4AF3-9353-13EE4ACB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983f7"/>
            </a:gs>
            <a:gs pos="100000">
              <a:srgbClr val="ccdcf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pay@hit.bme.h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SO -   gradient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07BD8-B3C7-4569-858F-437129D0BDB6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6172200"/>
            <a:ext cx="86104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983f7"/>
            </a:gs>
            <a:gs pos="100000">
              <a:srgbClr val="ccdcf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i</a:t>
            </a: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rtuális valóság</a:t>
            </a: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 -</a:t>
            </a:r>
            <a:br>
              <a:rPr sz="4400"/>
            </a:b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„analóg érzés” digitális oszcilloszkópp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209680" y="3200400"/>
            <a:ext cx="4562640" cy="2349360"/>
            <a:chOff x="2209680" y="3200400"/>
            <a:chExt cx="4562640" cy="2349360"/>
          </a:xfrm>
        </p:grpSpPr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2209680" y="3200400"/>
              <a:ext cx="4562640" cy="12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2514600" y="4724280"/>
              <a:ext cx="4070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R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DSO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P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1950)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1972)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1998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8A29-E294-4C57-87A9-7507B4D47DE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983f7"/>
            </a:gs>
            <a:gs pos="100000">
              <a:srgbClr val="ccdcf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or-graded display”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(Agilen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3038760" cy="3048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114800" y="2209680"/>
            <a:ext cx="4591080" cy="30481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913680" y="5334120"/>
            <a:ext cx="24271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-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tistic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data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“digital phosphor”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E99F-489A-4E6B-AF46-5F88E42DEE4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983f7"/>
            </a:gs>
            <a:gs pos="100000">
              <a:srgbClr val="ccdcf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or-graded display”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(Agilen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85800" y="2286000"/>
            <a:ext cx="3429000" cy="25909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068120" y="5222880"/>
            <a:ext cx="2783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nda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sist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pixels “age” digitall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029200" y="2286000"/>
            <a:ext cx="3442680" cy="3705840"/>
            <a:chOff x="5029200" y="2286000"/>
            <a:chExt cx="3442680" cy="3705840"/>
          </a:xfrm>
        </p:grpSpPr>
        <p:pic>
          <p:nvPicPr>
            <p:cNvPr id="125" name="" descr=""/>
            <p:cNvPicPr/>
            <p:nvPr/>
          </p:nvPicPr>
          <p:blipFill>
            <a:blip r:embed="rId2"/>
            <a:stretch/>
          </p:blipFill>
          <p:spPr>
            <a:xfrm>
              <a:off x="5029200" y="2286000"/>
              <a:ext cx="3429000" cy="25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5178960" y="5257800"/>
              <a:ext cx="329292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lor-graded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persiste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pixels don’t age, but ...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AB89-A343-489F-B5DD-58EBDBCB2AB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983f7"/>
            </a:gs>
            <a:gs pos="100000">
              <a:srgbClr val="ccdcf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uTrace”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Goul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676520" y="3352680"/>
            <a:ext cx="1904760" cy="15242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600560" y="2057400"/>
            <a:ext cx="244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dulated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ntional D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3924360" y="1600200"/>
            <a:ext cx="4228920" cy="3267000"/>
            <a:chOff x="3924360" y="1600200"/>
            <a:chExt cx="4228920" cy="3267000"/>
          </a:xfrm>
        </p:grpSpPr>
        <p:pic>
          <p:nvPicPr>
            <p:cNvPr id="131" name="" descr=""/>
            <p:cNvPicPr/>
            <p:nvPr/>
          </p:nvPicPr>
          <p:blipFill>
            <a:blip r:embed="rId2"/>
            <a:stretch/>
          </p:blipFill>
          <p:spPr>
            <a:xfrm>
              <a:off x="4876920" y="2209680"/>
              <a:ext cx="3276360" cy="265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3924360" y="1600200"/>
              <a:ext cx="799920" cy="762120"/>
            </a:xfrm>
            <a:custGeom>
              <a:avLst/>
              <a:gdLst/>
              <a:ahLst/>
              <a:rect l="l" t="t" r="r" b="b"/>
              <a:pathLst>
                <a:path w="504" h="480">
                  <a:moveTo>
                    <a:pt x="72" y="0"/>
                  </a:moveTo>
                  <a:cubicBezTo>
                    <a:pt x="36" y="104"/>
                    <a:pt x="0" y="208"/>
                    <a:pt x="72" y="288"/>
                  </a:cubicBezTo>
                  <a:cubicBezTo>
                    <a:pt x="144" y="368"/>
                    <a:pt x="432" y="448"/>
                    <a:pt x="504" y="48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2AE4-680E-4F45-8B30-71C38535815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983f7"/>
            </a:gs>
            <a:gs pos="100000">
              <a:srgbClr val="ccdcf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uTrace”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Goul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3520" y="2743200"/>
            <a:ext cx="4286160" cy="2457360"/>
          </a:xfrm>
          <a:prstGeom prst="rect">
            <a:avLst/>
          </a:prstGeom>
          <a:ln w="0">
            <a:noFill/>
          </a:ln>
        </p:spPr>
      </p:pic>
      <p:grpSp>
        <p:nvGrpSpPr>
          <p:cNvPr id="135" name=""/>
          <p:cNvGrpSpPr/>
          <p:nvPr/>
        </p:nvGrpSpPr>
        <p:grpSpPr>
          <a:xfrm>
            <a:off x="1828800" y="2209680"/>
            <a:ext cx="6515280" cy="3000600"/>
            <a:chOff x="1828800" y="2209680"/>
            <a:chExt cx="6515280" cy="3000600"/>
          </a:xfrm>
        </p:grpSpPr>
        <p:pic>
          <p:nvPicPr>
            <p:cNvPr id="136" name="" descr=""/>
            <p:cNvPicPr/>
            <p:nvPr/>
          </p:nvPicPr>
          <p:blipFill>
            <a:blip r:embed="rId2"/>
            <a:stretch/>
          </p:blipFill>
          <p:spPr>
            <a:xfrm>
              <a:off x="5486400" y="2362320"/>
              <a:ext cx="2857680" cy="28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1828800" y="2209680"/>
              <a:ext cx="3530520" cy="749520"/>
            </a:xfrm>
            <a:custGeom>
              <a:avLst/>
              <a:gdLst/>
              <a:ahLst/>
              <a:rect l="l" t="t" r="r" b="b"/>
              <a:pathLst>
                <a:path w="2224" h="472">
                  <a:moveTo>
                    <a:pt x="112" y="472"/>
                  </a:moveTo>
                  <a:cubicBezTo>
                    <a:pt x="56" y="276"/>
                    <a:pt x="0" y="80"/>
                    <a:pt x="352" y="40"/>
                  </a:cubicBezTo>
                  <a:cubicBezTo>
                    <a:pt x="704" y="0"/>
                    <a:pt x="1912" y="200"/>
                    <a:pt x="2224" y="232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23B2-125E-48B6-B952-4A1BAB9E2F8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983f7"/>
            </a:gs>
            <a:gs pos="100000">
              <a:srgbClr val="ccdcf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-points display”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Yokogawa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77724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E477-2018-46CB-9607-E66033F982B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983f7"/>
            </a:gs>
            <a:gs pos="100000">
              <a:srgbClr val="ccdcf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-points display”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Yokogawa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57200" y="2209680"/>
            <a:ext cx="4705200" cy="350532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5029200" y="4267080"/>
            <a:ext cx="3267000" cy="1543320"/>
            <a:chOff x="5029200" y="4267080"/>
            <a:chExt cx="3267000" cy="154332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6248520" y="4267080"/>
              <a:ext cx="2047680" cy="154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5029200" y="4648320"/>
              <a:ext cx="990720" cy="457200"/>
            </a:xfrm>
            <a:custGeom>
              <a:avLst/>
              <a:gdLst/>
              <a:ahLst/>
              <a:rect l="l" t="t" r="r" b="b"/>
              <a:pathLst>
                <a:path w="624" h="288">
                  <a:moveTo>
                    <a:pt x="0" y="0"/>
                  </a:moveTo>
                  <a:cubicBezTo>
                    <a:pt x="68" y="72"/>
                    <a:pt x="136" y="144"/>
                    <a:pt x="240" y="192"/>
                  </a:cubicBezTo>
                  <a:cubicBezTo>
                    <a:pt x="344" y="240"/>
                    <a:pt x="560" y="272"/>
                    <a:pt x="624" y="288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763200" y="1523880"/>
            <a:ext cx="7618680" cy="3320640"/>
            <a:chOff x="763200" y="1523880"/>
            <a:chExt cx="7618680" cy="332064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5883120" y="1752480"/>
              <a:ext cx="2438640" cy="154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763200" y="4384800"/>
              <a:ext cx="53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(*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335200" y="1523880"/>
              <a:ext cx="53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(*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/>
            <p:nvPr/>
          </p:nvCxnSpPr>
          <p:spPr>
            <a:xfrm>
              <a:off x="5562360" y="2209680"/>
              <a:ext cx="2819880" cy="1448640"/>
            </a:xfrm>
            <a:prstGeom prst="bentConnector3">
              <a:avLst>
                <a:gd name="adj1" fmla="val 446"/>
              </a:avLst>
            </a:prstGeom>
            <a:ln w="9360">
              <a:solidFill>
                <a:srgbClr val="ff3300"/>
              </a:solidFill>
              <a:miter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4CB6-AA31-40D0-A690-2078A9B0922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983f7"/>
            </a:gs>
            <a:gs pos="100000">
              <a:srgbClr val="ccdcf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alog persistence”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LeCro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62120" y="2133720"/>
            <a:ext cx="3276360" cy="29718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218240" y="5181480"/>
            <a:ext cx="24789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alo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sist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nsity-grad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4798080" y="2133720"/>
            <a:ext cx="3292920" cy="3812400"/>
            <a:chOff x="4798080" y="2133720"/>
            <a:chExt cx="3292920" cy="3812400"/>
          </a:xfrm>
        </p:grpSpPr>
        <p:pic>
          <p:nvPicPr>
            <p:cNvPr id="154" name="" descr=""/>
            <p:cNvPicPr/>
            <p:nvPr/>
          </p:nvPicPr>
          <p:blipFill>
            <a:blip r:embed="rId2"/>
            <a:stretch/>
          </p:blipFill>
          <p:spPr>
            <a:xfrm>
              <a:off x="4800600" y="2133720"/>
              <a:ext cx="3276720" cy="29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4798080" y="5181480"/>
              <a:ext cx="329292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lor-graded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persiste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with histogram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76C9-8795-4769-BB04-4E6684924FC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983f7"/>
            </a:gs>
            <a:gs pos="100000">
              <a:srgbClr val="ccdcf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alog persistence”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LeCro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057400" y="1600200"/>
            <a:ext cx="49528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EAE0-BD39-47E8-AE86-5FB2F0B5E85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983f7"/>
            </a:gs>
            <a:gs pos="100000">
              <a:srgbClr val="ccdcf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alog persistence”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LeCro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286000" y="2057400"/>
            <a:ext cx="4648320" cy="36003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7238880" y="2666880"/>
            <a:ext cx="116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tas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9D62-1CBF-4CBC-8077-11D77CBA8C1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983f7"/>
            </a:gs>
            <a:gs pos="100000">
              <a:srgbClr val="ccdcf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alog persistence”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LeCro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286000" y="2057400"/>
            <a:ext cx="4641840" cy="36100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7234200" y="2666880"/>
            <a:ext cx="138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el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a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XY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mod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312320" y="4876920"/>
            <a:ext cx="1439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de is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tional str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4628-C0C8-45A2-87B9-8DFDE0FF5EC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983f7"/>
            </a:gs>
            <a:gs pos="100000">
              <a:srgbClr val="ccdcf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T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s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DS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8458200" cy="3651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18520" y="1676520"/>
            <a:ext cx="86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log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l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e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git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rage (Sampling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illosc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08600" y="3733920"/>
            <a:ext cx="229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irect signal p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(limited writing spe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00320" y="2362320"/>
            <a:ext cx="28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djunct function to captur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extensive manipul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F8F6-F7EF-4FE6-B013-60189F3F4BD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983f7"/>
            </a:gs>
            <a:gs pos="100000">
              <a:srgbClr val="ccdcf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T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s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DS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2920" y="1676520"/>
            <a:ext cx="6959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OG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pdate spe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“infinite” 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essing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ative frequenc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e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le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ata stre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oubleshoo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dulat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al phenom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6240" y="3657600"/>
            <a:ext cx="7818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GITAL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asurement, analysis, mask testing, storag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unica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rd-co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trigg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tur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litch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pi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ew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w-repet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gle-sh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ave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0AE7-8930-4192-8CA7-BD3C30F5738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983f7"/>
            </a:gs>
            <a:gs pos="100000">
              <a:srgbClr val="ccdcf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T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s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DS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80880" y="2133720"/>
          <a:ext cx="8305920" cy="378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133720"/>
                    <a:ext cx="8305920" cy="37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7" name=""/>
          <p:cNvGrpSpPr/>
          <p:nvPr/>
        </p:nvGrpSpPr>
        <p:grpSpPr>
          <a:xfrm>
            <a:off x="531360" y="1523880"/>
            <a:ext cx="2494440" cy="596880"/>
            <a:chOff x="531360" y="1523880"/>
            <a:chExt cx="2494440" cy="596880"/>
          </a:xfrm>
        </p:grpSpPr>
        <p:sp>
          <p:nvSpPr>
            <p:cNvPr id="58" name=""/>
            <p:cNvSpPr/>
            <p:nvPr/>
          </p:nvSpPr>
          <p:spPr>
            <a:xfrm>
              <a:off x="533520" y="1523880"/>
              <a:ext cx="249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nsity variations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31360" y="1752480"/>
              <a:ext cx="220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arge amount of deta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247440" y="5638680"/>
            <a:ext cx="236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ster-scan display (vector OF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6170400" y="1523880"/>
            <a:ext cx="2453760" cy="596880"/>
            <a:chOff x="6170400" y="1523880"/>
            <a:chExt cx="2453760" cy="596880"/>
          </a:xfrm>
        </p:grpSpPr>
        <p:sp>
          <p:nvSpPr>
            <p:cNvPr id="62" name=""/>
            <p:cNvSpPr/>
            <p:nvPr/>
          </p:nvSpPr>
          <p:spPr>
            <a:xfrm>
              <a:off x="6800400" y="1523880"/>
              <a:ext cx="182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niform intensity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170400" y="1752480"/>
              <a:ext cx="244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imited number of pixe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3DE2-4858-4A3B-9643-9FA40DE4B33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983f7"/>
            </a:gs>
            <a:gs pos="100000">
              <a:srgbClr val="ccdcf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biScope”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Fluk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1523880" y="1905120"/>
            <a:ext cx="6096240" cy="3809880"/>
            <a:chOff x="1523880" y="1905120"/>
            <a:chExt cx="6096240" cy="3809880"/>
          </a:xfrm>
        </p:grpSpPr>
        <p:graphicFrame>
          <p:nvGraphicFramePr>
            <p:cNvPr id="66" name=""/>
            <p:cNvGraphicFramePr/>
            <p:nvPr/>
          </p:nvGraphicFramePr>
          <p:xfrm>
            <a:off x="1523880" y="1905120"/>
            <a:ext cx="6096240" cy="3809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23880" y="1905120"/>
                      <a:ext cx="6096240" cy="3809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8" name=""/>
            <p:cNvSpPr/>
            <p:nvPr/>
          </p:nvSpPr>
          <p:spPr>
            <a:xfrm>
              <a:off x="2514600" y="1905120"/>
              <a:ext cx="762120" cy="53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438280" y="5105520"/>
              <a:ext cx="7621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181480" y="5105520"/>
              <a:ext cx="7621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181480" y="1905120"/>
              <a:ext cx="762120" cy="53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3732840" y="525780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ctor disp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6E69-6B89-40DB-B5D4-A3DEE4E869F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983f7"/>
            </a:gs>
            <a:gs pos="100000">
              <a:srgbClr val="ccdcf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SO: connect-the-d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4419720" y="1676520"/>
            <a:ext cx="4209840" cy="4249440"/>
            <a:chOff x="4419720" y="1676520"/>
            <a:chExt cx="4209840" cy="4249440"/>
          </a:xfrm>
        </p:grpSpPr>
        <p:pic>
          <p:nvPicPr>
            <p:cNvPr id="75" name="" descr=""/>
            <p:cNvPicPr/>
            <p:nvPr/>
          </p:nvPicPr>
          <p:blipFill>
            <a:blip r:embed="rId1"/>
            <a:stretch/>
          </p:blipFill>
          <p:spPr>
            <a:xfrm>
              <a:off x="4952880" y="2286000"/>
              <a:ext cx="3676680" cy="36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4419720" y="1676520"/>
              <a:ext cx="685800" cy="990360"/>
            </a:xfrm>
            <a:custGeom>
              <a:avLst/>
              <a:gdLst/>
              <a:ahLst/>
              <a:rect l="l" t="t" r="r" b="b"/>
              <a:pathLst>
                <a:path w="392" h="384">
                  <a:moveTo>
                    <a:pt x="56" y="0"/>
                  </a:moveTo>
                  <a:cubicBezTo>
                    <a:pt x="28" y="40"/>
                    <a:pt x="0" y="80"/>
                    <a:pt x="56" y="144"/>
                  </a:cubicBezTo>
                  <a:cubicBezTo>
                    <a:pt x="112" y="208"/>
                    <a:pt x="336" y="344"/>
                    <a:pt x="392" y="384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225720" y="1805040"/>
            <a:ext cx="4269960" cy="4151160"/>
            <a:chOff x="225720" y="1805040"/>
            <a:chExt cx="4269960" cy="4151160"/>
          </a:xfrm>
        </p:grpSpPr>
        <p:pic>
          <p:nvPicPr>
            <p:cNvPr id="78" name="" descr=""/>
            <p:cNvPicPr/>
            <p:nvPr/>
          </p:nvPicPr>
          <p:blipFill>
            <a:blip r:embed="rId2"/>
            <a:stretch/>
          </p:blipFill>
          <p:spPr>
            <a:xfrm>
              <a:off x="304920" y="2286000"/>
              <a:ext cx="4190760" cy="367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225720" y="1805040"/>
              <a:ext cx="171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visual</a:t>
              </a: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alias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65A4-3184-44F5-8E4F-5A968B61303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983f7"/>
            </a:gs>
            <a:gs pos="100000">
              <a:srgbClr val="ccdcf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x/min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peak)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det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219320" y="1981080"/>
            <a:ext cx="6629400" cy="3733920"/>
            <a:chOff x="1219320" y="1981080"/>
            <a:chExt cx="6629400" cy="3733920"/>
          </a:xfrm>
        </p:grpSpPr>
        <p:pic>
          <p:nvPicPr>
            <p:cNvPr id="82" name="" descr=""/>
            <p:cNvPicPr/>
            <p:nvPr/>
          </p:nvPicPr>
          <p:blipFill>
            <a:blip r:embed="rId1"/>
            <a:stretch/>
          </p:blipFill>
          <p:spPr>
            <a:xfrm>
              <a:off x="1219320" y="1981080"/>
              <a:ext cx="6629400" cy="373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1981080" y="3816360"/>
              <a:ext cx="0" cy="368280"/>
            </a:xfrm>
            <a:prstGeom prst="line">
              <a:avLst/>
            </a:prstGeom>
            <a:ln w="12600">
              <a:solidFill>
                <a:srgbClr val="00cc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133720" y="3816360"/>
              <a:ext cx="0" cy="368280"/>
            </a:xfrm>
            <a:prstGeom prst="line">
              <a:avLst/>
            </a:prstGeom>
            <a:ln w="12600">
              <a:solidFill>
                <a:srgbClr val="00cc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286000" y="3816360"/>
              <a:ext cx="0" cy="368280"/>
            </a:xfrm>
            <a:prstGeom prst="line">
              <a:avLst/>
            </a:prstGeom>
            <a:ln w="12600">
              <a:solidFill>
                <a:srgbClr val="00cc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438280" y="3816360"/>
              <a:ext cx="0" cy="368280"/>
            </a:xfrm>
            <a:prstGeom prst="line">
              <a:avLst/>
            </a:prstGeom>
            <a:ln w="12600">
              <a:solidFill>
                <a:srgbClr val="00cc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590920" y="3816360"/>
              <a:ext cx="0" cy="368280"/>
            </a:xfrm>
            <a:prstGeom prst="line">
              <a:avLst/>
            </a:prstGeom>
            <a:ln w="12600">
              <a:solidFill>
                <a:srgbClr val="00cc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743200" y="3816360"/>
              <a:ext cx="0" cy="368280"/>
            </a:xfrm>
            <a:prstGeom prst="line">
              <a:avLst/>
            </a:prstGeom>
            <a:ln w="12600">
              <a:solidFill>
                <a:srgbClr val="00cc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895480" y="3816360"/>
              <a:ext cx="0" cy="368280"/>
            </a:xfrm>
            <a:prstGeom prst="line">
              <a:avLst/>
            </a:prstGeom>
            <a:ln w="12600">
              <a:solidFill>
                <a:srgbClr val="00cc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28800" y="3282840"/>
              <a:ext cx="0" cy="15876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200400" y="3816360"/>
              <a:ext cx="0" cy="368280"/>
            </a:xfrm>
            <a:prstGeom prst="line">
              <a:avLst/>
            </a:prstGeom>
            <a:ln w="12600">
              <a:solidFill>
                <a:srgbClr val="00cc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352680" y="3816360"/>
              <a:ext cx="0" cy="368280"/>
            </a:xfrm>
            <a:prstGeom prst="line">
              <a:avLst/>
            </a:prstGeom>
            <a:ln w="12600">
              <a:solidFill>
                <a:srgbClr val="00cc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05320" y="3822480"/>
              <a:ext cx="0" cy="355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048120" y="3816360"/>
              <a:ext cx="0" cy="368280"/>
            </a:xfrm>
            <a:prstGeom prst="line">
              <a:avLst/>
            </a:prstGeom>
            <a:ln w="12600">
              <a:solidFill>
                <a:srgbClr val="00cc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57600" y="3816360"/>
              <a:ext cx="0" cy="368280"/>
            </a:xfrm>
            <a:prstGeom prst="line">
              <a:avLst/>
            </a:prstGeom>
            <a:ln w="12600">
              <a:solidFill>
                <a:srgbClr val="00cc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09880" y="3816360"/>
              <a:ext cx="0" cy="368280"/>
            </a:xfrm>
            <a:prstGeom prst="line">
              <a:avLst/>
            </a:prstGeom>
            <a:ln w="12600">
              <a:solidFill>
                <a:srgbClr val="00cc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28800" y="3809880"/>
              <a:ext cx="0" cy="355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3273480" y="5029200"/>
            <a:ext cx="21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y decimation (1-in-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43760" y="5257800"/>
            <a:ext cx="168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… </a:t>
            </a: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minimize alia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4191120"/>
            <a:ext cx="16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Data 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F3E2-A446-4A8F-8530-930014304F3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983f7"/>
            </a:gs>
            <a:gs pos="100000">
              <a:srgbClr val="ccdcf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points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s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pix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276720" y="2590920"/>
            <a:ext cx="2857320" cy="12762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24880" y="1905120"/>
            <a:ext cx="707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x-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 of data-compression (simple proces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519840" y="3962520"/>
            <a:ext cx="8015760" cy="1923840"/>
            <a:chOff x="519840" y="3962520"/>
            <a:chExt cx="8015760" cy="1923840"/>
          </a:xfrm>
        </p:grpSpPr>
        <p:pic>
          <p:nvPicPr>
            <p:cNvPr id="105" name="" descr=""/>
            <p:cNvPicPr/>
            <p:nvPr/>
          </p:nvPicPr>
          <p:blipFill>
            <a:blip r:embed="rId2"/>
            <a:stretch/>
          </p:blipFill>
          <p:spPr>
            <a:xfrm>
              <a:off x="3276720" y="4648320"/>
              <a:ext cx="2857320" cy="123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519840" y="3962520"/>
              <a:ext cx="801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ntelligent, low-los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data-compression (statistical composition)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1720" y="4876920"/>
              <a:ext cx="19303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ps display intens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o the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ocal dens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f data poi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B917-4223-4A1D-87C8-C59C2CFB823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983f7"/>
            </a:gs>
            <a:gs pos="100000">
              <a:srgbClr val="ccdcf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uare wave / rising edge / ring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371600" y="1219320"/>
            <a:ext cx="1495440" cy="472428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114800" y="1295280"/>
            <a:ext cx="4419720" cy="4650480"/>
            <a:chOff x="4114800" y="1295280"/>
            <a:chExt cx="4419720" cy="4650480"/>
          </a:xfrm>
        </p:grpSpPr>
        <p:pic>
          <p:nvPicPr>
            <p:cNvPr id="111" name="" descr=""/>
            <p:cNvPicPr/>
            <p:nvPr/>
          </p:nvPicPr>
          <p:blipFill>
            <a:blip r:embed="rId2"/>
            <a:stretch/>
          </p:blipFill>
          <p:spPr>
            <a:xfrm>
              <a:off x="4114800" y="1676520"/>
              <a:ext cx="4419720" cy="38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557680" y="5638680"/>
              <a:ext cx="183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Histogram</a:t>
              </a:r>
              <a:r>
                <a:rPr b="1" lang="en-US" sz="14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of the jit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330520" y="1295280"/>
              <a:ext cx="205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olor-graded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persisten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914400" y="220968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056680" y="35812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59200" y="5257800"/>
            <a:ext cx="114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ighligh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A99E-1C03-493C-8C90-F80AE87013F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7T05:40:09Z</dcterms:created>
  <dc:creator>DR PAPAY</dc:creator>
  <dc:description/>
  <dc:language>en-US</dc:language>
  <cp:lastModifiedBy>DR PAPAY</cp:lastModifiedBy>
  <cp:lastPrinted>2001-10-01T07:51:57Z</cp:lastPrinted>
  <dcterms:modified xsi:type="dcterms:W3CDTF">2001-10-01T08:19:55Z</dcterms:modified>
  <cp:revision>89</cp:revision>
  <dc:subject/>
  <dc:title>Virtuális valóság - analóg érzés digitális oszcilloszkóppal</dc:title>
</cp:coreProperties>
</file>