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269-4C65-4CCC-A816-F76D6F66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19D-5C20-4569-A873-12941617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376B-F486-4FB8-91A9-72D1F0A0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BA7-E6F5-43EC-9D67-31338FB1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50D-72F1-41B1-A1AB-312CF696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359-695D-4FC5-9854-63254B70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267-FDE7-40E7-991A-4D70F233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3DF-04BD-49EE-AB05-278089E9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5CD-8F2C-4D86-94DB-4CC69235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03E-7178-4140-932A-1BDED56A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8E5-228B-426F-B3C4-5F7BBB39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57B-6426-47F1-8F8C-9F3177C8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ay@hit.bme.h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O -   gradient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A3AE-9941-4683-9A49-71133EF6968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172200"/>
            <a:ext cx="8610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ektronix - Scopes’r’U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4114800" cy="236232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800600" y="1523880"/>
            <a:ext cx="4164120" cy="1067040"/>
            <a:chOff x="4800600" y="1523880"/>
            <a:chExt cx="4164120" cy="1067040"/>
          </a:xfrm>
        </p:grpSpPr>
        <p:sp>
          <p:nvSpPr>
            <p:cNvPr id="45" name=""/>
            <p:cNvSpPr/>
            <p:nvPr/>
          </p:nvSpPr>
          <p:spPr>
            <a:xfrm>
              <a:off x="4800600" y="2286000"/>
              <a:ext cx="762120" cy="30492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164200" y="1523880"/>
              <a:ext cx="38005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staV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”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pture m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-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 1-bit-deep pixel map -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994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992240" y="3048120"/>
            <a:ext cx="6595200" cy="3004560"/>
            <a:chOff x="1992240" y="3048120"/>
            <a:chExt cx="6595200" cy="3004560"/>
          </a:xfrm>
        </p:grpSpPr>
        <p:sp>
          <p:nvSpPr>
            <p:cNvPr id="48" name=""/>
            <p:cNvSpPr/>
            <p:nvPr/>
          </p:nvSpPr>
          <p:spPr>
            <a:xfrm>
              <a:off x="1992240" y="5410080"/>
              <a:ext cx="65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PO integrates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st capture and update rat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with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ensity gra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Tek has elected not to make “DPO” a trademark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4419720" y="3048120"/>
              <a:ext cx="411480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318080" y="487692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99d"/>
                  </a:solidFill>
                  <a:latin typeface="Times New Roman"/>
                </a:rPr>
                <a:t>(3-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AFE0-4A79-4DB3-8D07-D2CB237813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2743200" cy="2190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9240" y="2362320"/>
            <a:ext cx="303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VEFORMs are fin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a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 complex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row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do less and less to expl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BEHAVIOR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7800" y="3429000"/>
            <a:ext cx="572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nchtop DSOs with Windows PC’s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gilent; Tektronix, Gou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Speed Digitizers module in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ustom DSOlike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2640" y="304920"/>
            <a:ext cx="331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SCILLOSCOPE i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a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er of vital inform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the development process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2760" y="1066680"/>
            <a:ext cx="43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anywhere’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scilloscopes plu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o the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98A-4A5C-4A6F-9D79-409B611461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Vu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ruCapture - Tektroni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038480" cy="3733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9680" y="15238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O holdoff: 8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267080" y="1523880"/>
            <a:ext cx="4572000" cy="4191120"/>
            <a:chOff x="4267080" y="1523880"/>
            <a:chExt cx="4572000" cy="419112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4800600" y="1981080"/>
              <a:ext cx="403848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802760" y="1523880"/>
              <a:ext cx="6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 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67080" y="1600200"/>
              <a:ext cx="457200" cy="38088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0" y="0"/>
                  </a:moveTo>
                  <a:cubicBezTo>
                    <a:pt x="24" y="76"/>
                    <a:pt x="48" y="152"/>
                    <a:pt x="96" y="192"/>
                  </a:cubicBezTo>
                  <a:cubicBezTo>
                    <a:pt x="144" y="232"/>
                    <a:pt x="256" y="232"/>
                    <a:pt x="288" y="24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5DC-714D-406D-B0F9-E145C27532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ektroni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4114800" cy="2361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38280" y="2666880"/>
            <a:ext cx="411480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343400" y="3581280"/>
            <a:ext cx="4114800" cy="23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B0E-FC1C-4C37-8239-DA7E40B938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ektroni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4648320" cy="373392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533880" y="2895480"/>
            <a:ext cx="2247480" cy="1130400"/>
            <a:chOff x="533880" y="2895480"/>
            <a:chExt cx="2247480" cy="1130400"/>
          </a:xfrm>
        </p:grpSpPr>
        <p:sp>
          <p:nvSpPr>
            <p:cNvPr id="65" name=""/>
            <p:cNvSpPr/>
            <p:nvPr/>
          </p:nvSpPr>
          <p:spPr>
            <a:xfrm>
              <a:off x="1981440" y="2895480"/>
              <a:ext cx="799920" cy="1067040"/>
            </a:xfrm>
            <a:custGeom>
              <a:avLst/>
              <a:gdLst/>
              <a:ahLst/>
              <a:rect l="l" t="t" r="r" b="b"/>
              <a:pathLst>
                <a:path w="504" h="672">
                  <a:moveTo>
                    <a:pt x="360" y="672"/>
                  </a:moveTo>
                  <a:cubicBezTo>
                    <a:pt x="180" y="656"/>
                    <a:pt x="0" y="640"/>
                    <a:pt x="24" y="528"/>
                  </a:cubicBezTo>
                  <a:cubicBezTo>
                    <a:pt x="48" y="416"/>
                    <a:pt x="424" y="88"/>
                    <a:pt x="504" y="0"/>
                  </a:cubicBezTo>
                </a:path>
              </a:pathLst>
            </a:custGeom>
            <a:noFill/>
            <a:ln w="57240">
              <a:solidFill>
                <a:srgbClr val="4983f7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880" y="3200400"/>
              <a:ext cx="150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983f7"/>
                  </a:solidFill>
                  <a:latin typeface="Times New Roman"/>
                </a:rPr>
                <a:t>hist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983f7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32080" y="4419720"/>
            <a:ext cx="2287440" cy="901800"/>
            <a:chOff x="532080" y="4419720"/>
            <a:chExt cx="2287440" cy="901800"/>
          </a:xfrm>
        </p:grpSpPr>
        <p:sp>
          <p:nvSpPr>
            <p:cNvPr id="68" name=""/>
            <p:cNvSpPr/>
            <p:nvPr/>
          </p:nvSpPr>
          <p:spPr>
            <a:xfrm flipV="1">
              <a:off x="1905120" y="4419720"/>
              <a:ext cx="914400" cy="457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2080" y="4496040"/>
              <a:ext cx="159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i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9569-017A-4444-AC06-25DF62857D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ektroni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09480" y="2057400"/>
            <a:ext cx="4035600" cy="3817440"/>
            <a:chOff x="609480" y="2057400"/>
            <a:chExt cx="4035600" cy="381744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609480" y="2057400"/>
              <a:ext cx="3886200" cy="29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01640" y="5105520"/>
              <a:ext cx="39434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al-time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ensity gradin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in graysca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ke an 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568760" y="2057400"/>
            <a:ext cx="4432680" cy="3817440"/>
            <a:chOff x="4568760" y="2057400"/>
            <a:chExt cx="4432680" cy="381744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4800600" y="2057400"/>
              <a:ext cx="38862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568760" y="5105520"/>
              <a:ext cx="443268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lor gradin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improves contras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tween frequencies of occurrence boundar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A85-0DD7-456A-8B6D-B353AB6EC5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ektroni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733920" cy="2895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2440" y="4952880"/>
            <a:ext cx="339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ion effect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supply control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800600" y="1981080"/>
            <a:ext cx="3657240" cy="3515040"/>
            <a:chOff x="4800600" y="1981080"/>
            <a:chExt cx="3657240" cy="3515040"/>
          </a:xfrm>
        </p:grpSpPr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4800600" y="1981080"/>
              <a:ext cx="3657240" cy="28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461920" y="5036400"/>
              <a:ext cx="234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ulated carr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621-2750-4D50-A141-E3237CCD9F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ektroni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1752480"/>
            <a:ext cx="234324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veAle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offshoot of D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fo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omaly det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erts you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wavefo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deviates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normal" inpu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DS 3000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71500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44D-5891-4D77-9929-70AE33B358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ektroni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11160" y="1752480"/>
            <a:ext cx="261756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mbination of DP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form throughput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ware assisted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ing result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through test sp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sk tes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single and multi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nel devi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DS 3000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S3TMT Modu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7680" y="1600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992A-DE79-4483-9B7E-4CD437708E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P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ektroni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486400" cy="3200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96240" y="4876920"/>
            <a:ext cx="59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phosphor (3-D database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 be expor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your P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51800" y="5381640"/>
            <a:ext cx="4653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3-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our p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ives you an instant view of the dat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t events are dramatically emphasized by height and color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D09-185D-4FE7-AB7C-6B588F9EB8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05:40:09Z</dcterms:created>
  <dc:creator>DR PAPAY</dc:creator>
  <dc:description/>
  <dc:language>en-US</dc:language>
  <cp:lastModifiedBy>DR PAPAY</cp:lastModifiedBy>
  <cp:lastPrinted>2001-10-01T07:51:57Z</cp:lastPrinted>
  <dcterms:modified xsi:type="dcterms:W3CDTF">2001-10-01T08:21:02Z</dcterms:modified>
  <cp:revision>89</cp:revision>
  <dc:subject/>
  <dc:title>Virtuális valóság - analóg érzés digitális oszcilloszkóppal</dc:title>
</cp:coreProperties>
</file>