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37F48D-5009-4B7D-8F33-6EB7AC52F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  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mérés</a:t>
            </a: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gyakorlati,   instrumentá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(eszközt használó)  mûvelet;  a lény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kvantitatív</a:t>
            </a: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tulajdonságok kísérleti meg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ismerését segí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Az  interaktív  </a:t>
            </a: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jelalak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  mérés  alapvet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vizsgálati módszer, és  ennek eszköze 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oszcilloszkóp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A “három nagy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http://www.</a:t>
            </a:r>
            <a:r>
              <a:rPr b="1" lang="en-US" sz="2000" spc="-1" strike="noStrike">
                <a:solidFill>
                  <a:srgbClr val="063de8"/>
                </a:solidFill>
                <a:latin typeface="Palatino"/>
                <a:ea typeface="Palatino"/>
              </a:rPr>
              <a:t>tek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http://www.</a:t>
            </a:r>
            <a:r>
              <a:rPr b="1" lang="en-US" sz="2000" spc="-1" strike="noStrike">
                <a:solidFill>
                  <a:srgbClr val="063de8"/>
                </a:solidFill>
                <a:latin typeface="Palatino"/>
                <a:ea typeface="Palatino"/>
              </a:rPr>
              <a:t>hp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http://www.</a:t>
            </a:r>
            <a:r>
              <a:rPr b="1" lang="en-US" sz="2000" spc="-1" strike="noStrike">
                <a:solidFill>
                  <a:srgbClr val="063de8"/>
                </a:solidFill>
                <a:latin typeface="Palatino"/>
                <a:ea typeface="Palatino"/>
              </a:rPr>
              <a:t>lecroy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400" y="6275520"/>
            <a:ext cx="905004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905520" y="6364440"/>
            <a:ext cx="1895400" cy="6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DSO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       </a:t>
            </a:r>
            <a:fld id="{A0828B4A-D9E4-4C86-ABD9-1467922D487D}" type="slidenum"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22200" y="6416640"/>
            <a:ext cx="190188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papay @ hit.bme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1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1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6320" y="787320"/>
            <a:ext cx="4762440" cy="3328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976320" y="1805040"/>
            <a:ext cx="69548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7200" spc="-1" strike="noStrike">
                <a:solidFill>
                  <a:srgbClr val="fafd00"/>
                </a:solidFill>
                <a:latin typeface="Palatino"/>
                <a:ea typeface="Palatino"/>
              </a:rPr>
              <a:t>Digitáli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9600" spc="-1" strike="noStrike">
                <a:solidFill>
                  <a:srgbClr val="fafd00"/>
                </a:solidFill>
                <a:latin typeface="Palatino"/>
                <a:ea typeface="Palatino"/>
              </a:rPr>
              <a:t>Oszcilloszkóp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74760" y="4573440"/>
            <a:ext cx="6435720" cy="9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Digitális  ablak  az  analóg  világr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89080" y="252360"/>
            <a:ext cx="7167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ART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 alap_struktú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14400" y="1609560"/>
            <a:ext cx="8082000" cy="4300560"/>
            <a:chOff x="914400" y="1609560"/>
            <a:chExt cx="8082000" cy="430056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914400" y="1609560"/>
              <a:ext cx="8082000" cy="43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004760" y="1654200"/>
              <a:ext cx="7888320" cy="419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 txBox="1"/>
          <p:nvPr/>
        </p:nvSpPr>
        <p:spPr>
          <a:xfrm>
            <a:off x="1108080" y="1182600"/>
            <a:ext cx="1863720" cy="417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repetitív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 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183360" y="1181160"/>
            <a:ext cx="1641600" cy="74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nyomv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29040" y="5219640"/>
            <a:ext cx="2438640" cy="533880"/>
          </a:xfrm>
          <a:custGeom>
            <a:avLst/>
            <a:gdLst/>
            <a:ahLst/>
            <a:rect l="0" t="0" r="r" b="b"/>
            <a:pathLst>
              <a:path w="6774" h="1483">
                <a:moveTo>
                  <a:pt x="6774" y="1335"/>
                </a:moveTo>
                <a:lnTo>
                  <a:pt x="6774" y="296"/>
                </a:lnTo>
                <a:lnTo>
                  <a:pt x="6097" y="148"/>
                </a:lnTo>
                <a:lnTo>
                  <a:pt x="5419" y="148"/>
                </a:lnTo>
                <a:lnTo>
                  <a:pt x="6097" y="0"/>
                </a:lnTo>
                <a:lnTo>
                  <a:pt x="4742" y="148"/>
                </a:lnTo>
                <a:lnTo>
                  <a:pt x="677" y="148"/>
                </a:lnTo>
                <a:lnTo>
                  <a:pt x="0" y="296"/>
                </a:lnTo>
                <a:lnTo>
                  <a:pt x="0" y="1335"/>
                </a:lnTo>
                <a:lnTo>
                  <a:pt x="677" y="1483"/>
                </a:lnTo>
                <a:lnTo>
                  <a:pt x="6097" y="1483"/>
                </a:lnTo>
                <a:lnTo>
                  <a:pt x="6774" y="133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166920" y="5329080"/>
            <a:ext cx="22384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repetitív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ind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68560" y="3409920"/>
            <a:ext cx="1465560" cy="533880"/>
          </a:xfrm>
          <a:custGeom>
            <a:avLst/>
            <a:gdLst/>
            <a:ahLst/>
            <a:rect l="0" t="0" r="r" b="b"/>
            <a:pathLst>
              <a:path w="4071" h="1483">
                <a:moveTo>
                  <a:pt x="4071" y="1335"/>
                </a:moveTo>
                <a:lnTo>
                  <a:pt x="4071" y="296"/>
                </a:lnTo>
                <a:lnTo>
                  <a:pt x="3664" y="148"/>
                </a:lnTo>
                <a:lnTo>
                  <a:pt x="3257" y="148"/>
                </a:lnTo>
                <a:lnTo>
                  <a:pt x="3664" y="0"/>
                </a:lnTo>
                <a:lnTo>
                  <a:pt x="2850" y="148"/>
                </a:lnTo>
                <a:lnTo>
                  <a:pt x="407" y="148"/>
                </a:lnTo>
                <a:lnTo>
                  <a:pt x="0" y="296"/>
                </a:lnTo>
                <a:lnTo>
                  <a:pt x="0" y="1335"/>
                </a:lnTo>
                <a:lnTo>
                  <a:pt x="407" y="1483"/>
                </a:lnTo>
                <a:lnTo>
                  <a:pt x="3664" y="1483"/>
                </a:lnTo>
                <a:lnTo>
                  <a:pt x="4071" y="133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67200" y="3500280"/>
            <a:ext cx="12654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soft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6320" y="5581800"/>
            <a:ext cx="7952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2440" y="236520"/>
            <a:ext cx="9048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DSO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alap_struktú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14400" y="1622520"/>
            <a:ext cx="8128080" cy="4357800"/>
            <a:chOff x="914400" y="1622520"/>
            <a:chExt cx="8128080" cy="435780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914400" y="1622520"/>
              <a:ext cx="8128080" cy="43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004760" y="1666800"/>
              <a:ext cx="7934400" cy="42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"/>
          <p:cNvSpPr txBox="1"/>
          <p:nvPr/>
        </p:nvSpPr>
        <p:spPr>
          <a:xfrm>
            <a:off x="1165320" y="1257480"/>
            <a:ext cx="503280" cy="417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170240" y="1297080"/>
            <a:ext cx="1890720" cy="11235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hullám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(idõrek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791400" y="895320"/>
            <a:ext cx="1806480" cy="1123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rekonstruá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nyomv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13160" y="5392800"/>
            <a:ext cx="2762640" cy="457560"/>
          </a:xfrm>
          <a:custGeom>
            <a:avLst/>
            <a:gdLst/>
            <a:ahLst/>
            <a:rect l="0" t="0" r="r" b="b"/>
            <a:pathLst>
              <a:path w="7674" h="1271">
                <a:moveTo>
                  <a:pt x="7674" y="1143"/>
                </a:moveTo>
                <a:lnTo>
                  <a:pt x="7674" y="254"/>
                </a:lnTo>
                <a:lnTo>
                  <a:pt x="6907" y="127"/>
                </a:lnTo>
                <a:lnTo>
                  <a:pt x="6140" y="127"/>
                </a:lnTo>
                <a:lnTo>
                  <a:pt x="6907" y="0"/>
                </a:lnTo>
                <a:lnTo>
                  <a:pt x="5372" y="127"/>
                </a:lnTo>
                <a:lnTo>
                  <a:pt x="767" y="127"/>
                </a:lnTo>
                <a:lnTo>
                  <a:pt x="0" y="254"/>
                </a:lnTo>
                <a:lnTo>
                  <a:pt x="0" y="1143"/>
                </a:lnTo>
                <a:lnTo>
                  <a:pt x="767" y="1271"/>
                </a:lnTo>
                <a:lnTo>
                  <a:pt x="6907" y="1271"/>
                </a:lnTo>
                <a:lnTo>
                  <a:pt x="7674" y="1143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492280" y="5467320"/>
            <a:ext cx="27273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rekord-felvétel 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s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91200" y="5219640"/>
            <a:ext cx="1333800" cy="648000"/>
          </a:xfrm>
          <a:custGeom>
            <a:avLst/>
            <a:gdLst/>
            <a:ahLst/>
            <a:rect l="0" t="0" r="r" b="b"/>
            <a:pathLst>
              <a:path w="3705" h="1800">
                <a:moveTo>
                  <a:pt x="3334" y="0"/>
                </a:moveTo>
                <a:lnTo>
                  <a:pt x="740" y="0"/>
                </a:lnTo>
                <a:lnTo>
                  <a:pt x="370" y="179"/>
                </a:lnTo>
                <a:lnTo>
                  <a:pt x="370" y="359"/>
                </a:lnTo>
                <a:lnTo>
                  <a:pt x="0" y="179"/>
                </a:lnTo>
                <a:lnTo>
                  <a:pt x="370" y="539"/>
                </a:lnTo>
                <a:lnTo>
                  <a:pt x="370" y="1620"/>
                </a:lnTo>
                <a:lnTo>
                  <a:pt x="740" y="1800"/>
                </a:lnTo>
                <a:lnTo>
                  <a:pt x="3334" y="1800"/>
                </a:lnTo>
                <a:lnTo>
                  <a:pt x="3705" y="1620"/>
                </a:lnTo>
                <a:lnTo>
                  <a:pt x="3705" y="179"/>
                </a:lnTo>
                <a:lnTo>
                  <a:pt x="3334" y="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243920" y="5176800"/>
            <a:ext cx="1146240" cy="11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po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idõal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07320" y="2386080"/>
            <a:ext cx="568800" cy="983160"/>
          </a:xfrm>
          <a:custGeom>
            <a:avLst/>
            <a:gdLst/>
            <a:ahLst/>
            <a:rect l="0" t="0" r="r" b="b"/>
            <a:pathLst>
              <a:path w="1580" h="2731">
                <a:moveTo>
                  <a:pt x="0" y="272"/>
                </a:moveTo>
                <a:lnTo>
                  <a:pt x="0" y="2185"/>
                </a:lnTo>
                <a:lnTo>
                  <a:pt x="157" y="2458"/>
                </a:lnTo>
                <a:lnTo>
                  <a:pt x="315" y="2458"/>
                </a:lnTo>
                <a:lnTo>
                  <a:pt x="157" y="2731"/>
                </a:lnTo>
                <a:lnTo>
                  <a:pt x="474" y="2458"/>
                </a:lnTo>
                <a:lnTo>
                  <a:pt x="1422" y="2458"/>
                </a:lnTo>
                <a:lnTo>
                  <a:pt x="1580" y="2185"/>
                </a:lnTo>
                <a:lnTo>
                  <a:pt x="1580" y="272"/>
                </a:lnTo>
                <a:lnTo>
                  <a:pt x="1422" y="0"/>
                </a:lnTo>
                <a:lnTo>
                  <a:pt x="157" y="0"/>
                </a:lnTo>
                <a:lnTo>
                  <a:pt x="0" y="272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81760" y="2719440"/>
            <a:ext cx="75708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D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42160" y="3286080"/>
            <a:ext cx="452880" cy="1622880"/>
          </a:xfrm>
          <a:custGeom>
            <a:avLst/>
            <a:gdLst/>
            <a:ahLst/>
            <a:rect l="0" t="0" r="r" b="b"/>
            <a:pathLst>
              <a:path w="1258" h="4508">
                <a:moveTo>
                  <a:pt x="0" y="450"/>
                </a:moveTo>
                <a:lnTo>
                  <a:pt x="0" y="3607"/>
                </a:lnTo>
                <a:lnTo>
                  <a:pt x="125" y="4058"/>
                </a:lnTo>
                <a:lnTo>
                  <a:pt x="251" y="4058"/>
                </a:lnTo>
                <a:lnTo>
                  <a:pt x="125" y="4508"/>
                </a:lnTo>
                <a:lnTo>
                  <a:pt x="378" y="4058"/>
                </a:lnTo>
                <a:lnTo>
                  <a:pt x="1133" y="4058"/>
                </a:lnTo>
                <a:lnTo>
                  <a:pt x="1258" y="3607"/>
                </a:lnTo>
                <a:lnTo>
                  <a:pt x="1258" y="450"/>
                </a:lnTo>
                <a:lnTo>
                  <a:pt x="1133" y="0"/>
                </a:lnTo>
                <a:lnTo>
                  <a:pt x="125" y="0"/>
                </a:lnTo>
                <a:lnTo>
                  <a:pt x="0" y="45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15280" y="3900600"/>
            <a:ext cx="14176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hard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98640" y="5597640"/>
            <a:ext cx="7952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2320" y="363600"/>
            <a:ext cx="5600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DSO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11320" y="1805040"/>
            <a:ext cx="674388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gyenlete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ta-gyakoriságú,     </a:t>
            </a:r>
            <a:r>
              <a:rPr b="1" i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folyamato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gitalizálá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irkulári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atgyûjtõ memó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rap-aroun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Quisition MEMory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IGgerrel  pozícionált  ( szabályozható késleltetést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övet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89000" y="5014800"/>
            <a:ext cx="539604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több csatorna:  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párhuzamos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digitalizá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305080" y="5467320"/>
            <a:ext cx="5915160" cy="5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(... nincs  </a:t>
            </a:r>
            <a:r>
              <a:rPr b="1" i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CHOPped 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vagy  </a:t>
            </a:r>
            <a:r>
              <a:rPr b="1" i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ALTernate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,  mint “ART” eseté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76400" y="1398600"/>
            <a:ext cx="437184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valós-idejû,  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normál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mintavéte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1800" y="1601640"/>
            <a:ext cx="8094600" cy="4299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858960" y="477720"/>
            <a:ext cx="7940520" cy="56196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DSO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pre-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(és post-)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278160" y="4957920"/>
            <a:ext cx="0" cy="52524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543880" y="2871720"/>
            <a:ext cx="4680" cy="47304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59080" y="5246640"/>
            <a:ext cx="2835360" cy="5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ACQ  stop </a:t>
            </a: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(... 1 Div </a:t>
            </a:r>
            <a:r>
              <a:rPr b="1" i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delay</a:t>
            </a: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79840" y="1720800"/>
            <a:ext cx="2949480" cy="5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ACQ  stop </a:t>
            </a: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(... 10 Div </a:t>
            </a:r>
            <a:r>
              <a:rPr b="1" i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delay</a:t>
            </a: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261200" y="2738520"/>
            <a:ext cx="13240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ACQ  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66920" y="5014800"/>
            <a:ext cx="0" cy="453960"/>
          </a:xfrm>
          <a:prstGeom prst="line">
            <a:avLst/>
          </a:prstGeom>
          <a:ln w="12600">
            <a:solidFill>
              <a:srgbClr val="081d58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84680" y="2095560"/>
            <a:ext cx="0" cy="57132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934400" y="5562720"/>
            <a:ext cx="6937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P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51000" y="2811600"/>
            <a:ext cx="91116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Palatino"/>
                <a:ea typeface="Palatino"/>
              </a:rPr>
              <a:t>“</a:t>
            </a:r>
            <a:r>
              <a:rPr b="1" i="1" lang="en-US" sz="1800" spc="-1" strike="noStrike">
                <a:solidFill>
                  <a:srgbClr val="081d58"/>
                </a:solidFill>
                <a:latin typeface="Palatino"/>
                <a:ea typeface="Palatino"/>
              </a:rPr>
              <a:t>ART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Palatino"/>
                <a:ea typeface="Palatino"/>
              </a:rPr>
              <a:t>mod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270480" y="3014640"/>
            <a:ext cx="2216160" cy="5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(... 24 + 10 Div </a:t>
            </a:r>
            <a:r>
              <a:rPr b="1" i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delay</a:t>
            </a: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98600" y="5640480"/>
            <a:ext cx="74448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( 90%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668600"/>
            <a:ext cx="743040" cy="320760"/>
          </a:xfrm>
          <a:prstGeom prst="ellipse">
            <a:avLst/>
          </a:prstGeom>
          <a:noFill/>
          <a:ln w="25560">
            <a:solidFill>
              <a:srgbClr val="fc0128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2320" y="363600"/>
            <a:ext cx="8594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leg”fontosabb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épesség: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1720" y="2297160"/>
            <a:ext cx="817236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YSIWY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What_You_See  Is  What_You_Triggered_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gyományos  és  új  form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ge 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ul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(  Slew-Ra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lay (time, event)                 Glitch,  Widt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“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hold-of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Time-out,  Run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V                                            Setup/Hold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og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( pattern,  stat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36800" y="1612800"/>
            <a:ext cx="7959600" cy="4344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V="1">
            <a:off x="6515280" y="2793960"/>
            <a:ext cx="0" cy="214956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30320" y="433440"/>
            <a:ext cx="7804080" cy="56196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rigger  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old-off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91120" y="5224320"/>
            <a:ext cx="1679400" cy="422280"/>
          </a:xfrm>
          <a:prstGeom prst="ellipse">
            <a:avLst/>
          </a:prstGeom>
          <a:noFill/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120680" y="5586480"/>
            <a:ext cx="7952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7840" y="2274840"/>
            <a:ext cx="422280" cy="549360"/>
          </a:xfrm>
          <a:prstGeom prst="ellipse">
            <a:avLst/>
          </a:prstGeom>
          <a:noFill/>
          <a:ln w="25560">
            <a:solidFill>
              <a:srgbClr val="fc0128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2313000"/>
            <a:ext cx="736560" cy="549360"/>
          </a:xfrm>
          <a:prstGeom prst="ellipse">
            <a:avLst/>
          </a:prstGeom>
          <a:noFill/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49800" y="3176640"/>
            <a:ext cx="378000" cy="0"/>
          </a:xfrm>
          <a:prstGeom prst="line">
            <a:avLst/>
          </a:prstGeom>
          <a:ln w="1522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9800" y="5075280"/>
            <a:ext cx="1290600" cy="1440"/>
          </a:xfrm>
          <a:prstGeom prst="line">
            <a:avLst/>
          </a:prstGeom>
          <a:ln w="1522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19520" bIns="-11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584680" y="2751120"/>
            <a:ext cx="22320" cy="374760"/>
          </a:xfrm>
          <a:prstGeom prst="line">
            <a:avLst/>
          </a:prstGeom>
          <a:ln w="12600">
            <a:solidFill>
              <a:srgbClr val="fc0128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49920" y="3338640"/>
            <a:ext cx="1644480" cy="378000"/>
          </a:xfrm>
          <a:prstGeom prst="ellipse">
            <a:avLst/>
          </a:prstGeom>
          <a:noFill/>
          <a:ln w="25560">
            <a:solidFill>
              <a:srgbClr val="fc0128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9440" y="3635280"/>
            <a:ext cx="365040" cy="10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67120" y="5440320"/>
            <a:ext cx="37620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882880" y="3178080"/>
            <a:ext cx="15177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eltéríté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664240" y="3022560"/>
            <a:ext cx="136512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(visszatéríté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423200" y="3348000"/>
            <a:ext cx="11286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tiltá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18960" y="396720"/>
            <a:ext cx="789768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rigger-gyakoriság  és  “sweep”-id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65200" y="1192320"/>
            <a:ext cx="79628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yakori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ff00"/>
                </a:solidFill>
                <a:uFillTx/>
                <a:latin typeface="Arial"/>
                <a:ea typeface="Arial"/>
              </a:rPr>
              <a:t>indítá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 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iszonylag gyo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ff00"/>
                </a:solidFill>
                <a:uFillTx/>
                <a:latin typeface="Arial"/>
                <a:ea typeface="Arial"/>
              </a:rPr>
              <a:t>swee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gy”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l(nyomvonal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issítési-gyakorisá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itka 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trigg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 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ss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idõala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s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h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 “flikker” mentes , 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egyenletes fényerejû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 nyomvonal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özepes”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yomvonal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issítési-gyakorisá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 növelhetõ speciális módszerrel [ “InstaVu” ]  ...  mint ART 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230480" y="3193920"/>
            <a:ext cx="6730920" cy="223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320" y="363600"/>
            <a:ext cx="904572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Frissítési-gyakoriság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(display, trace  </a:t>
            </a:r>
            <a:r>
              <a:rPr b="1" lang="en-US" sz="3600" spc="-1" strike="noStrike">
                <a:solidFill>
                  <a:srgbClr val="00ff00"/>
                </a:solidFill>
                <a:latin typeface="Palatino"/>
                <a:ea typeface="Palatino"/>
              </a:rPr>
              <a:t>Update Rate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44600" y="1782720"/>
            <a:ext cx="3784680" cy="3981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835520" y="1782720"/>
            <a:ext cx="3840120" cy="3933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1143000" y="2755800"/>
            <a:ext cx="992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81d58"/>
                </a:solidFill>
                <a:latin typeface="Palatino"/>
                <a:ea typeface="Palatino"/>
              </a:rPr>
              <a:t>“</a:t>
            </a:r>
            <a:r>
              <a:rPr b="1" i="1" lang="en-US" sz="2000" spc="-1" strike="noStrike">
                <a:solidFill>
                  <a:srgbClr val="081d58"/>
                </a:solidFill>
                <a:latin typeface="Palatino"/>
                <a:ea typeface="Palatino"/>
              </a:rPr>
              <a:t>ART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7585200" y="2062080"/>
            <a:ext cx="992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81d58"/>
                </a:solidFill>
                <a:latin typeface="Palatino"/>
                <a:ea typeface="Palatino"/>
              </a:rPr>
              <a:t>“</a:t>
            </a:r>
            <a:r>
              <a:rPr b="1" i="1" lang="en-US" sz="2000" spc="-1" strike="noStrike">
                <a:solidFill>
                  <a:srgbClr val="081d58"/>
                </a:solidFill>
                <a:latin typeface="Palatino"/>
                <a:ea typeface="Palatino"/>
              </a:rPr>
              <a:t>ART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023240" y="3497400"/>
            <a:ext cx="8082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D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95400" y="2376360"/>
            <a:ext cx="3006720" cy="2298600"/>
          </a:xfrm>
          <a:prstGeom prst="rect">
            <a:avLst/>
          </a:prstGeom>
          <a:noFill/>
          <a:ln w="25560">
            <a:solidFill>
              <a:srgbClr val="fc0128"/>
            </a:solidFill>
            <a:custDash>
              <a:ds d="49296" sp="49296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58680" y="1819440"/>
            <a:ext cx="8082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D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468440" y="2054160"/>
            <a:ext cx="378000" cy="26028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149720" y="5597640"/>
            <a:ext cx="73980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c) 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65360" y="3094200"/>
            <a:ext cx="350640" cy="166680"/>
          </a:xfrm>
          <a:prstGeom prst="line">
            <a:avLst/>
          </a:prstGeom>
          <a:ln w="12600">
            <a:solidFill>
              <a:srgbClr val="081d5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52440" y="363600"/>
            <a:ext cx="549900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petitív jel  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tabilitá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19120" y="1098720"/>
            <a:ext cx="817236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gfigyelhet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adáci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 nyomvonal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tenzitás-változá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1) elveszet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form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konstans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yomvonal intenzitás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2)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érhetõ(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égtele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utánvilágítás (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Infinite Persisten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b)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statisztikai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atbáz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változ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tenzitású utánvilágítá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képpont  relatív-gyakorisággal  arányos  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színek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94000" y="2612880"/>
            <a:ext cx="6375240" cy="97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857920" y="446040"/>
            <a:ext cx="2162160" cy="112356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(amplitúdó zaj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idõ-jitter..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2320" y="363600"/>
            <a:ext cx="904572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éppont gyakoriság  (“pixel aktivitás”)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datbáz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622520" y="1836720"/>
            <a:ext cx="5419800" cy="4043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1555920" y="5584680"/>
            <a:ext cx="73980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156280" y="3597120"/>
            <a:ext cx="59832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D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1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320" y="363600"/>
            <a:ext cx="9045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93680" y="762120"/>
            <a:ext cx="7135920" cy="67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A  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mérés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gyakorlati,</a:t>
            </a:r>
            <a:r>
              <a:rPr b="1" lang="en-US" sz="3200" spc="-1" strike="noStrike">
                <a:solidFill>
                  <a:srgbClr val="00279f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63de8"/>
                </a:solidFill>
                <a:latin typeface="H-Times New Roman"/>
                <a:ea typeface="H-Times New Roman"/>
              </a:rPr>
              <a:t>instrumentális 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(eszközt használó!)  mûvelet;  a  lényeges  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kvantitatív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tulajdonságok  kísérleti megismerését segí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Alapvetõ  vizsgálati  eljárás  a   “gerjesztés - válasz(jelalak) </a:t>
            </a:r>
            <a:r>
              <a:rPr b="1" lang="en-US" sz="3200" spc="-1" strike="noStrike">
                <a:solidFill>
                  <a:srgbClr val="00ff00"/>
                </a:solidFill>
                <a:latin typeface="H-Times New Roman"/>
                <a:ea typeface="H-Times New Roman"/>
              </a:rPr>
              <a:t>elemzés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”. Ennek alapeszköze az </a:t>
            </a:r>
            <a:r>
              <a:rPr b="1" lang="en-US" sz="3200" spc="-1" strike="noStrike">
                <a:solidFill>
                  <a:srgbClr val="063de8"/>
                </a:solidFill>
                <a:latin typeface="H-Times New Roman"/>
                <a:ea typeface="H-Times New Roman"/>
              </a:rPr>
              <a:t>oszcilloszkóp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,  amely elsõsorban az “</a:t>
            </a:r>
            <a:r>
              <a:rPr b="1" lang="en-US" sz="3200" spc="-1" strike="noStrike">
                <a:solidFill>
                  <a:srgbClr val="00ff00"/>
                </a:solidFill>
                <a:latin typeface="H-Times New Roman"/>
                <a:ea typeface="H-Times New Roman"/>
              </a:rPr>
              <a:t>emberi</a:t>
            </a:r>
            <a:r>
              <a:rPr b="1" lang="en-US" sz="3200" spc="-1" strike="noStrike">
                <a:solidFill>
                  <a:srgbClr val="00ff00"/>
                </a:solidFill>
                <a:latin typeface="H-Times New Roman"/>
                <a:ea typeface="H-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H-Times New Roman"/>
                <a:ea typeface="H-Times New Roman"/>
              </a:rPr>
              <a:t>tényezõ”         (a látás!)  felhasználására épí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09760" y="1457280"/>
            <a:ext cx="8588520" cy="45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sztásvonal számlálás”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manuál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forrás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: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 képernyõn megfigyelhetõ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yomv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gy gomb-nyomás”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utomatikus: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SP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,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S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forrás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: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memóriában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tárolt  hullámforma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umerikus ada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DS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ital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nal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AS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: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plication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cific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asur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3920" y="2881440"/>
            <a:ext cx="7872480" cy="936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0680" y="316080"/>
            <a:ext cx="668340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Miben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különbözik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a “mérés”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52360" y="236520"/>
            <a:ext cx="8609040" cy="5629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0440" y="2809800"/>
            <a:ext cx="912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Palatino"/>
                <a:ea typeface="Palatino"/>
              </a:rPr>
              <a:t>D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21160" y="2743200"/>
            <a:ext cx="971640" cy="1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133960" y="2571840"/>
            <a:ext cx="127332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fc0128"/>
                </a:solidFill>
                <a:latin typeface="Palatino"/>
                <a:ea typeface="Palatino"/>
              </a:rPr>
              <a:t>DSP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100480" y="1143000"/>
            <a:ext cx="2847960" cy="9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Digitiz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( ACQuisition; Capture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259240" y="4205160"/>
            <a:ext cx="295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236760" y="3914640"/>
            <a:ext cx="1044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IEE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194, 181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654960" y="3919680"/>
            <a:ext cx="91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i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FFT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464080" y="2274840"/>
            <a:ext cx="210024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81d58"/>
                </a:solidFill>
                <a:latin typeface="Arial"/>
                <a:ea typeface="Arial"/>
              </a:rPr>
              <a:t>[ WAVEFORM,  (TIME)RECORD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471920" y="3892680"/>
            <a:ext cx="11397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Histogram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17400" y="401760"/>
            <a:ext cx="1716120" cy="9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Palatino"/>
                <a:ea typeface="Palatino"/>
              </a:rPr>
              <a:t>Analíz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018040" y="1131840"/>
            <a:ext cx="3327480" cy="23097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641520" y="316080"/>
            <a:ext cx="7680240" cy="56196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Felbontás  “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ekvivalencia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14440" y="1281240"/>
            <a:ext cx="5954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mplitúdó: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8/(1/30) =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24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õ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/(1/30) =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300 : 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mplitúdó: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 bi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 25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õ: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 bit = 5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0.5 Ksz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isplay ]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55800" y="3452760"/>
            <a:ext cx="52340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796000" y="3463920"/>
            <a:ext cx="2549520" cy="2138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936720" y="3049560"/>
            <a:ext cx="388944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 u="sng">
                <a:solidFill>
                  <a:srgbClr val="fc0128"/>
                </a:solidFill>
                <a:uFillTx/>
                <a:latin typeface="Palatino"/>
                <a:ea typeface="Palatino"/>
              </a:rPr>
              <a:t>Korlát</a:t>
            </a: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:  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zaj  és  (idõ)eltérítés nemlineari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510160" y="1216080"/>
            <a:ext cx="80316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“</a:t>
            </a: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V/Div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05720" y="2911320"/>
            <a:ext cx="74448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“</a:t>
            </a: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s/Div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31760" y="5657760"/>
            <a:ext cx="702792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 u="sng">
                <a:solidFill>
                  <a:srgbClr val="00ff00"/>
                </a:solidFill>
                <a:uFillTx/>
                <a:latin typeface="Palatino"/>
                <a:ea typeface="Palatino"/>
              </a:rPr>
              <a:t>Korlát</a:t>
            </a:r>
            <a:r>
              <a:rPr b="1" lang="en-US" sz="1600" spc="-1" strike="noStrike">
                <a:solidFill>
                  <a:srgbClr val="00ff00"/>
                </a:solidFill>
                <a:latin typeface="Palatino"/>
                <a:ea typeface="Palatino"/>
              </a:rPr>
              <a:t>:  </a:t>
            </a: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effektív bitszám  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= zaj)  és  </a:t>
            </a: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rekord-hossz  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&gt; display horiz. pixel-szá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25360" y="277920"/>
            <a:ext cx="8643960" cy="5533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922320" y="334800"/>
            <a:ext cx="912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Palatino"/>
                <a:ea typeface="Palatino"/>
              </a:rPr>
              <a:t>D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640" y="1447920"/>
            <a:ext cx="2628720" cy="609480"/>
          </a:xfrm>
          <a:prstGeom prst="ellipse">
            <a:avLst/>
          </a:prstGeom>
          <a:noFill/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00480" y="4819680"/>
            <a:ext cx="2552760" cy="609480"/>
          </a:xfrm>
          <a:prstGeom prst="ellipse">
            <a:avLst/>
          </a:prstGeom>
          <a:noFill/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15240" y="2800440"/>
            <a:ext cx="1638360" cy="590400"/>
          </a:xfrm>
          <a:prstGeom prst="ellipse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3240" y="514440"/>
            <a:ext cx="2000160" cy="590400"/>
          </a:xfrm>
          <a:prstGeom prst="ellipse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201680" y="1255680"/>
            <a:ext cx="72676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énykép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 nyomvonalró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zámítógépes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zközö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isplay  Hardcopy  (“screen dump”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            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NUMERIKUS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árolás,  adatátvitel,  prezentá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54200" y="3029040"/>
            <a:ext cx="62373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62000" y="316080"/>
            <a:ext cx="733104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Miben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tér el 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a “dokumentálás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”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869000" y="1017720"/>
            <a:ext cx="3830760" cy="49276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519120" y="1554120"/>
            <a:ext cx="40053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floppy d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hard d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PC-card (PCMCIA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memory card,  hard d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GPIB (IEEE-48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RS-232 po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networ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Internet, e-mail (ZI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hardcopy (Hcp 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pr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plo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63520" y="307800"/>
            <a:ext cx="846756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DSO  display,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ullámforma és  eszköz-beállítás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rchiválá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33360" y="316080"/>
            <a:ext cx="582624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 számítógépes kapcsol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327320" y="1300320"/>
            <a:ext cx="7704000" cy="45608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1442880" y="5356080"/>
            <a:ext cx="76485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488.2;   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SCPI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  (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Standard Commands for Programmable Instruments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727360" y="3222720"/>
            <a:ext cx="6825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(c) 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091040" y="2346480"/>
            <a:ext cx="103356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(</a:t>
            </a: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controller</a:t>
            </a: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755800" y="2840040"/>
            <a:ext cx="129384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+ Instr. Dri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567560" y="3747960"/>
            <a:ext cx="650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D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795840" y="1714680"/>
            <a:ext cx="270684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Palatino"/>
                <a:ea typeface="Palatino"/>
              </a:rPr>
              <a:t>( instrument  network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31880" y="387360"/>
            <a:ext cx="8104320" cy="5430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7989840" y="5413320"/>
            <a:ext cx="6825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018200" y="3400560"/>
            <a:ext cx="10112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(D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17400" y="1268280"/>
            <a:ext cx="6890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46200" y="2917800"/>
            <a:ext cx="6890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19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35040" y="4280040"/>
            <a:ext cx="6890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19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811600" y="1171440"/>
            <a:ext cx="19080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compat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7760" y="316080"/>
            <a:ext cx="61689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érõeszköz “generációk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316160" y="1314360"/>
            <a:ext cx="7689960" cy="4584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934320" y="1494000"/>
            <a:ext cx="145584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147840" y="880920"/>
            <a:ext cx="37116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(RS-232,  GPIB,  pci,  VX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52600" y="3911760"/>
            <a:ext cx="109872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(pci = 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instr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015320" y="1538280"/>
            <a:ext cx="129852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515960" y="5537160"/>
            <a:ext cx="6825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(c) 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869000" y="3022560"/>
            <a:ext cx="8082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D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6840" y="266760"/>
            <a:ext cx="6756480" cy="131868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Virtuális”  mûszer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    ( Változtassa 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számítógépét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  digitális oszcilloszkóppá!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511520" y="2211480"/>
            <a:ext cx="2079720" cy="3311280"/>
            <a:chOff x="4511520" y="2211480"/>
            <a:chExt cx="2079720" cy="3311280"/>
          </a:xfrm>
        </p:grpSpPr>
        <p:grpSp>
          <p:nvGrpSpPr>
            <p:cNvPr id="327" name=""/>
            <p:cNvGrpSpPr/>
            <p:nvPr/>
          </p:nvGrpSpPr>
          <p:grpSpPr>
            <a:xfrm>
              <a:off x="4511520" y="2211480"/>
              <a:ext cx="1584360" cy="1325520"/>
              <a:chOff x="4511520" y="2211480"/>
              <a:chExt cx="1584360" cy="1325520"/>
            </a:xfrm>
          </p:grpSpPr>
          <p:sp>
            <p:nvSpPr>
              <p:cNvPr id="328" name=""/>
              <p:cNvSpPr/>
              <p:nvPr/>
            </p:nvSpPr>
            <p:spPr>
              <a:xfrm>
                <a:off x="4511520" y="2211480"/>
                <a:ext cx="1584360" cy="1325520"/>
              </a:xfrm>
              <a:prstGeom prst="rect">
                <a:avLst/>
              </a:prstGeom>
              <a:solidFill>
                <a:srgbClr val="006b61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 txBox="1"/>
              <p:nvPr/>
            </p:nvSpPr>
            <p:spPr>
              <a:xfrm>
                <a:off x="4732200" y="2739960"/>
                <a:ext cx="1143000" cy="2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768"/>
                  </a:spcBef>
                </a:pPr>
                <a:r>
                  <a:rPr b="1" lang="en-US" sz="1800" spc="-1" strike="noStrike">
                    <a:solidFill>
                      <a:srgbClr val="00ff00"/>
                    </a:solidFill>
                    <a:latin typeface="Arial"/>
                    <a:ea typeface="Arial"/>
                  </a:rPr>
                  <a:t>Analysi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 txBox="1"/>
            <p:nvPr/>
          </p:nvSpPr>
          <p:spPr>
            <a:xfrm>
              <a:off x="4511520" y="3848040"/>
              <a:ext cx="2079720" cy="167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Signal Process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Digital Filter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Statistic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Array Oper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835680" y="2211480"/>
            <a:ext cx="1714680" cy="3542760"/>
            <a:chOff x="6835680" y="2211480"/>
            <a:chExt cx="1714680" cy="3542760"/>
          </a:xfrm>
        </p:grpSpPr>
        <p:grpSp>
          <p:nvGrpSpPr>
            <p:cNvPr id="332" name=""/>
            <p:cNvGrpSpPr/>
            <p:nvPr/>
          </p:nvGrpSpPr>
          <p:grpSpPr>
            <a:xfrm>
              <a:off x="6842160" y="2211480"/>
              <a:ext cx="1708200" cy="1325520"/>
              <a:chOff x="6842160" y="2211480"/>
              <a:chExt cx="1708200" cy="1325520"/>
            </a:xfrm>
          </p:grpSpPr>
          <p:sp>
            <p:nvSpPr>
              <p:cNvPr id="333" name=""/>
              <p:cNvSpPr/>
              <p:nvPr/>
            </p:nvSpPr>
            <p:spPr>
              <a:xfrm>
                <a:off x="6842160" y="2211480"/>
                <a:ext cx="1708200" cy="1325520"/>
              </a:xfrm>
              <a:prstGeom prst="rect">
                <a:avLst/>
              </a:prstGeom>
              <a:solidFill>
                <a:srgbClr val="006b61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6931080" y="2695680"/>
                <a:ext cx="1419120" cy="32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7000"/>
                  </a:lnSpc>
                  <a:spcBef>
                    <a:spcPts val="1176"/>
                  </a:spcBef>
                </a:pPr>
                <a:r>
                  <a:rPr b="1" lang="en-US" sz="1800" spc="-1" strike="noStrike">
                    <a:solidFill>
                      <a:srgbClr val="00ff00"/>
                    </a:solidFill>
                    <a:latin typeface="Arial"/>
                    <a:ea typeface="Arial"/>
                  </a:rPr>
                  <a:t>Presenta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 txBox="1"/>
            <p:nvPr/>
          </p:nvSpPr>
          <p:spPr>
            <a:xfrm>
              <a:off x="6835680" y="3848040"/>
              <a:ext cx="1611360" cy="19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GUI (Graphical   User Interface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Hardcopy out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File I/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6000"/>
                </a:lnSpc>
                <a:spcBef>
                  <a:spcPts val="961"/>
                </a:spcBef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  <a:ea typeface="Arial"/>
                </a:rPr>
                <a:t>. . 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 txBox="1"/>
          <p:nvPr/>
        </p:nvSpPr>
        <p:spPr>
          <a:xfrm>
            <a:off x="392040" y="2649600"/>
            <a:ext cx="1062000" cy="34920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  <a:spcBef>
                <a:spcPts val="1032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ig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14520" y="2860560"/>
            <a:ext cx="6318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22840" y="2882880"/>
            <a:ext cx="6318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1680" y="2882880"/>
            <a:ext cx="6300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20760" y="5619600"/>
            <a:ext cx="68256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c) 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784920" y="1430280"/>
            <a:ext cx="1362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So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front pa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387520" y="1401840"/>
            <a:ext cx="3595680" cy="9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hardver  </a:t>
            </a: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+</a:t>
            </a:r>
            <a:r>
              <a:rPr b="1" lang="en-US" sz="3200" spc="-1" strike="noStrike">
                <a:solidFill>
                  <a:srgbClr val="00ff00"/>
                </a:solidFill>
                <a:latin typeface="Palatino"/>
                <a:ea typeface="Palatino"/>
              </a:rPr>
              <a:t>  </a:t>
            </a:r>
            <a:r>
              <a:rPr b="1" lang="en-US" sz="3200" spc="-1" strike="noStrike">
                <a:solidFill>
                  <a:srgbClr val="00ff00"/>
                </a:solidFill>
                <a:latin typeface="Palatino"/>
                <a:ea typeface="Palatino"/>
              </a:rPr>
              <a:t>szoft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116080" y="2189160"/>
            <a:ext cx="2089080" cy="3568680"/>
            <a:chOff x="2116080" y="2189160"/>
            <a:chExt cx="2089080" cy="3568680"/>
          </a:xfrm>
        </p:grpSpPr>
        <p:sp>
          <p:nvSpPr>
            <p:cNvPr id="344" name=""/>
            <p:cNvSpPr/>
            <p:nvPr/>
          </p:nvSpPr>
          <p:spPr>
            <a:xfrm>
              <a:off x="2116080" y="3808440"/>
              <a:ext cx="2089080" cy="194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2190600" y="2189160"/>
              <a:ext cx="1609560" cy="1327320"/>
              <a:chOff x="2190600" y="2189160"/>
              <a:chExt cx="1609560" cy="1327320"/>
            </a:xfrm>
          </p:grpSpPr>
          <p:sp>
            <p:nvSpPr>
              <p:cNvPr id="346" name=""/>
              <p:cNvSpPr/>
              <p:nvPr/>
            </p:nvSpPr>
            <p:spPr>
              <a:xfrm>
                <a:off x="2214720" y="2189160"/>
                <a:ext cx="1584360" cy="132732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2190600" y="2403360"/>
                <a:ext cx="1609560" cy="80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70000"/>
                  </a:lnSpc>
                  <a:spcBef>
                    <a:spcPts val="768"/>
                  </a:spcBef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ACQuisi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768"/>
                  </a:spcBef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768"/>
                  </a:spcBef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Contro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1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06400" y="152280"/>
            <a:ext cx="5773680" cy="6184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76520" y="914400"/>
            <a:ext cx="1447920" cy="609480"/>
          </a:xfrm>
          <a:prstGeom prst="ellipse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38440" y="6384960"/>
            <a:ext cx="575316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(D.H.Sheingold,  with apologies to   </a:t>
            </a:r>
            <a:r>
              <a:rPr b="1" i="1" lang="en-US" sz="1200" spc="-1" strike="noStrike">
                <a:solidFill>
                  <a:srgbClr val="fc0128"/>
                </a:solidFill>
                <a:latin typeface="Palatino"/>
                <a:ea typeface="Palatino"/>
              </a:rPr>
              <a:t>Leonardo  da  Vinci:  RULE  OF  PROPORTIONS</a:t>
            </a:r>
            <a:r>
              <a:rPr b="1" i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  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Academy of Fine Arts, Ven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609480"/>
            <a:ext cx="1600200" cy="838080"/>
          </a:xfrm>
          <a:prstGeom prst="ellipse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1447920" cy="380880"/>
          </a:xfrm>
          <a:prstGeom prst="ellipse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600200"/>
            <a:ext cx="838080" cy="304920"/>
          </a:xfrm>
          <a:prstGeom prst="ellipse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4876920"/>
            <a:ext cx="1371600" cy="45720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69040" y="5257800"/>
            <a:ext cx="798480" cy="0"/>
          </a:xfrm>
          <a:prstGeom prst="line">
            <a:avLst/>
          </a:prstGeom>
          <a:ln w="38160">
            <a:solidFill>
              <a:srgbClr val="fc0128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782640" y="324000"/>
            <a:ext cx="8074080" cy="178488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i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       </a:t>
            </a:r>
            <a:r>
              <a:rPr b="1" i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i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Mindent a szemnek, és a kéznek” (DSO)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                                 </a:t>
            </a:r>
            <a:r>
              <a:rPr b="1" i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“Szoftver teszi a mûszert”  (FE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20760" y="2903400"/>
            <a:ext cx="8172360" cy="30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Fizikai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“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virtuál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kezelõi  felü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összetett képesség  /  egyszerû mûködtet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özvetlen,  dokumentálható  válasz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Lokáli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“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megosztot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”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llig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kféle  üzemmód  (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hameleon_lik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izuális  és  automatikus  mérés / analíz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Kompakt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“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modulár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”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elépí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92040" y="1523880"/>
            <a:ext cx="8389800" cy="9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DSO</a:t>
            </a: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kontra</a:t>
            </a: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   analóg  </a:t>
            </a:r>
            <a:r>
              <a:rPr b="1" lang="en-US" sz="3200" spc="-1" strike="noStrike">
                <a:solidFill>
                  <a:srgbClr val="00ff00"/>
                </a:solidFill>
                <a:latin typeface="Palatino"/>
                <a:ea typeface="Palatino"/>
              </a:rPr>
              <a:t>FEP  (</a:t>
            </a: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=  Front-End Processor</a:t>
            </a:r>
            <a:r>
              <a:rPr b="1" lang="en-US" sz="3200" spc="-1" strike="noStrike">
                <a:solidFill>
                  <a:srgbClr val="00ff00"/>
                </a:solidFill>
                <a:latin typeface="Palatino"/>
                <a:ea typeface="Palatino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11120" y="2373480"/>
            <a:ext cx="8359920" cy="8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Dedikált</a:t>
            </a: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kontra  “</a:t>
            </a: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rendszer-kompatibilis</a:t>
            </a: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”  képesség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39560" y="2028960"/>
            <a:ext cx="752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ava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70080" y="3213000"/>
            <a:ext cx="6494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9760" y="4427640"/>
            <a:ext cx="6494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65360" y="5637240"/>
            <a:ext cx="6494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2320" y="363600"/>
            <a:ext cx="55306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Funkció 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almozá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77880" y="1577880"/>
            <a:ext cx="817236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mbinált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s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ktor (!)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S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és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nalíró (rekor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agy felbontás (12 bit),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pari (!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frekv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S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é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gikai (idõ)analiz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ites (!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elbontás,  igen nagy csatornasz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usz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B-gener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özvetlen rekord-transzf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alóg jel (!)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konstrukcióho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09600" y="316080"/>
            <a:ext cx="8604360" cy="107244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zokatlan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” specifikációk,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új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épesség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10960" y="1038240"/>
            <a:ext cx="503568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nta  gyakoriság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SAMPLE RAT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RT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= Real Time Samp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ET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= Equivalent Time Samp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kord  hoss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RECORD LENGH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mory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Segmentation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Sequence Mo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asonmá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szély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Actua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Perceptual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LIASING 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elbontá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RESOLU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ENOB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= Effective No. Of B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HiRe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= High Resolu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yomvonal  reprodukció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DISPLA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Max-mi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Compression  (Binn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LINea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 SINC [= sin(x)/x]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po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Do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, 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Vector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ersistence;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Grad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  <a:ea typeface="Arial"/>
              </a:rPr>
              <a:t>Col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issítési gyakorisá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UPDATE R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791240" y="1033560"/>
            <a:ext cx="42433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AUTO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SCA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AUTO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C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PRE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TRIG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peciális  trigger  feltétel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litch” figyelés 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PEAK DETEC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kord-átlagolá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AVERAG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urkoló 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ENVELOP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égtelen utánvilágí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ZO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onalíró üzemmód 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ROL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utomatikus mérések,  trend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áncol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jelfeldolgozás 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CHAIN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pektrum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FF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tisztikai méré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HISTOGRA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at / beállítás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rchivál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STORE /RECAL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ávvezérlé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  <a:ea typeface="Arial"/>
              </a:rPr>
              <a:t>REMOTE CONTROL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58760" y="155520"/>
            <a:ext cx="8434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it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ehéz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digitálisan  emulálni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55600" y="1533600"/>
            <a:ext cx="521172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lõ”kép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rz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yors  reagálóképesség  jelváltozás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s  vezérlésre  egyarán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agyományosan  közvetlen  keze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542960" indent="-17136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hetõség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bizalom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lytonos”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yomvon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adáció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gray sca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542960" indent="-17136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özepes” kategória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á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 DSO szolgáltatások  nélkül !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40440" y="1725480"/>
            <a:ext cx="533880" cy="381240"/>
          </a:xfrm>
          <a:custGeom>
            <a:avLst/>
            <a:gdLst/>
            <a:ahLst/>
            <a:rect l="0" t="0" r="r" b="b"/>
            <a:pathLst>
              <a:path w="1483" h="1059">
                <a:moveTo>
                  <a:pt x="0" y="352"/>
                </a:moveTo>
                <a:lnTo>
                  <a:pt x="0" y="705"/>
                </a:lnTo>
                <a:lnTo>
                  <a:pt x="1038" y="705"/>
                </a:lnTo>
                <a:lnTo>
                  <a:pt x="1038" y="1059"/>
                </a:lnTo>
                <a:lnTo>
                  <a:pt x="1483" y="530"/>
                </a:lnTo>
                <a:lnTo>
                  <a:pt x="1038" y="0"/>
                </a:lnTo>
                <a:lnTo>
                  <a:pt x="1038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83200" y="4978440"/>
            <a:ext cx="533880" cy="381240"/>
          </a:xfrm>
          <a:custGeom>
            <a:avLst/>
            <a:gdLst/>
            <a:ahLst/>
            <a:rect l="0" t="0" r="r" b="b"/>
            <a:pathLst>
              <a:path w="1483" h="1059">
                <a:moveTo>
                  <a:pt x="0" y="352"/>
                </a:moveTo>
                <a:lnTo>
                  <a:pt x="0" y="705"/>
                </a:lnTo>
                <a:lnTo>
                  <a:pt x="1038" y="705"/>
                </a:lnTo>
                <a:lnTo>
                  <a:pt x="1038" y="1059"/>
                </a:lnTo>
                <a:lnTo>
                  <a:pt x="1483" y="530"/>
                </a:lnTo>
                <a:lnTo>
                  <a:pt x="1038" y="0"/>
                </a:lnTo>
                <a:lnTo>
                  <a:pt x="1038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3560" y="1698480"/>
            <a:ext cx="2679840" cy="18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többprocesszo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architektúr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dedikált “gombo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688000" y="3471840"/>
            <a:ext cx="329580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hatásos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 adatgyüjtõ,  jel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feldolgozó és vizualizál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algoritmu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(color, gra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21480" y="4946760"/>
            <a:ext cx="2998800" cy="11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agresszí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technológiai fejlesz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0720" y="743040"/>
            <a:ext cx="6691320" cy="112356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A  rekord-felvétel  után  az  eszköz:  </a:t>
            </a:r>
            <a:r>
              <a:rPr b="1" i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“számítógép”</a:t>
            </a: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de  a  funkció:  </a:t>
            </a:r>
            <a:r>
              <a:rPr b="1" i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“oszcilloszkóp”</a:t>
            </a: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21360" y="3506760"/>
            <a:ext cx="533880" cy="381240"/>
          </a:xfrm>
          <a:custGeom>
            <a:avLst/>
            <a:gdLst/>
            <a:ahLst/>
            <a:rect l="0" t="0" r="r" b="b"/>
            <a:pathLst>
              <a:path w="1483" h="1059">
                <a:moveTo>
                  <a:pt x="0" y="352"/>
                </a:moveTo>
                <a:lnTo>
                  <a:pt x="0" y="705"/>
                </a:lnTo>
                <a:lnTo>
                  <a:pt x="1038" y="705"/>
                </a:lnTo>
                <a:lnTo>
                  <a:pt x="1038" y="1059"/>
                </a:lnTo>
                <a:lnTo>
                  <a:pt x="1483" y="530"/>
                </a:lnTo>
                <a:lnTo>
                  <a:pt x="1038" y="0"/>
                </a:lnTo>
                <a:lnTo>
                  <a:pt x="1038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15880" y="316080"/>
            <a:ext cx="7902720" cy="83484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Jel  “kategóriák”</a:t>
            </a:r>
            <a:br>
              <a:rPr sz="3600"/>
            </a:b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(A </a:t>
            </a: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jel</a:t>
            </a: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  határozza meg  az </a:t>
            </a: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elsõdleges</a:t>
            </a: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 specifikációkat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52440" y="1557360"/>
            <a:ext cx="47577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métlõdési gyakorisá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petití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yakr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ismétlõdõ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00160" indent="-171360">
              <a:lnSpc>
                <a:spcPct val="11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áltoz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!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etití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2960" indent="-171360">
              <a:lnSpc>
                <a:spcPct val="11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ysz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 tranziens  va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itkán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smétlõdõ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951440" y="1351080"/>
            <a:ext cx="4010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sávszélessé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lfutási id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namik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C sz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õtarta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igger késlelte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lbontás, </a:t>
            </a:r>
            <a:r>
              <a:rPr b="1" i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pontos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satoraszá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zinkroni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87440" y="316080"/>
            <a:ext cx="7958160" cy="83484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lkalmazó  “típusok”</a:t>
            </a:r>
            <a:br>
              <a:rPr sz="3600"/>
            </a:b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(Az alkalmazás  a </a:t>
            </a: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másodlagos</a:t>
            </a:r>
            <a:r>
              <a:rPr b="1" lang="en-US" sz="2000" spc="-1" strike="noStrike">
                <a:solidFill>
                  <a:srgbClr val="00ff00"/>
                </a:solidFill>
                <a:latin typeface="Palatino"/>
                <a:ea typeface="Palatino"/>
              </a:rPr>
              <a:t> specifikációkat  determinálj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47760" y="1495440"/>
            <a:ext cx="81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bavadászo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troubleshoot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özvetlen  (vizuális - manuális)  interaktivi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áltozatos  trig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rdozhatós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õsítõ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screeners  and  sort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agy  átbocsátóképesség  és  megbízhatós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szk  mér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szt  dokumentá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gazságkeresõ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characteriz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ihetõ (valósághû)   vála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agy  érzékenys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alizátor  képess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58920" y="361800"/>
            <a:ext cx="8394840" cy="160848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inc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egyetlen  DSO  “aszpirin” 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        valamennyi  mérési  “fejfájásra”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65000" y="1611360"/>
            <a:ext cx="775008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 készülékek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gyformák,  é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nc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“mindenre képes” DS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 legjobb  képességek  gyak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ölcsönösen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izárjá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gymá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sak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ipróbálva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önthetõ  el  a problé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s  a megoldás  “távolsága”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asy_of_u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áro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nagy”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172040" y="4438800"/>
            <a:ext cx="4251240" cy="21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http://www.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tek</a:t>
            </a: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.com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http://www.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hp</a:t>
            </a: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http://www.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lecroy</a:t>
            </a: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(http://www.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fluke</a:t>
            </a:r>
            <a:r>
              <a:rPr b="1" lang="en-US" sz="2800" spc="-1" strike="noStrike">
                <a:solidFill>
                  <a:srgbClr val="00ff00"/>
                </a:solidFill>
                <a:latin typeface="Palatino"/>
                <a:ea typeface="Palatino"/>
              </a:rPr>
              <a:t>.co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98600" y="1409760"/>
            <a:ext cx="4178160" cy="42037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886280" y="1666800"/>
            <a:ext cx="4110120" cy="48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1: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REKORD  FELVÉ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(signal  </a:t>
            </a: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capture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2: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MEGJELENÍ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(signal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</a:t>
            </a: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viewing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3: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MÉRÉS  és  ELEM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(signal  meas. and </a:t>
            </a:r>
            <a:r>
              <a:rPr b="1" lang="en-US" sz="2400" spc="-1" strike="noStrike">
                <a:solidFill>
                  <a:srgbClr val="00ff00"/>
                </a:solidFill>
                <a:latin typeface="Palatino"/>
                <a:ea typeface="Palatino"/>
              </a:rPr>
              <a:t>analyzis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4: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RENDSZER  KAPCSO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(data </a:t>
            </a:r>
            <a:r>
              <a:rPr b="1" lang="en-US" sz="1800" spc="-1" strike="noStrike">
                <a:solidFill>
                  <a:srgbClr val="00ff00"/>
                </a:solidFill>
                <a:latin typeface="Palatino"/>
                <a:ea typeface="Palatino"/>
              </a:rPr>
              <a:t>interfacing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and </a:t>
            </a:r>
            <a:r>
              <a:rPr b="1" lang="en-US" sz="1800" spc="-1" strike="noStrike">
                <a:solidFill>
                  <a:srgbClr val="00ff00"/>
                </a:solidFill>
                <a:latin typeface="Palatino"/>
                <a:ea typeface="Palatino"/>
              </a:rPr>
              <a:t>documenting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6360" y="372960"/>
            <a:ext cx="872820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ompakt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(stand-alone)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DSO”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lap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jellemzõk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71760" y="284040"/>
            <a:ext cx="6391440" cy="137088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i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Egy kép többet ér ezer szónál”                  </a:t>
            </a:r>
            <a:r>
              <a:rPr b="1" i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	</a:t>
            </a:r>
            <a:r>
              <a:rPr b="1" i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  </a:t>
            </a: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“De  (száz)ezer  digitális szó  hatékonyabb!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5080" y="3081240"/>
            <a:ext cx="353880" cy="25884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47760"/>
            <a:ext cx="81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58000" y="2655720"/>
            <a:ext cx="0" cy="60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46840" y="3267000"/>
            <a:ext cx="743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443720" y="3154320"/>
            <a:ext cx="473040" cy="325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73920" y="2674800"/>
            <a:ext cx="551160" cy="444960"/>
          </a:xfrm>
          <a:custGeom>
            <a:avLst/>
            <a:gdLst/>
            <a:ahLst/>
            <a:rect l="0" t="0" r="r" b="b"/>
            <a:pathLst>
              <a:path fill="none" w="1531" h="1236">
                <a:moveTo>
                  <a:pt x="0" y="1091"/>
                </a:moveTo>
                <a:lnTo>
                  <a:pt x="0" y="874"/>
                </a:lnTo>
                <a:lnTo>
                  <a:pt x="97" y="653"/>
                </a:lnTo>
                <a:lnTo>
                  <a:pt x="149" y="437"/>
                </a:lnTo>
                <a:lnTo>
                  <a:pt x="246" y="216"/>
                </a:lnTo>
                <a:lnTo>
                  <a:pt x="343" y="0"/>
                </a:lnTo>
                <a:lnTo>
                  <a:pt x="493" y="145"/>
                </a:lnTo>
                <a:lnTo>
                  <a:pt x="542" y="362"/>
                </a:lnTo>
                <a:lnTo>
                  <a:pt x="542" y="583"/>
                </a:lnTo>
                <a:lnTo>
                  <a:pt x="643" y="799"/>
                </a:lnTo>
                <a:lnTo>
                  <a:pt x="692" y="1020"/>
                </a:lnTo>
                <a:lnTo>
                  <a:pt x="740" y="1236"/>
                </a:lnTo>
                <a:lnTo>
                  <a:pt x="887" y="1166"/>
                </a:lnTo>
                <a:lnTo>
                  <a:pt x="940" y="945"/>
                </a:lnTo>
                <a:lnTo>
                  <a:pt x="1037" y="728"/>
                </a:lnTo>
                <a:lnTo>
                  <a:pt x="1085" y="508"/>
                </a:lnTo>
                <a:lnTo>
                  <a:pt x="1134" y="291"/>
                </a:lnTo>
                <a:lnTo>
                  <a:pt x="1235" y="70"/>
                </a:lnTo>
                <a:lnTo>
                  <a:pt x="1332" y="291"/>
                </a:lnTo>
                <a:lnTo>
                  <a:pt x="1434" y="508"/>
                </a:lnTo>
                <a:lnTo>
                  <a:pt x="1434" y="728"/>
                </a:lnTo>
                <a:lnTo>
                  <a:pt x="1482" y="945"/>
                </a:lnTo>
                <a:lnTo>
                  <a:pt x="1531" y="1166"/>
                </a:lnTo>
              </a:path>
            </a:pathLst>
          </a:custGeom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1560" y="1563840"/>
            <a:ext cx="80359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z   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SZCILLOSZKÓP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z   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interaktí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jelalak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emzé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apeszköze.  Használata  “egyszerû, mint az  ABC”...</a:t>
            </a:r>
            <a:r>
              <a:rPr b="1" i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                                                                                    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XY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idõ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/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mplitúdó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nzitá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i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.. “mûködhet”  az  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ember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sonlíthatat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ak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lismer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összefüggé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eres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ényeg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emel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épessége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708280" y="210960"/>
            <a:ext cx="2340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Idõ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abla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4680" y="1144440"/>
            <a:ext cx="860760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143680" y="1752480"/>
            <a:ext cx="2038320" cy="15048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1200" y="3278160"/>
            <a:ext cx="1165320" cy="43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s/Div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1520" y="2747880"/>
            <a:ext cx="1266840" cy="43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V/Div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  <a:ea typeface="Palatino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89400" y="3322800"/>
            <a:ext cx="5040" cy="6141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48360" y="3884760"/>
            <a:ext cx="892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Trig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20560" y="1330200"/>
            <a:ext cx="12826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Spekt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Analiz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(“</a:t>
            </a:r>
            <a:r>
              <a:rPr b="1" i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FFT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1640" y="5373720"/>
            <a:ext cx="38926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Moduláció  Analizátor  (“</a:t>
            </a:r>
            <a:r>
              <a:rPr b="1" i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szoftver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5480" y="3295800"/>
            <a:ext cx="495720" cy="457560"/>
          </a:xfrm>
          <a:custGeom>
            <a:avLst/>
            <a:gdLst/>
            <a:ahLst/>
            <a:rect l="0" t="0" r="r" b="b"/>
            <a:pathLst>
              <a:path w="1377" h="1271">
                <a:moveTo>
                  <a:pt x="0" y="422"/>
                </a:moveTo>
                <a:lnTo>
                  <a:pt x="0" y="846"/>
                </a:lnTo>
                <a:lnTo>
                  <a:pt x="964" y="846"/>
                </a:lnTo>
                <a:lnTo>
                  <a:pt x="964" y="1271"/>
                </a:lnTo>
                <a:lnTo>
                  <a:pt x="1377" y="635"/>
                </a:lnTo>
                <a:lnTo>
                  <a:pt x="964" y="0"/>
                </a:lnTo>
                <a:lnTo>
                  <a:pt x="964" y="422"/>
                </a:lnTo>
                <a:lnTo>
                  <a:pt x="0" y="42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3276720"/>
            <a:ext cx="476640" cy="438480"/>
          </a:xfrm>
          <a:custGeom>
            <a:avLst/>
            <a:gdLst/>
            <a:ahLst/>
            <a:rect l="0" t="0" r="r" b="b"/>
            <a:pathLst>
              <a:path fill="none" w="1324" h="1218">
                <a:moveTo>
                  <a:pt x="441" y="1218"/>
                </a:moveTo>
                <a:lnTo>
                  <a:pt x="882" y="1218"/>
                </a:lnTo>
                <a:lnTo>
                  <a:pt x="882" y="365"/>
                </a:lnTo>
                <a:lnTo>
                  <a:pt x="1324" y="365"/>
                </a:lnTo>
                <a:lnTo>
                  <a:pt x="662" y="0"/>
                </a:lnTo>
                <a:lnTo>
                  <a:pt x="0" y="365"/>
                </a:lnTo>
                <a:lnTo>
                  <a:pt x="441" y="365"/>
                </a:lnTo>
                <a:lnTo>
                  <a:pt x="441" y="12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38320" y="662040"/>
            <a:ext cx="54640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közvetlen  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kála  (és  helyzet)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”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beáll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881600" y="1247760"/>
            <a:ext cx="2157480" cy="8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c0128"/>
                </a:solidFill>
                <a:latin typeface="Palatino"/>
                <a:ea typeface="Palatino"/>
              </a:rPr>
              <a:t>Oszcilloszkó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67000" y="5495760"/>
            <a:ext cx="87480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(c) F/P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18960" y="2135160"/>
            <a:ext cx="8494560" cy="3651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357200" y="1468440"/>
            <a:ext cx="2604960" cy="9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közvetlen  “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rajzolás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(képernyõre  írá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6040" y="257040"/>
            <a:ext cx="793908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Grafikus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jelalak-részlet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 megjelenít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05320" y="1449360"/>
            <a:ext cx="4624560" cy="9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numerikus  “</a:t>
            </a: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tárolás</a:t>
            </a: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”  (memóriába  írá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és  nyomvonal  “</a:t>
            </a: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rekonstrukció</a:t>
            </a:r>
            <a:r>
              <a:rPr b="1" i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2351160"/>
            <a:ext cx="0" cy="28432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151160" y="927000"/>
            <a:ext cx="1968480" cy="4176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DIGITÁLI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1720" y="927000"/>
            <a:ext cx="1697040" cy="4176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ANALÓ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19600" y="5407200"/>
            <a:ext cx="7952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719440" y="293760"/>
            <a:ext cx="5927760" cy="178812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Hiszem, ha látom !”    (ART)</a:t>
            </a:r>
            <a:br>
              <a:rPr sz="1800"/>
            </a:br>
            <a:r>
              <a:rPr b="1" i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Ha látom, hihetem ?” (D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3280" y="1411200"/>
            <a:ext cx="81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hagyományos jel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gjelenít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aló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eszköznek (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R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Analog Real-Time scope),  ma már árban is, domináns  versenytársa   a   jel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alizál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gitál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szcilloszkóp (</a:t>
            </a:r>
            <a:r>
              <a:rPr b="1" i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DS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gital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rag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lloscope,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R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gital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l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e scope),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lsõsorban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 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numerikus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l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árolá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z  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automatiku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améter és maszk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éré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, az igen széleskörû jel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eldolgozás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mint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F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Fast Fourier Transform,  Hisztogram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 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közvetle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érõ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dsz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 integrálás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PI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General Purpose Interface Bus  =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EEE488  =  IEC625  =  HPIB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00ff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 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hatásos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rchiválás  és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okumentálá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révé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98320" y="1123920"/>
            <a:ext cx="849960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KONDÍCIONÁLÁ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el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−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yomvonal    [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vecto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R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=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thod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y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be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..van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árolt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dõREK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DIGITALIZÁLÁ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 (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Quisitio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“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JELFELDOLGOZÁ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 (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SP ,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SM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REKONSTRUKCIÓ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 (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SPlay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el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−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ullámfor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−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yomvonal   [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raster sc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NDÍCIONÁLÁS” (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.. mint AR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4720" y="295200"/>
            <a:ext cx="738036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Miben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különbözik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a “kép”alkotás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660680" y="1600200"/>
            <a:ext cx="1439640" cy="309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57240" y="3643200"/>
            <a:ext cx="206640" cy="1003320"/>
          </a:xfrm>
          <a:prstGeom prst="line">
            <a:avLst/>
          </a:prstGeom>
          <a:ln w="126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40200" y="4157640"/>
            <a:ext cx="338040" cy="458640"/>
          </a:xfrm>
          <a:prstGeom prst="line">
            <a:avLst/>
          </a:prstGeom>
          <a:ln w="126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167360" y="4568760"/>
            <a:ext cx="307800" cy="203400"/>
          </a:xfrm>
          <a:prstGeom prst="line">
            <a:avLst/>
          </a:prstGeom>
          <a:ln w="126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442880" y="5160960"/>
            <a:ext cx="258840" cy="4302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87400" y="2376360"/>
            <a:ext cx="79185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5760" y="3073680"/>
            <a:ext cx="492480" cy="336600"/>
          </a:xfrm>
          <a:custGeom>
            <a:avLst/>
            <a:gdLst/>
            <a:ahLst/>
            <a:rect l="0" t="0" r="r" b="b"/>
            <a:pathLst>
              <a:path fill="none" w="1368" h="935">
                <a:moveTo>
                  <a:pt x="0" y="935"/>
                </a:moveTo>
                <a:lnTo>
                  <a:pt x="0" y="935"/>
                </a:lnTo>
                <a:lnTo>
                  <a:pt x="0" y="935"/>
                </a:lnTo>
                <a:cubicBezTo>
                  <a:pt x="240" y="935"/>
                  <a:pt x="476" y="892"/>
                  <a:pt x="684" y="810"/>
                </a:cubicBezTo>
                <a:cubicBezTo>
                  <a:pt x="892" y="727"/>
                  <a:pt x="1065" y="609"/>
                  <a:pt x="1185" y="467"/>
                </a:cubicBezTo>
                <a:cubicBezTo>
                  <a:pt x="1305" y="325"/>
                  <a:pt x="1368" y="164"/>
                  <a:pt x="1368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69720" y="1449360"/>
            <a:ext cx="83548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R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gár - eltérítést  </a:t>
            </a:r>
            <a:r>
              <a:rPr b="1" i="1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indí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[  sweep START  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SO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.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an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trigg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kord - felvételt 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leállít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[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AC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isition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STOP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521000" y="3321000"/>
            <a:ext cx="6210000" cy="1764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44360" y="316080"/>
            <a:ext cx="8112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Miben 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más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 a “trigger” szerep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97560" y="4316760"/>
            <a:ext cx="679680" cy="374760"/>
          </a:xfrm>
          <a:custGeom>
            <a:avLst/>
            <a:gdLst/>
            <a:ahLst/>
            <a:rect l="0" t="0" r="r" b="b"/>
            <a:pathLst>
              <a:path fill="none" w="1888" h="1041">
                <a:moveTo>
                  <a:pt x="0" y="1041"/>
                </a:moveTo>
                <a:lnTo>
                  <a:pt x="0" y="1041"/>
                </a:lnTo>
                <a:lnTo>
                  <a:pt x="0" y="1041"/>
                </a:lnTo>
                <a:cubicBezTo>
                  <a:pt x="331" y="1041"/>
                  <a:pt x="657" y="993"/>
                  <a:pt x="944" y="901"/>
                </a:cubicBezTo>
                <a:cubicBezTo>
                  <a:pt x="1231" y="810"/>
                  <a:pt x="1469" y="678"/>
                  <a:pt x="1635" y="520"/>
                </a:cubicBezTo>
                <a:cubicBezTo>
                  <a:pt x="1800" y="362"/>
                  <a:pt x="1888" y="183"/>
                  <a:pt x="1888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dr. Pápay Zsolt</dc:creator>
  <dc:description/>
  <dc:language>en-US</dc:language>
  <cp:lastModifiedBy>DR PAPAY</cp:lastModifiedBy>
  <cp:revision>0</cp:revision>
  <dc:subject>DSO kontra ART, és a DSO alapvonásai</dc:subject>
  <dc:title> Digitális oszcilloszkóp (DSO)</dc:title>
</cp:coreProperties>
</file>