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6248520"/>
            <a:ext cx="90676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07200" y="6359400"/>
            <a:ext cx="1898640" cy="6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DSO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       </a:t>
            </a:r>
            <a:fld id="{58AB9B65-F759-4B68-9844-E4F4473DA13C}" type="slidenum"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fld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35040" y="6380280"/>
            <a:ext cx="190512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papay @ hit.bme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04760" y="1725480"/>
            <a:ext cx="6964560" cy="4370760"/>
          </a:xfrm>
          <a:custGeom>
            <a:avLst/>
            <a:gdLst/>
            <a:ahLst/>
            <a:rect l="0" t="0" r="r" b="b"/>
            <a:pathLst>
              <a:path w="19346" h="12141">
                <a:moveTo>
                  <a:pt x="0" y="0"/>
                </a:moveTo>
                <a:lnTo>
                  <a:pt x="0" y="12141"/>
                </a:lnTo>
                <a:lnTo>
                  <a:pt x="19346" y="12141"/>
                </a:lnTo>
                <a:lnTo>
                  <a:pt x="193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71480" y="1539720"/>
            <a:ext cx="7271280" cy="4545360"/>
          </a:xfrm>
          <a:custGeom>
            <a:avLst/>
            <a:gdLst/>
            <a:ahLst/>
            <a:rect l="0" t="0" r="r" b="b"/>
            <a:pathLst>
              <a:path w="20198" h="12626">
                <a:moveTo>
                  <a:pt x="431" y="401"/>
                </a:moveTo>
                <a:lnTo>
                  <a:pt x="0" y="0"/>
                </a:lnTo>
                <a:lnTo>
                  <a:pt x="20198" y="0"/>
                </a:lnTo>
                <a:lnTo>
                  <a:pt x="20114" y="83"/>
                </a:lnTo>
                <a:lnTo>
                  <a:pt x="213" y="83"/>
                </a:lnTo>
                <a:lnTo>
                  <a:pt x="471" y="317"/>
                </a:lnTo>
                <a:lnTo>
                  <a:pt x="20114" y="317"/>
                </a:lnTo>
                <a:lnTo>
                  <a:pt x="20034" y="590"/>
                </a:lnTo>
                <a:lnTo>
                  <a:pt x="773" y="590"/>
                </a:lnTo>
                <a:lnTo>
                  <a:pt x="773" y="12626"/>
                </a:lnTo>
                <a:lnTo>
                  <a:pt x="431" y="12626"/>
                </a:lnTo>
                <a:lnTo>
                  <a:pt x="431" y="40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79320" y="439560"/>
            <a:ext cx="8245440" cy="7207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Palatino"/>
                <a:ea typeface="Palatino"/>
              </a:rPr>
              <a:t>1:   </a:t>
            </a:r>
            <a:r>
              <a:rPr b="1" lang="en-US" sz="4400" spc="-1" strike="noStrike">
                <a:solidFill>
                  <a:srgbClr val="fafd00"/>
                </a:solidFill>
                <a:latin typeface="Palatino"/>
                <a:ea typeface="Palatino"/>
              </a:rPr>
              <a:t>Rekord  felvé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52360" y="190512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étfé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tavételi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yquist-határ, hasonmás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“aliasing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ta kezelés rekord-felvéte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öz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ntr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rekord-felvétel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övet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ciális trigger feltét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zegmentált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InstaVu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”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rekord-fel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yakoriság növel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34800" y="361800"/>
            <a:ext cx="9048600" cy="14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inta-gyakoriság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csökkenés(!)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z idõalap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övekedé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ével: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a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 véges rekord-hossz 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hatá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19200" y="1905120"/>
            <a:ext cx="4267080" cy="40384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619200" y="56563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5114880" y="1905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685880" y="548640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85880" y="563868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85880" y="579132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355840" y="5372280"/>
            <a:ext cx="690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500 pts</a:t>
            </a: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355840" y="552456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1000 pts</a:t>
            </a: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375760" y="56563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355840" y="5697360"/>
            <a:ext cx="763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50 K p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898640" y="2075040"/>
            <a:ext cx="1273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(100 MS/s)/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784840" y="2455920"/>
            <a:ext cx="1036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(2 GS/s)/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537320" y="3314880"/>
            <a:ext cx="860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32 K p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575160" y="2476440"/>
            <a:ext cx="860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50 K p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243000" y="316080"/>
            <a:ext cx="9232920" cy="20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: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övekvõ idõalap beállításoknál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a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potenciális túlmintavételzés”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ihasználása  rekord-felvétel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özben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... egyben: “anti-aliasing”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560600" y="2438280"/>
            <a:ext cx="7440480" cy="34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súcs-detektál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Peak Detec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avar (tüske: 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Glit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 figyelésh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SzPct val="150000"/>
              <a:buFont typeface="Monotype Sorts"/>
              <a:buChar char=""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zajszûré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Real-time “sum AVG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lbontás  javításhoz  (</a:t>
            </a:r>
            <a:r>
              <a:rPr b="1" lang="en-US" sz="2000" spc="-1" strike="noStrike" u="sng">
                <a:solidFill>
                  <a:srgbClr val="7fff00"/>
                </a:solidFill>
                <a:uFillTx/>
                <a:latin typeface="Arial"/>
                <a:ea typeface="Arial"/>
              </a:rPr>
              <a:t>Hi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gh </a:t>
            </a:r>
            <a:r>
              <a:rPr b="1" lang="en-US" sz="2000" spc="-1" strike="noStrike" u="sng">
                <a:solidFill>
                  <a:srgbClr val="7fff00"/>
                </a:solidFill>
                <a:uFillTx/>
                <a:latin typeface="Arial"/>
                <a:ea typeface="Arial"/>
              </a:rPr>
              <a:t>Res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olu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87440" y="1752480"/>
            <a:ext cx="881856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B: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ismétlõdõ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rekordok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zonos idõhelyzetû mintáinak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feldolgozás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685880" y="289548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rkol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Envelope; “extrema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SzPct val="150000"/>
              <a:buFont typeface="Monotype Sorts"/>
              <a:buChar char=""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átlagol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Averaging;  “exp  [or sum]  AVG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6560" y="4400640"/>
            <a:ext cx="784872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C: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egy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hullámforma(rekord)  mûvel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762200" y="5303880"/>
            <a:ext cx="6973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fafd00"/>
              </a:buClr>
              <a:buSzPct val="110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imítá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Smoothing Digital Filter; “mov AVG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22320" y="4923000"/>
            <a:ext cx="450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279520" y="484200"/>
            <a:ext cx="6797520" cy="130392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... összehasonlításhoz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feldolgozás  rekord-felvételt  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követõ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34800" y="361800"/>
            <a:ext cx="90486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A1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: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Szélsõérték (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in/max, csúc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) detektálá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özben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Peak or Glitch detect</a:t>
            </a: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990800" y="2057400"/>
            <a:ext cx="6629400" cy="37339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7842240" y="5427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600280" y="3886200"/>
            <a:ext cx="0" cy="38088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5256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90520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5748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0976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36240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1468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66696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00280" y="3352680"/>
            <a:ext cx="0" cy="1600200"/>
          </a:xfrm>
          <a:prstGeom prst="line">
            <a:avLst/>
          </a:prstGeom>
          <a:ln w="12600">
            <a:solidFill>
              <a:srgbClr val="081d5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7188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12416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76800" y="3886200"/>
            <a:ext cx="0" cy="38088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1960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2908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8136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Csúcs detektáló”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95160" y="1905120"/>
            <a:ext cx="8458200" cy="38098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2676600" y="1454040"/>
            <a:ext cx="429084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normal sample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   kontra   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Peak Det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48000" y="2362320"/>
            <a:ext cx="30456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48600" y="2362320"/>
            <a:ext cx="38088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105600" y="2362320"/>
            <a:ext cx="304560" cy="22860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5520" y="5351400"/>
            <a:ext cx="798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07920" y="2247840"/>
            <a:ext cx="7272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am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223120" y="2400480"/>
            <a:ext cx="6476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Pea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Det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34800" y="361800"/>
            <a:ext cx="904860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A2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: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Effektív bitszám  növelés  (</a:t>
            </a: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=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zajszûrés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özben</a:t>
            </a:r>
            <a:br>
              <a:rPr sz="1800"/>
            </a:b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Real-time Decimating Filter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;  “sum  AVG”</a:t>
            </a: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 </a:t>
            </a: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103400" y="2590920"/>
            <a:ext cx="817236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ximális(!)  frekvenciájú  digitalizálás  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dõalaptó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ügg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mértékû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ecimáló szû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minél lassúbb a “sweep”,  vagyi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él nagyobb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úlmintavételezé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nnál nagyobb lehet az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ffektí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tszá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00160" indent="-17136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gyszeri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agy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etitív  j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agy”felbontású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666960" y="1371600"/>
            <a:ext cx="5486400" cy="42624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619200" y="1371600"/>
            <a:ext cx="2666880" cy="2971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2584440" y="5257800"/>
            <a:ext cx="798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260960" y="2760840"/>
            <a:ext cx="979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250 MS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108320" y="3200400"/>
            <a:ext cx="979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100 MS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114880" y="3048120"/>
            <a:ext cx="0" cy="4572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62600" y="3429000"/>
            <a:ext cx="75960" cy="5335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5400" y="160020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276800" y="1600200"/>
            <a:ext cx="7596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34800" y="361800"/>
            <a:ext cx="9048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t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övetõ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3600" spc="-1" strike="noStrike">
                <a:solidFill>
                  <a:srgbClr val="7fff00"/>
                </a:solidFill>
                <a:latin typeface="Palatino"/>
                <a:ea typeface="Palatino"/>
              </a:rPr>
              <a:t>post-acquisition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“hagyományos”  zajszûrések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19200" y="1600200"/>
            <a:ext cx="85345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: simítás   ( 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Smoothing  Digital Filter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;   “mov  AVG”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gyetlen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kor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(tranziens is szûrhet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   csökken(!)  a  felvett  rekord  sávszéless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   rövidül(!)  a  hullámforma  rekordhoss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  tárolt, feldolgozott  rekord  is  simí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átlagol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Averaging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;   “exp  [or  sum]  AVG”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smétlõd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kord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(repetitív jel)  azonos idõhelyzetû mintáinak  folyamatos  [v. terminálódó]  átlagol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RIGGERrel szinkron jelrészlet  kiemelhetõ  a zajbó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  </a:t>
            </a:r>
            <a:r>
              <a:rPr b="1" lang="en-US" sz="1800" spc="-1" strike="noStrike">
                <a:solidFill>
                  <a:srgbClr val="7fff00"/>
                </a:solidFill>
                <a:latin typeface="Arial"/>
                <a:ea typeface="Arial"/>
              </a:rPr>
              <a:t>“exp”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 folytonos  mûködés  (... mint  “analóg RC-szûrõ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   nagy  trigger- (és mûveleti-) gyakoriságnál  hatá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ullámforma  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imítá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”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11280" y="1371600"/>
            <a:ext cx="2674800" cy="29718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591000" y="1371600"/>
            <a:ext cx="5486400" cy="42670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2584440" y="5410080"/>
            <a:ext cx="798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09960" y="2514600"/>
            <a:ext cx="838440" cy="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2590920"/>
            <a:ext cx="0" cy="190476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743280" y="1828800"/>
            <a:ext cx="7632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34000" y="1828800"/>
            <a:ext cx="3808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34800" y="361800"/>
            <a:ext cx="9048600" cy="13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Ismétlõdõ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ullámformák  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átlagolá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”: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(Triggerrel  aszinkron  zaj  kiszûrése: 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“exp AVG”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95160" y="1905120"/>
            <a:ext cx="8458200" cy="37339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4413240" y="5275440"/>
            <a:ext cx="6746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060560" y="312840"/>
            <a:ext cx="7550280" cy="115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z oszcilloszkóp  a </a:t>
            </a:r>
            <a:r>
              <a:rPr b="1" lang="en-US" sz="3200" spc="-1" strike="noStrike">
                <a:solidFill>
                  <a:srgbClr val="fafd00"/>
                </a:solidFill>
                <a:latin typeface="H-Times New Roman"/>
                <a:ea typeface="H-Times New Roman"/>
              </a:rPr>
              <a:t>mérõfej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jel  kezdõdik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(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GIGO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: garbage-in/garbage-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lapkorlát az “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analóg  sávszélesség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”, a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z elsõ  kritikus lépés:  a  </a:t>
            </a:r>
            <a:r>
              <a:rPr b="1" lang="en-US" sz="3200" spc="-1" strike="noStrike">
                <a:solidFill>
                  <a:srgbClr val="fafd00"/>
                </a:solidFill>
                <a:latin typeface="H-Times New Roman"/>
                <a:ea typeface="H-Times New Roman"/>
              </a:rPr>
              <a:t>rekord-felvé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(= digitalizálás)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még  tovább szûkít(he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“</a:t>
            </a:r>
            <a:r>
              <a:rPr b="1" lang="en-US" sz="3200" spc="-1" strike="noStrike">
                <a:solidFill>
                  <a:srgbClr val="7fff00"/>
                </a:solidFill>
                <a:latin typeface="H-Times New Roman"/>
                <a:ea typeface="H-Times New Roman"/>
              </a:rPr>
              <a:t>használható  sávszélesség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”  értéke 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datok  </a:t>
            </a:r>
            <a:r>
              <a:rPr b="1" lang="en-US" sz="3200" spc="-1" strike="noStrike">
                <a:solidFill>
                  <a:srgbClr val="063de8"/>
                </a:solidFill>
                <a:latin typeface="H-Times New Roman"/>
                <a:ea typeface="H-Times New Roman"/>
              </a:rPr>
              <a:t>felhasználás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ától  és  az  igénye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63de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63de8"/>
                </a:solidFill>
                <a:latin typeface="H-Times New Roman"/>
                <a:ea typeface="H-Times New Roman"/>
              </a:rPr>
              <a:t>pontosság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tól  is  fü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Változások megfigyeléséhez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nagy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gyakori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ságú rekord-felvétel  (illetve  nyomv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frissítési gyakoriság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)  szüksé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95160" y="1905120"/>
            <a:ext cx="8458200" cy="37339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1336680" y="2552760"/>
            <a:ext cx="698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am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312920" y="2933640"/>
            <a:ext cx="7477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zoom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380960" y="3771720"/>
            <a:ext cx="139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HiRes + “zoom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200480" y="2857680"/>
            <a:ext cx="10825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   </a:t>
            </a: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Hi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(“real-time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um AV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200480" y="4533840"/>
            <a:ext cx="10335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repetitive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exp  AV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79320" y="1295280"/>
            <a:ext cx="33814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Normal sample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kontra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H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5556240" y="1295280"/>
            <a:ext cx="30448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HiRes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kontra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“exp  AV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956040" y="5351400"/>
            <a:ext cx="798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619200" y="19810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1060560" y="966960"/>
            <a:ext cx="296532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Average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kontra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Envel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365120" y="2705040"/>
            <a:ext cx="8650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Envelo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736720" y="3924360"/>
            <a:ext cx="7858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Ave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5191200" y="19810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5327640" y="966960"/>
            <a:ext cx="33526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Peak Detect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kontra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Envel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308720" y="278136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Pe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Det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232760" y="4228920"/>
            <a:ext cx="9176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Envelo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619200" y="1981080"/>
            <a:ext cx="4038480" cy="37339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5114880" y="19810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334800" y="361800"/>
            <a:ext cx="904860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 gyakorisá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övelés (</a:t>
            </a:r>
            <a:r>
              <a:rPr b="1" lang="en-US" sz="3600" spc="-1" strike="noStrike">
                <a:solidFill>
                  <a:srgbClr val="7fff00"/>
                </a:solidFill>
                <a:latin typeface="Palatino"/>
                <a:ea typeface="Palatino"/>
              </a:rPr>
              <a:t>“</a:t>
            </a:r>
            <a:r>
              <a:rPr b="1" lang="en-US" sz="3200" spc="-1" strike="noStrike">
                <a:solidFill>
                  <a:srgbClr val="7fff00"/>
                </a:solidFill>
                <a:latin typeface="Palatino"/>
                <a:ea typeface="Palatino"/>
              </a:rPr>
              <a:t>InstaVu</a:t>
            </a:r>
            <a:r>
              <a:rPr b="1" lang="en-US" sz="3200" spc="-1" strike="noStrike">
                <a:solidFill>
                  <a:srgbClr val="7fff00"/>
                </a:solidFill>
                <a:latin typeface="Palatino"/>
                <a:ea typeface="Palatino"/>
              </a:rPr>
              <a:t>”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TM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, </a:t>
            </a:r>
            <a:r>
              <a:rPr b="1" lang="en-US" sz="3200" spc="-1" strike="noStrike">
                <a:solidFill>
                  <a:srgbClr val="7fff00"/>
                </a:solidFill>
                <a:latin typeface="Palatino"/>
                <a:ea typeface="Palatino"/>
              </a:rPr>
              <a:t>Tek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937120" y="1504800"/>
            <a:ext cx="294948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a  rekord-felvételek  között  kb.  2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a  holtidõ  (8 ms  helyett!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98480" y="1324080"/>
            <a:ext cx="4010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agyományos  “él”vezérl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standard  “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ed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rás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sour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satolás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coupl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zint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leve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eredekség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slop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ésleltetés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dela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pretrigge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negative dela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iltás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hold-off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884840" y="1247760"/>
            <a:ext cx="4010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ûködési mód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gyszeres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sing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dított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norma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UTOmatik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szekvenci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(szegmentá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emória eseté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peciál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és összete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rigger feltétel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619200" y="577800"/>
            <a:ext cx="865512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unt Pulse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460840" y="2478240"/>
            <a:ext cx="565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5486400" y="4992840"/>
            <a:ext cx="48888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971720" y="3051000"/>
            <a:ext cx="4711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59120" y="3425760"/>
            <a:ext cx="4711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900520"/>
            <a:ext cx="4872240" cy="705240"/>
          </a:xfrm>
          <a:custGeom>
            <a:avLst/>
            <a:gdLst/>
            <a:ahLst/>
            <a:rect l="0" t="0" r="r" b="b"/>
            <a:pathLst>
              <a:path fill="none" w="13534" h="1959">
                <a:moveTo>
                  <a:pt x="0" y="1959"/>
                </a:moveTo>
                <a:lnTo>
                  <a:pt x="3373" y="1959"/>
                </a:lnTo>
                <a:lnTo>
                  <a:pt x="3373" y="0"/>
                </a:lnTo>
                <a:lnTo>
                  <a:pt x="5754" y="0"/>
                </a:lnTo>
                <a:lnTo>
                  <a:pt x="5754" y="1959"/>
                </a:lnTo>
                <a:lnTo>
                  <a:pt x="10875" y="1959"/>
                </a:lnTo>
                <a:lnTo>
                  <a:pt x="10875" y="834"/>
                </a:lnTo>
                <a:lnTo>
                  <a:pt x="11827" y="834"/>
                </a:lnTo>
                <a:lnTo>
                  <a:pt x="11827" y="1959"/>
                </a:lnTo>
                <a:lnTo>
                  <a:pt x="13534" y="1959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71720" y="4863960"/>
            <a:ext cx="4711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59120" y="4489560"/>
            <a:ext cx="4711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97200" y="4309920"/>
            <a:ext cx="4872240" cy="705240"/>
          </a:xfrm>
          <a:custGeom>
            <a:avLst/>
            <a:gdLst/>
            <a:ahLst/>
            <a:rect l="0" t="0" r="r" b="b"/>
            <a:pathLst>
              <a:path fill="none" w="13534" h="1959">
                <a:moveTo>
                  <a:pt x="0" y="0"/>
                </a:moveTo>
                <a:lnTo>
                  <a:pt x="3373" y="0"/>
                </a:lnTo>
                <a:lnTo>
                  <a:pt x="3373" y="1959"/>
                </a:lnTo>
                <a:lnTo>
                  <a:pt x="5754" y="1959"/>
                </a:lnTo>
                <a:lnTo>
                  <a:pt x="5754" y="0"/>
                </a:lnTo>
                <a:lnTo>
                  <a:pt x="10875" y="0"/>
                </a:lnTo>
                <a:lnTo>
                  <a:pt x="10875" y="1125"/>
                </a:lnTo>
                <a:lnTo>
                  <a:pt x="11827" y="1125"/>
                </a:lnTo>
                <a:lnTo>
                  <a:pt x="11827" y="0"/>
                </a:lnTo>
                <a:lnTo>
                  <a:pt x="13534" y="0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062240" y="3792600"/>
            <a:ext cx="36892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On Crossing One Threshold Tw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290600" y="1460520"/>
            <a:ext cx="7491240" cy="14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elõírt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amplitúdó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korlátnál kisebb , csak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egy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szintérték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átlépõ impulzus  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(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“törpe” pulzus detektor,  pl.: 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TRIstate Bus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67360" y="3048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7360" y="342900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67360" y="44956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67360" y="48769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324560" y="2819520"/>
            <a:ext cx="6382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7324560" y="4267080"/>
            <a:ext cx="6382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311960" y="3276720"/>
            <a:ext cx="6764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300800" y="4727520"/>
            <a:ext cx="938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927840" y="2459160"/>
            <a:ext cx="7430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imit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619200" y="577800"/>
            <a:ext cx="863424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lew-Rate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27640" y="497376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86600" y="3014640"/>
            <a:ext cx="0" cy="25909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051600" y="5621400"/>
            <a:ext cx="19954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If Faster 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48520" y="5605560"/>
            <a:ext cx="14842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80000" y="4973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89840" y="5030640"/>
            <a:ext cx="169848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lower 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470400" y="5621400"/>
            <a:ext cx="19954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If Faster 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65600" y="5592600"/>
            <a:ext cx="1500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719520" y="5022720"/>
            <a:ext cx="168588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lower 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39920" y="4824360"/>
            <a:ext cx="4513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39920" y="3013200"/>
            <a:ext cx="4513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617920" y="2766960"/>
            <a:ext cx="5484960" cy="2240280"/>
            <a:chOff x="2617920" y="2766960"/>
            <a:chExt cx="5484960" cy="2240280"/>
          </a:xfrm>
        </p:grpSpPr>
        <p:sp>
          <p:nvSpPr>
            <p:cNvPr id="593" name=""/>
            <p:cNvSpPr/>
            <p:nvPr/>
          </p:nvSpPr>
          <p:spPr>
            <a:xfrm>
              <a:off x="2617920" y="2766960"/>
              <a:ext cx="2991240" cy="2240280"/>
            </a:xfrm>
            <a:custGeom>
              <a:avLst/>
              <a:gdLst/>
              <a:ahLst/>
              <a:rect l="0" t="0" r="r" b="b"/>
              <a:pathLst>
                <a:path fill="none" w="8309" h="6223">
                  <a:moveTo>
                    <a:pt x="1056" y="6223"/>
                  </a:moveTo>
                  <a:lnTo>
                    <a:pt x="0" y="6218"/>
                  </a:lnTo>
                  <a:lnTo>
                    <a:pt x="295" y="6218"/>
                  </a:lnTo>
                  <a:lnTo>
                    <a:pt x="432" y="6218"/>
                  </a:lnTo>
                  <a:lnTo>
                    <a:pt x="563" y="6218"/>
                  </a:lnTo>
                  <a:lnTo>
                    <a:pt x="689" y="6218"/>
                  </a:lnTo>
                  <a:lnTo>
                    <a:pt x="820" y="6218"/>
                  </a:lnTo>
                  <a:lnTo>
                    <a:pt x="952" y="6218"/>
                  </a:lnTo>
                  <a:lnTo>
                    <a:pt x="1138" y="6218"/>
                  </a:lnTo>
                  <a:lnTo>
                    <a:pt x="1220" y="6218"/>
                  </a:lnTo>
                  <a:lnTo>
                    <a:pt x="1351" y="6218"/>
                  </a:lnTo>
                  <a:lnTo>
                    <a:pt x="1477" y="6218"/>
                  </a:lnTo>
                  <a:lnTo>
                    <a:pt x="1614" y="6218"/>
                  </a:lnTo>
                  <a:lnTo>
                    <a:pt x="1751" y="6218"/>
                  </a:lnTo>
                  <a:lnTo>
                    <a:pt x="1882" y="6218"/>
                  </a:lnTo>
                  <a:lnTo>
                    <a:pt x="2014" y="6197"/>
                  </a:lnTo>
                  <a:lnTo>
                    <a:pt x="2146" y="6176"/>
                  </a:lnTo>
                  <a:lnTo>
                    <a:pt x="2277" y="6138"/>
                  </a:lnTo>
                  <a:lnTo>
                    <a:pt x="2409" y="6092"/>
                  </a:lnTo>
                  <a:lnTo>
                    <a:pt x="2540" y="6050"/>
                  </a:lnTo>
                  <a:lnTo>
                    <a:pt x="2688" y="5982"/>
                  </a:lnTo>
                  <a:lnTo>
                    <a:pt x="2835" y="5894"/>
                  </a:lnTo>
                  <a:lnTo>
                    <a:pt x="2950" y="5806"/>
                  </a:lnTo>
                  <a:lnTo>
                    <a:pt x="3065" y="5713"/>
                  </a:lnTo>
                  <a:lnTo>
                    <a:pt x="3158" y="5616"/>
                  </a:lnTo>
                  <a:lnTo>
                    <a:pt x="3240" y="5511"/>
                  </a:lnTo>
                  <a:lnTo>
                    <a:pt x="3350" y="5380"/>
                  </a:lnTo>
                  <a:lnTo>
                    <a:pt x="3427" y="5203"/>
                  </a:lnTo>
                  <a:lnTo>
                    <a:pt x="3531" y="5043"/>
                  </a:lnTo>
                  <a:lnTo>
                    <a:pt x="3613" y="4887"/>
                  </a:lnTo>
                  <a:lnTo>
                    <a:pt x="3706" y="4710"/>
                  </a:lnTo>
                  <a:lnTo>
                    <a:pt x="3788" y="4542"/>
                  </a:lnTo>
                  <a:lnTo>
                    <a:pt x="3875" y="4382"/>
                  </a:lnTo>
                  <a:lnTo>
                    <a:pt x="3930" y="4247"/>
                  </a:lnTo>
                  <a:lnTo>
                    <a:pt x="4007" y="4112"/>
                  </a:lnTo>
                  <a:lnTo>
                    <a:pt x="4061" y="3977"/>
                  </a:lnTo>
                  <a:lnTo>
                    <a:pt x="4127" y="3800"/>
                  </a:lnTo>
                  <a:lnTo>
                    <a:pt x="4182" y="3691"/>
                  </a:lnTo>
                  <a:lnTo>
                    <a:pt x="4237" y="3556"/>
                  </a:lnTo>
                  <a:lnTo>
                    <a:pt x="4302" y="3417"/>
                  </a:lnTo>
                  <a:lnTo>
                    <a:pt x="4341" y="3291"/>
                  </a:lnTo>
                  <a:lnTo>
                    <a:pt x="4390" y="3189"/>
                  </a:lnTo>
                  <a:lnTo>
                    <a:pt x="4434" y="3071"/>
                  </a:lnTo>
                  <a:lnTo>
                    <a:pt x="4477" y="2944"/>
                  </a:lnTo>
                  <a:lnTo>
                    <a:pt x="4538" y="2725"/>
                  </a:lnTo>
                  <a:lnTo>
                    <a:pt x="4587" y="2590"/>
                  </a:lnTo>
                  <a:lnTo>
                    <a:pt x="4625" y="2460"/>
                  </a:lnTo>
                  <a:lnTo>
                    <a:pt x="4663" y="2321"/>
                  </a:lnTo>
                  <a:lnTo>
                    <a:pt x="4696" y="2262"/>
                  </a:lnTo>
                  <a:lnTo>
                    <a:pt x="4746" y="2097"/>
                  </a:lnTo>
                  <a:lnTo>
                    <a:pt x="4784" y="1954"/>
                  </a:lnTo>
                  <a:lnTo>
                    <a:pt x="4828" y="1811"/>
                  </a:lnTo>
                  <a:lnTo>
                    <a:pt x="4893" y="1638"/>
                  </a:lnTo>
                  <a:lnTo>
                    <a:pt x="4948" y="1524"/>
                  </a:lnTo>
                  <a:lnTo>
                    <a:pt x="5003" y="1407"/>
                  </a:lnTo>
                  <a:lnTo>
                    <a:pt x="5057" y="1259"/>
                  </a:lnTo>
                  <a:lnTo>
                    <a:pt x="5090" y="1166"/>
                  </a:lnTo>
                  <a:lnTo>
                    <a:pt x="5140" y="1002"/>
                  </a:lnTo>
                  <a:lnTo>
                    <a:pt x="5200" y="872"/>
                  </a:lnTo>
                  <a:lnTo>
                    <a:pt x="5238" y="783"/>
                  </a:lnTo>
                  <a:lnTo>
                    <a:pt x="5315" y="657"/>
                  </a:lnTo>
                  <a:lnTo>
                    <a:pt x="5391" y="535"/>
                  </a:lnTo>
                  <a:lnTo>
                    <a:pt x="5468" y="408"/>
                  </a:lnTo>
                  <a:lnTo>
                    <a:pt x="5599" y="282"/>
                  </a:lnTo>
                  <a:lnTo>
                    <a:pt x="5736" y="189"/>
                  </a:lnTo>
                  <a:lnTo>
                    <a:pt x="5906" y="134"/>
                  </a:lnTo>
                  <a:lnTo>
                    <a:pt x="6037" y="92"/>
                  </a:lnTo>
                  <a:lnTo>
                    <a:pt x="6168" y="71"/>
                  </a:lnTo>
                  <a:lnTo>
                    <a:pt x="6290" y="46"/>
                  </a:lnTo>
                  <a:lnTo>
                    <a:pt x="6416" y="33"/>
                  </a:lnTo>
                  <a:lnTo>
                    <a:pt x="6553" y="16"/>
                  </a:lnTo>
                  <a:lnTo>
                    <a:pt x="6689" y="16"/>
                  </a:lnTo>
                  <a:lnTo>
                    <a:pt x="6826" y="0"/>
                  </a:lnTo>
                  <a:lnTo>
                    <a:pt x="6974" y="0"/>
                  </a:lnTo>
                  <a:lnTo>
                    <a:pt x="7122" y="0"/>
                  </a:lnTo>
                  <a:lnTo>
                    <a:pt x="7286" y="4"/>
                  </a:lnTo>
                  <a:lnTo>
                    <a:pt x="7428" y="4"/>
                  </a:lnTo>
                  <a:lnTo>
                    <a:pt x="7576" y="4"/>
                  </a:lnTo>
                  <a:lnTo>
                    <a:pt x="7707" y="4"/>
                  </a:lnTo>
                  <a:lnTo>
                    <a:pt x="7866" y="0"/>
                  </a:lnTo>
                  <a:lnTo>
                    <a:pt x="8003" y="4"/>
                  </a:lnTo>
                  <a:lnTo>
                    <a:pt x="8134" y="0"/>
                  </a:lnTo>
                  <a:lnTo>
                    <a:pt x="8309" y="4"/>
                  </a:lnTo>
                  <a:lnTo>
                    <a:pt x="7516" y="4"/>
                  </a:lnTo>
                  <a:lnTo>
                    <a:pt x="7855" y="4"/>
                  </a:lnTo>
                  <a:lnTo>
                    <a:pt x="7904" y="0"/>
                  </a:lnTo>
                  <a:lnTo>
                    <a:pt x="8222" y="4"/>
                  </a:lnTo>
                  <a:lnTo>
                    <a:pt x="8309" y="4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11640" y="2766960"/>
              <a:ext cx="2991240" cy="2240280"/>
            </a:xfrm>
            <a:custGeom>
              <a:avLst/>
              <a:gdLst/>
              <a:ahLst/>
              <a:rect l="0" t="0" r="r" b="b"/>
              <a:pathLst>
                <a:path fill="none" w="8309" h="6223">
                  <a:moveTo>
                    <a:pt x="7253" y="6223"/>
                  </a:moveTo>
                  <a:lnTo>
                    <a:pt x="8309" y="6218"/>
                  </a:lnTo>
                  <a:lnTo>
                    <a:pt x="8014" y="6218"/>
                  </a:lnTo>
                  <a:lnTo>
                    <a:pt x="7877" y="6218"/>
                  </a:lnTo>
                  <a:lnTo>
                    <a:pt x="7746" y="6218"/>
                  </a:lnTo>
                  <a:lnTo>
                    <a:pt x="7620" y="6218"/>
                  </a:lnTo>
                  <a:lnTo>
                    <a:pt x="7488" y="6218"/>
                  </a:lnTo>
                  <a:lnTo>
                    <a:pt x="7357" y="6218"/>
                  </a:lnTo>
                  <a:lnTo>
                    <a:pt x="7171" y="6218"/>
                  </a:lnTo>
                  <a:lnTo>
                    <a:pt x="7089" y="6218"/>
                  </a:lnTo>
                  <a:lnTo>
                    <a:pt x="6958" y="6218"/>
                  </a:lnTo>
                  <a:lnTo>
                    <a:pt x="6832" y="6218"/>
                  </a:lnTo>
                  <a:lnTo>
                    <a:pt x="6695" y="6218"/>
                  </a:lnTo>
                  <a:lnTo>
                    <a:pt x="6558" y="6218"/>
                  </a:lnTo>
                  <a:lnTo>
                    <a:pt x="6427" y="6218"/>
                  </a:lnTo>
                  <a:lnTo>
                    <a:pt x="6295" y="6197"/>
                  </a:lnTo>
                  <a:lnTo>
                    <a:pt x="6163" y="6176"/>
                  </a:lnTo>
                  <a:lnTo>
                    <a:pt x="6032" y="6138"/>
                  </a:lnTo>
                  <a:lnTo>
                    <a:pt x="5900" y="6092"/>
                  </a:lnTo>
                  <a:lnTo>
                    <a:pt x="5769" y="6050"/>
                  </a:lnTo>
                  <a:lnTo>
                    <a:pt x="5621" y="5982"/>
                  </a:lnTo>
                  <a:lnTo>
                    <a:pt x="5473" y="5894"/>
                  </a:lnTo>
                  <a:lnTo>
                    <a:pt x="5359" y="5806"/>
                  </a:lnTo>
                  <a:lnTo>
                    <a:pt x="5244" y="5713"/>
                  </a:lnTo>
                  <a:lnTo>
                    <a:pt x="5151" y="5616"/>
                  </a:lnTo>
                  <a:lnTo>
                    <a:pt x="5068" y="5511"/>
                  </a:lnTo>
                  <a:lnTo>
                    <a:pt x="4959" y="5380"/>
                  </a:lnTo>
                  <a:lnTo>
                    <a:pt x="4882" y="5203"/>
                  </a:lnTo>
                  <a:lnTo>
                    <a:pt x="4778" y="5043"/>
                  </a:lnTo>
                  <a:lnTo>
                    <a:pt x="4696" y="4887"/>
                  </a:lnTo>
                  <a:lnTo>
                    <a:pt x="4603" y="4710"/>
                  </a:lnTo>
                  <a:lnTo>
                    <a:pt x="4521" y="4542"/>
                  </a:lnTo>
                  <a:lnTo>
                    <a:pt x="4434" y="4382"/>
                  </a:lnTo>
                  <a:lnTo>
                    <a:pt x="4379" y="4247"/>
                  </a:lnTo>
                  <a:lnTo>
                    <a:pt x="4302" y="4112"/>
                  </a:lnTo>
                  <a:lnTo>
                    <a:pt x="4247" y="3977"/>
                  </a:lnTo>
                  <a:lnTo>
                    <a:pt x="4182" y="3800"/>
                  </a:lnTo>
                  <a:lnTo>
                    <a:pt x="4127" y="3691"/>
                  </a:lnTo>
                  <a:lnTo>
                    <a:pt x="4072" y="3556"/>
                  </a:lnTo>
                  <a:lnTo>
                    <a:pt x="4007" y="3417"/>
                  </a:lnTo>
                  <a:lnTo>
                    <a:pt x="3968" y="3291"/>
                  </a:lnTo>
                  <a:lnTo>
                    <a:pt x="3919" y="3189"/>
                  </a:lnTo>
                  <a:lnTo>
                    <a:pt x="3875" y="3071"/>
                  </a:lnTo>
                  <a:lnTo>
                    <a:pt x="3832" y="2944"/>
                  </a:lnTo>
                  <a:lnTo>
                    <a:pt x="3771" y="2725"/>
                  </a:lnTo>
                  <a:lnTo>
                    <a:pt x="3722" y="2590"/>
                  </a:lnTo>
                  <a:lnTo>
                    <a:pt x="3684" y="2460"/>
                  </a:lnTo>
                  <a:lnTo>
                    <a:pt x="3645" y="2321"/>
                  </a:lnTo>
                  <a:lnTo>
                    <a:pt x="3613" y="2262"/>
                  </a:lnTo>
                  <a:lnTo>
                    <a:pt x="3563" y="2097"/>
                  </a:lnTo>
                  <a:lnTo>
                    <a:pt x="3525" y="1954"/>
                  </a:lnTo>
                  <a:lnTo>
                    <a:pt x="3481" y="1811"/>
                  </a:lnTo>
                  <a:lnTo>
                    <a:pt x="3416" y="1638"/>
                  </a:lnTo>
                  <a:lnTo>
                    <a:pt x="3361" y="1524"/>
                  </a:lnTo>
                  <a:lnTo>
                    <a:pt x="3306" y="1407"/>
                  </a:lnTo>
                  <a:lnTo>
                    <a:pt x="3251" y="1259"/>
                  </a:lnTo>
                  <a:lnTo>
                    <a:pt x="3219" y="1166"/>
                  </a:lnTo>
                  <a:lnTo>
                    <a:pt x="3169" y="1002"/>
                  </a:lnTo>
                  <a:lnTo>
                    <a:pt x="3109" y="872"/>
                  </a:lnTo>
                  <a:lnTo>
                    <a:pt x="3071" y="783"/>
                  </a:lnTo>
                  <a:lnTo>
                    <a:pt x="2994" y="657"/>
                  </a:lnTo>
                  <a:lnTo>
                    <a:pt x="2918" y="535"/>
                  </a:lnTo>
                  <a:lnTo>
                    <a:pt x="2841" y="408"/>
                  </a:lnTo>
                  <a:lnTo>
                    <a:pt x="2710" y="282"/>
                  </a:lnTo>
                  <a:lnTo>
                    <a:pt x="2573" y="189"/>
                  </a:lnTo>
                  <a:lnTo>
                    <a:pt x="2403" y="134"/>
                  </a:lnTo>
                  <a:lnTo>
                    <a:pt x="2272" y="92"/>
                  </a:lnTo>
                  <a:lnTo>
                    <a:pt x="2140" y="71"/>
                  </a:lnTo>
                  <a:lnTo>
                    <a:pt x="2019" y="46"/>
                  </a:lnTo>
                  <a:lnTo>
                    <a:pt x="1893" y="33"/>
                  </a:lnTo>
                  <a:lnTo>
                    <a:pt x="1756" y="16"/>
                  </a:lnTo>
                  <a:lnTo>
                    <a:pt x="1619" y="16"/>
                  </a:lnTo>
                  <a:lnTo>
                    <a:pt x="1483" y="0"/>
                  </a:lnTo>
                  <a:lnTo>
                    <a:pt x="1335" y="0"/>
                  </a:lnTo>
                  <a:lnTo>
                    <a:pt x="1187" y="0"/>
                  </a:lnTo>
                  <a:lnTo>
                    <a:pt x="1023" y="4"/>
                  </a:lnTo>
                  <a:lnTo>
                    <a:pt x="881" y="4"/>
                  </a:lnTo>
                  <a:lnTo>
                    <a:pt x="733" y="4"/>
                  </a:lnTo>
                  <a:lnTo>
                    <a:pt x="602" y="4"/>
                  </a:lnTo>
                  <a:lnTo>
                    <a:pt x="443" y="0"/>
                  </a:lnTo>
                  <a:lnTo>
                    <a:pt x="306" y="4"/>
                  </a:lnTo>
                  <a:lnTo>
                    <a:pt x="175" y="0"/>
                  </a:lnTo>
                  <a:lnTo>
                    <a:pt x="0" y="4"/>
                  </a:lnTo>
                  <a:lnTo>
                    <a:pt x="793" y="4"/>
                  </a:lnTo>
                  <a:lnTo>
                    <a:pt x="454" y="4"/>
                  </a:lnTo>
                  <a:lnTo>
                    <a:pt x="404" y="0"/>
                  </a:lnTo>
                  <a:lnTo>
                    <a:pt x="87" y="4"/>
                  </a:lnTo>
                  <a:lnTo>
                    <a:pt x="0" y="4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"/>
          <p:cNvSpPr txBox="1"/>
          <p:nvPr/>
        </p:nvSpPr>
        <p:spPr>
          <a:xfrm>
            <a:off x="1644480" y="2855880"/>
            <a:ext cx="69228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863720" y="4640400"/>
            <a:ext cx="5572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11800" y="2755800"/>
            <a:ext cx="0" cy="284976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329000" y="3546360"/>
            <a:ext cx="0" cy="14605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527720" y="3003480"/>
            <a:ext cx="0" cy="5065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728880" y="3214800"/>
            <a:ext cx="0" cy="23907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754440" y="3360600"/>
            <a:ext cx="746280" cy="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224760" y="4192560"/>
            <a:ext cx="749160" cy="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392200" y="3191040"/>
            <a:ext cx="13572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ow-to-HI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polar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116840" y="3876840"/>
            <a:ext cx="135720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-to-Lo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lar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55920" y="480996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09840" y="299088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781760" y="5105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791400" y="46483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7020000" y="4114800"/>
            <a:ext cx="0" cy="685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728800" y="1460520"/>
            <a:ext cx="46116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túl  gyors  (vagy lassú)  jel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válto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685960" y="5249880"/>
            <a:ext cx="7430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imit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619200" y="577800"/>
            <a:ext cx="863424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Width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184640" y="3252960"/>
            <a:ext cx="53964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232080" y="2935440"/>
            <a:ext cx="565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206880" y="4637160"/>
            <a:ext cx="48888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187960" y="3735360"/>
            <a:ext cx="53964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003560" y="2835360"/>
            <a:ext cx="0" cy="25016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111720" y="2835360"/>
            <a:ext cx="0" cy="2501640"/>
          </a:xfrm>
          <a:prstGeom prst="line">
            <a:avLst/>
          </a:prstGeom>
          <a:ln w="38160">
            <a:solidFill>
              <a:srgbClr val="ffffff"/>
            </a:solidFill>
            <a:custDash>
              <a:ds d="66981" sp="66981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879800" y="2835360"/>
            <a:ext cx="0" cy="2501640"/>
          </a:xfrm>
          <a:prstGeom prst="line">
            <a:avLst/>
          </a:prstGeom>
          <a:ln w="38160">
            <a:solidFill>
              <a:srgbClr val="ffffff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3807000"/>
            <a:ext cx="797040" cy="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73400" y="4257720"/>
            <a:ext cx="1959120" cy="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89160" y="2911320"/>
            <a:ext cx="3562560" cy="686160"/>
          </a:xfrm>
          <a:custGeom>
            <a:avLst/>
            <a:gdLst/>
            <a:ahLst/>
            <a:rect l="0" t="0" r="r" b="b"/>
            <a:pathLst>
              <a:path fill="none" w="9896" h="1906">
                <a:moveTo>
                  <a:pt x="0" y="1906"/>
                </a:moveTo>
                <a:lnTo>
                  <a:pt x="2363" y="1906"/>
                </a:lnTo>
                <a:lnTo>
                  <a:pt x="2416" y="1853"/>
                </a:lnTo>
                <a:lnTo>
                  <a:pt x="2416" y="1870"/>
                </a:lnTo>
                <a:lnTo>
                  <a:pt x="2504" y="1800"/>
                </a:lnTo>
                <a:lnTo>
                  <a:pt x="2610" y="1676"/>
                </a:lnTo>
                <a:lnTo>
                  <a:pt x="2663" y="1517"/>
                </a:lnTo>
                <a:lnTo>
                  <a:pt x="2734" y="1341"/>
                </a:lnTo>
                <a:lnTo>
                  <a:pt x="2751" y="1147"/>
                </a:lnTo>
                <a:lnTo>
                  <a:pt x="2804" y="971"/>
                </a:lnTo>
                <a:lnTo>
                  <a:pt x="2875" y="670"/>
                </a:lnTo>
                <a:lnTo>
                  <a:pt x="2928" y="476"/>
                </a:lnTo>
                <a:lnTo>
                  <a:pt x="3016" y="317"/>
                </a:lnTo>
                <a:lnTo>
                  <a:pt x="3122" y="176"/>
                </a:lnTo>
                <a:lnTo>
                  <a:pt x="3298" y="105"/>
                </a:lnTo>
                <a:lnTo>
                  <a:pt x="3492" y="35"/>
                </a:lnTo>
                <a:lnTo>
                  <a:pt x="3633" y="35"/>
                </a:lnTo>
                <a:lnTo>
                  <a:pt x="4321" y="17"/>
                </a:lnTo>
                <a:lnTo>
                  <a:pt x="4975" y="0"/>
                </a:lnTo>
                <a:lnTo>
                  <a:pt x="5698" y="35"/>
                </a:lnTo>
                <a:lnTo>
                  <a:pt x="6227" y="88"/>
                </a:lnTo>
                <a:lnTo>
                  <a:pt x="6333" y="123"/>
                </a:lnTo>
                <a:lnTo>
                  <a:pt x="6509" y="211"/>
                </a:lnTo>
                <a:lnTo>
                  <a:pt x="6597" y="335"/>
                </a:lnTo>
                <a:lnTo>
                  <a:pt x="6686" y="458"/>
                </a:lnTo>
                <a:lnTo>
                  <a:pt x="6756" y="687"/>
                </a:lnTo>
                <a:lnTo>
                  <a:pt x="7021" y="1323"/>
                </a:lnTo>
                <a:lnTo>
                  <a:pt x="7127" y="1570"/>
                </a:lnTo>
                <a:lnTo>
                  <a:pt x="7268" y="1729"/>
                </a:lnTo>
                <a:lnTo>
                  <a:pt x="7356" y="1817"/>
                </a:lnTo>
                <a:lnTo>
                  <a:pt x="7515" y="1906"/>
                </a:lnTo>
                <a:lnTo>
                  <a:pt x="9896" y="1906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127320" y="4410000"/>
            <a:ext cx="3562560" cy="686160"/>
          </a:xfrm>
          <a:custGeom>
            <a:avLst/>
            <a:gdLst/>
            <a:ahLst/>
            <a:rect l="0" t="0" r="r" b="b"/>
            <a:pathLst>
              <a:path fill="none" w="9896" h="1906">
                <a:moveTo>
                  <a:pt x="0" y="0"/>
                </a:moveTo>
                <a:lnTo>
                  <a:pt x="2363" y="0"/>
                </a:lnTo>
                <a:lnTo>
                  <a:pt x="2416" y="52"/>
                </a:lnTo>
                <a:lnTo>
                  <a:pt x="2416" y="35"/>
                </a:lnTo>
                <a:lnTo>
                  <a:pt x="2504" y="105"/>
                </a:lnTo>
                <a:lnTo>
                  <a:pt x="2610" y="229"/>
                </a:lnTo>
                <a:lnTo>
                  <a:pt x="2663" y="388"/>
                </a:lnTo>
                <a:lnTo>
                  <a:pt x="2734" y="564"/>
                </a:lnTo>
                <a:lnTo>
                  <a:pt x="2751" y="758"/>
                </a:lnTo>
                <a:lnTo>
                  <a:pt x="2804" y="934"/>
                </a:lnTo>
                <a:lnTo>
                  <a:pt x="2875" y="1235"/>
                </a:lnTo>
                <a:lnTo>
                  <a:pt x="2928" y="1429"/>
                </a:lnTo>
                <a:lnTo>
                  <a:pt x="3016" y="1588"/>
                </a:lnTo>
                <a:lnTo>
                  <a:pt x="3122" y="1729"/>
                </a:lnTo>
                <a:lnTo>
                  <a:pt x="3298" y="1800"/>
                </a:lnTo>
                <a:lnTo>
                  <a:pt x="3492" y="1870"/>
                </a:lnTo>
                <a:lnTo>
                  <a:pt x="3633" y="1870"/>
                </a:lnTo>
                <a:lnTo>
                  <a:pt x="4321" y="1888"/>
                </a:lnTo>
                <a:lnTo>
                  <a:pt x="4975" y="1906"/>
                </a:lnTo>
                <a:lnTo>
                  <a:pt x="5698" y="1870"/>
                </a:lnTo>
                <a:lnTo>
                  <a:pt x="6227" y="1817"/>
                </a:lnTo>
                <a:lnTo>
                  <a:pt x="6333" y="1782"/>
                </a:lnTo>
                <a:lnTo>
                  <a:pt x="6509" y="1694"/>
                </a:lnTo>
                <a:lnTo>
                  <a:pt x="6597" y="1570"/>
                </a:lnTo>
                <a:lnTo>
                  <a:pt x="6686" y="1447"/>
                </a:lnTo>
                <a:lnTo>
                  <a:pt x="6756" y="1218"/>
                </a:lnTo>
                <a:lnTo>
                  <a:pt x="7021" y="582"/>
                </a:lnTo>
                <a:lnTo>
                  <a:pt x="7127" y="335"/>
                </a:lnTo>
                <a:lnTo>
                  <a:pt x="7268" y="176"/>
                </a:lnTo>
                <a:lnTo>
                  <a:pt x="7356" y="88"/>
                </a:lnTo>
                <a:lnTo>
                  <a:pt x="7515" y="0"/>
                </a:lnTo>
                <a:lnTo>
                  <a:pt x="9896" y="0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156200" y="5392800"/>
            <a:ext cx="25876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On Inside Or Outsi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87400" y="1460520"/>
            <a:ext cx="8294760" cy="10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két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idõ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korlát közé (vagy azokon kívül) esõ szélességû impulz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( pl.: 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clock  jitter;  mem. write enable;  comm. protocol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117960" y="3906720"/>
            <a:ext cx="7430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imit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619200" y="577800"/>
            <a:ext cx="863424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Glitch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844880" y="2728800"/>
            <a:ext cx="565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870440" y="4786200"/>
            <a:ext cx="48888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006880" y="3352680"/>
            <a:ext cx="6987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6140520" y="3352680"/>
            <a:ext cx="8031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019840" y="4622760"/>
            <a:ext cx="6793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868400" y="3219480"/>
            <a:ext cx="5415480" cy="405000"/>
          </a:xfrm>
          <a:custGeom>
            <a:avLst/>
            <a:gdLst/>
            <a:ahLst/>
            <a:rect l="0" t="0" r="r" b="b"/>
            <a:pathLst>
              <a:path fill="none" w="15043" h="1125">
                <a:moveTo>
                  <a:pt x="0" y="1125"/>
                </a:moveTo>
                <a:lnTo>
                  <a:pt x="3333" y="1125"/>
                </a:lnTo>
                <a:lnTo>
                  <a:pt x="3333" y="0"/>
                </a:lnTo>
                <a:lnTo>
                  <a:pt x="7025" y="0"/>
                </a:lnTo>
                <a:lnTo>
                  <a:pt x="7025" y="1125"/>
                </a:lnTo>
                <a:lnTo>
                  <a:pt x="10796" y="1125"/>
                </a:lnTo>
                <a:lnTo>
                  <a:pt x="10796" y="39"/>
                </a:lnTo>
                <a:lnTo>
                  <a:pt x="11789" y="39"/>
                </a:lnTo>
                <a:lnTo>
                  <a:pt x="11789" y="1125"/>
                </a:lnTo>
                <a:lnTo>
                  <a:pt x="15043" y="1125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68400" y="4352760"/>
            <a:ext cx="5415480" cy="405000"/>
          </a:xfrm>
          <a:custGeom>
            <a:avLst/>
            <a:gdLst/>
            <a:ahLst/>
            <a:rect l="0" t="0" r="r" b="b"/>
            <a:pathLst>
              <a:path fill="none" w="15043" h="1125">
                <a:moveTo>
                  <a:pt x="0" y="0"/>
                </a:moveTo>
                <a:lnTo>
                  <a:pt x="3333" y="0"/>
                </a:lnTo>
                <a:lnTo>
                  <a:pt x="3333" y="1125"/>
                </a:lnTo>
                <a:lnTo>
                  <a:pt x="7025" y="1125"/>
                </a:lnTo>
                <a:lnTo>
                  <a:pt x="7025" y="0"/>
                </a:lnTo>
                <a:lnTo>
                  <a:pt x="10796" y="0"/>
                </a:lnTo>
                <a:lnTo>
                  <a:pt x="10796" y="1085"/>
                </a:lnTo>
                <a:lnTo>
                  <a:pt x="11789" y="1085"/>
                </a:lnTo>
                <a:lnTo>
                  <a:pt x="11789" y="0"/>
                </a:lnTo>
                <a:lnTo>
                  <a:pt x="15043" y="0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743360" y="3792600"/>
            <a:ext cx="232740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If  Narrower 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6140520" y="4648320"/>
            <a:ext cx="8031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576440" y="1460520"/>
            <a:ext cx="69166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elõírt 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idõ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korlátnál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kisebb  impulzus ( tüske: 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Glitch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34800" y="361800"/>
            <a:ext cx="904860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1: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Glitch-figyelé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(</a:t>
            </a:r>
            <a:r>
              <a:rPr b="1" lang="en-US" sz="3600" spc="-1" strike="noStrike">
                <a:solidFill>
                  <a:srgbClr val="7fff00"/>
                </a:solidFill>
                <a:latin typeface="Palatino"/>
                <a:ea typeface="Palatino"/>
              </a:rPr>
              <a:t>Peak detect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vagy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2: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Glitch” trigger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27080" y="1752480"/>
            <a:ext cx="817236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:  Peak-detect  ( ...“lassú” idõalap  kell!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gtalálja  az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smeretl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améterû  zavar-je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lveszti a “holtidõben” (vagy ritkán) fellépõ “tüské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fontos jellemzõ még:  frissítési gyakorisá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:  “Glitch” trig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elõ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finiálni  kell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 zavar-jel  paraméter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+  a “tüske”  pozícionálja  a  rekord-felvét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 ...”gyors” idõalap,  “ritka” glitch  is  lehet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619200" y="577800"/>
            <a:ext cx="863424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ime-out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260960" y="3481560"/>
            <a:ext cx="369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232080" y="2935440"/>
            <a:ext cx="565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206880" y="4637160"/>
            <a:ext cx="48888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003560" y="2835360"/>
            <a:ext cx="0" cy="25016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879800" y="2835360"/>
            <a:ext cx="0" cy="2501640"/>
          </a:xfrm>
          <a:prstGeom prst="line">
            <a:avLst/>
          </a:prstGeom>
          <a:ln w="38160">
            <a:solidFill>
              <a:srgbClr val="ffffff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38480" y="4035600"/>
            <a:ext cx="797040" cy="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89160" y="2911320"/>
            <a:ext cx="3562560" cy="686160"/>
          </a:xfrm>
          <a:custGeom>
            <a:avLst/>
            <a:gdLst/>
            <a:ahLst/>
            <a:rect l="0" t="0" r="r" b="b"/>
            <a:pathLst>
              <a:path fill="none" w="9896" h="1906">
                <a:moveTo>
                  <a:pt x="0" y="1906"/>
                </a:moveTo>
                <a:lnTo>
                  <a:pt x="2363" y="1906"/>
                </a:lnTo>
                <a:lnTo>
                  <a:pt x="2416" y="1853"/>
                </a:lnTo>
                <a:lnTo>
                  <a:pt x="2416" y="1870"/>
                </a:lnTo>
                <a:lnTo>
                  <a:pt x="2504" y="1800"/>
                </a:lnTo>
                <a:lnTo>
                  <a:pt x="2610" y="1676"/>
                </a:lnTo>
                <a:lnTo>
                  <a:pt x="2663" y="1517"/>
                </a:lnTo>
                <a:lnTo>
                  <a:pt x="2734" y="1341"/>
                </a:lnTo>
                <a:lnTo>
                  <a:pt x="2751" y="1147"/>
                </a:lnTo>
                <a:lnTo>
                  <a:pt x="2804" y="971"/>
                </a:lnTo>
                <a:lnTo>
                  <a:pt x="2875" y="670"/>
                </a:lnTo>
                <a:lnTo>
                  <a:pt x="2928" y="476"/>
                </a:lnTo>
                <a:lnTo>
                  <a:pt x="3016" y="317"/>
                </a:lnTo>
                <a:lnTo>
                  <a:pt x="3122" y="176"/>
                </a:lnTo>
                <a:lnTo>
                  <a:pt x="3298" y="105"/>
                </a:lnTo>
                <a:lnTo>
                  <a:pt x="3492" y="35"/>
                </a:lnTo>
                <a:lnTo>
                  <a:pt x="3633" y="35"/>
                </a:lnTo>
                <a:lnTo>
                  <a:pt x="4321" y="17"/>
                </a:lnTo>
                <a:lnTo>
                  <a:pt x="4975" y="0"/>
                </a:lnTo>
                <a:lnTo>
                  <a:pt x="5698" y="35"/>
                </a:lnTo>
                <a:lnTo>
                  <a:pt x="6227" y="88"/>
                </a:lnTo>
                <a:lnTo>
                  <a:pt x="6333" y="123"/>
                </a:lnTo>
                <a:lnTo>
                  <a:pt x="6509" y="211"/>
                </a:lnTo>
                <a:lnTo>
                  <a:pt x="6597" y="335"/>
                </a:lnTo>
                <a:lnTo>
                  <a:pt x="6686" y="458"/>
                </a:lnTo>
                <a:lnTo>
                  <a:pt x="6756" y="687"/>
                </a:lnTo>
                <a:lnTo>
                  <a:pt x="7021" y="1323"/>
                </a:lnTo>
                <a:lnTo>
                  <a:pt x="7127" y="1570"/>
                </a:lnTo>
                <a:lnTo>
                  <a:pt x="7268" y="1729"/>
                </a:lnTo>
                <a:lnTo>
                  <a:pt x="7356" y="1817"/>
                </a:lnTo>
                <a:lnTo>
                  <a:pt x="7515" y="1906"/>
                </a:lnTo>
                <a:lnTo>
                  <a:pt x="9896" y="1906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7320" y="4410000"/>
            <a:ext cx="3562560" cy="686160"/>
          </a:xfrm>
          <a:custGeom>
            <a:avLst/>
            <a:gdLst/>
            <a:ahLst/>
            <a:rect l="0" t="0" r="r" b="b"/>
            <a:pathLst>
              <a:path fill="none" w="9896" h="1906">
                <a:moveTo>
                  <a:pt x="0" y="0"/>
                </a:moveTo>
                <a:lnTo>
                  <a:pt x="2363" y="0"/>
                </a:lnTo>
                <a:lnTo>
                  <a:pt x="2416" y="52"/>
                </a:lnTo>
                <a:lnTo>
                  <a:pt x="2416" y="35"/>
                </a:lnTo>
                <a:lnTo>
                  <a:pt x="2504" y="105"/>
                </a:lnTo>
                <a:lnTo>
                  <a:pt x="2610" y="229"/>
                </a:lnTo>
                <a:lnTo>
                  <a:pt x="2663" y="388"/>
                </a:lnTo>
                <a:lnTo>
                  <a:pt x="2734" y="564"/>
                </a:lnTo>
                <a:lnTo>
                  <a:pt x="2751" y="758"/>
                </a:lnTo>
                <a:lnTo>
                  <a:pt x="2804" y="934"/>
                </a:lnTo>
                <a:lnTo>
                  <a:pt x="2875" y="1235"/>
                </a:lnTo>
                <a:lnTo>
                  <a:pt x="2928" y="1429"/>
                </a:lnTo>
                <a:lnTo>
                  <a:pt x="3016" y="1588"/>
                </a:lnTo>
                <a:lnTo>
                  <a:pt x="3122" y="1729"/>
                </a:lnTo>
                <a:lnTo>
                  <a:pt x="3298" y="1800"/>
                </a:lnTo>
                <a:lnTo>
                  <a:pt x="3492" y="1870"/>
                </a:lnTo>
                <a:lnTo>
                  <a:pt x="3633" y="1870"/>
                </a:lnTo>
                <a:lnTo>
                  <a:pt x="4321" y="1888"/>
                </a:lnTo>
                <a:lnTo>
                  <a:pt x="4975" y="1906"/>
                </a:lnTo>
                <a:lnTo>
                  <a:pt x="5698" y="1870"/>
                </a:lnTo>
                <a:lnTo>
                  <a:pt x="6227" y="1817"/>
                </a:lnTo>
                <a:lnTo>
                  <a:pt x="6333" y="1782"/>
                </a:lnTo>
                <a:lnTo>
                  <a:pt x="6509" y="1694"/>
                </a:lnTo>
                <a:lnTo>
                  <a:pt x="6597" y="1570"/>
                </a:lnTo>
                <a:lnTo>
                  <a:pt x="6686" y="1447"/>
                </a:lnTo>
                <a:lnTo>
                  <a:pt x="6756" y="1218"/>
                </a:lnTo>
                <a:lnTo>
                  <a:pt x="7021" y="582"/>
                </a:lnTo>
                <a:lnTo>
                  <a:pt x="7127" y="335"/>
                </a:lnTo>
                <a:lnTo>
                  <a:pt x="7268" y="176"/>
                </a:lnTo>
                <a:lnTo>
                  <a:pt x="7356" y="88"/>
                </a:lnTo>
                <a:lnTo>
                  <a:pt x="7515" y="0"/>
                </a:lnTo>
                <a:lnTo>
                  <a:pt x="9896" y="0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162320" y="5392800"/>
            <a:ext cx="257652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On Signal That Ha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647800" y="1460520"/>
            <a:ext cx="47736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adott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idõ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határt túllépõ  “impulzu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038560" y="2895480"/>
            <a:ext cx="1752840" cy="0"/>
          </a:xfrm>
          <a:prstGeom prst="line">
            <a:avLst/>
          </a:prstGeom>
          <a:ln w="76320">
            <a:solidFill>
              <a:srgbClr val="7fff00"/>
            </a:solidFill>
            <a:custDash>
              <a:ds d="16509" sp="1650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962600" y="5105520"/>
            <a:ext cx="1752480" cy="0"/>
          </a:xfrm>
          <a:prstGeom prst="line">
            <a:avLst/>
          </a:prstGeom>
          <a:ln w="76320">
            <a:solidFill>
              <a:srgbClr val="7fff00"/>
            </a:solidFill>
            <a:custDash>
              <a:ds d="16509" sp="1650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117960" y="3906720"/>
            <a:ext cx="7430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imit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43000" y="316080"/>
            <a:ext cx="9232920" cy="16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Valós idejû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intavétel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T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: Real-Time Sampling;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ingle-shot </a:t>
            </a: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or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tranzient samp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74800" y="2057400"/>
            <a:ext cx="774540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ndenféle” jel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ranzie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él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sa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leh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gyetl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trigger      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elj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rek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. minta gyakoriság:  </a:t>
            </a:r>
            <a:r>
              <a:rPr b="1" lang="en-US" sz="2000" spc="-1" strike="noStrike">
                <a:solidFill>
                  <a:srgbClr val="fdc0e5"/>
                </a:solidFill>
                <a:latin typeface="Arial"/>
                <a:ea typeface="Arial"/>
              </a:rPr>
              <a:t>hardver (A/D) korlá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dõben egyenletes minta-soroz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a az analóg sávszélességet “átfogja”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DR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= Digital Real-Time scop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an pretrigg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76800" y="327672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619200" y="577800"/>
            <a:ext cx="871848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etup/Hold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089080" y="2519280"/>
            <a:ext cx="5912280" cy="870480"/>
          </a:xfrm>
          <a:custGeom>
            <a:avLst/>
            <a:gdLst/>
            <a:ahLst/>
            <a:rect l="0" t="0" r="r" b="b"/>
            <a:pathLst>
              <a:path fill="none" w="16423" h="2418">
                <a:moveTo>
                  <a:pt x="6005" y="2418"/>
                </a:moveTo>
                <a:lnTo>
                  <a:pt x="0" y="2418"/>
                </a:lnTo>
                <a:lnTo>
                  <a:pt x="5473" y="2418"/>
                </a:lnTo>
                <a:lnTo>
                  <a:pt x="5567" y="2418"/>
                </a:lnTo>
                <a:lnTo>
                  <a:pt x="5660" y="2418"/>
                </a:lnTo>
                <a:lnTo>
                  <a:pt x="5750" y="2418"/>
                </a:lnTo>
                <a:lnTo>
                  <a:pt x="5839" y="2418"/>
                </a:lnTo>
                <a:lnTo>
                  <a:pt x="5933" y="2418"/>
                </a:lnTo>
                <a:lnTo>
                  <a:pt x="6065" y="2418"/>
                </a:lnTo>
                <a:lnTo>
                  <a:pt x="6120" y="2418"/>
                </a:lnTo>
                <a:lnTo>
                  <a:pt x="6213" y="2418"/>
                </a:lnTo>
                <a:lnTo>
                  <a:pt x="6299" y="2418"/>
                </a:lnTo>
                <a:lnTo>
                  <a:pt x="6392" y="2418"/>
                </a:lnTo>
                <a:lnTo>
                  <a:pt x="6490" y="2418"/>
                </a:lnTo>
                <a:lnTo>
                  <a:pt x="6584" y="2418"/>
                </a:lnTo>
                <a:lnTo>
                  <a:pt x="6673" y="2410"/>
                </a:lnTo>
                <a:lnTo>
                  <a:pt x="6767" y="2401"/>
                </a:lnTo>
                <a:lnTo>
                  <a:pt x="6860" y="2385"/>
                </a:lnTo>
                <a:lnTo>
                  <a:pt x="6950" y="2368"/>
                </a:lnTo>
                <a:lnTo>
                  <a:pt x="7043" y="2352"/>
                </a:lnTo>
                <a:lnTo>
                  <a:pt x="7145" y="2323"/>
                </a:lnTo>
                <a:lnTo>
                  <a:pt x="7252" y="2289"/>
                </a:lnTo>
                <a:lnTo>
                  <a:pt x="7333" y="2256"/>
                </a:lnTo>
                <a:lnTo>
                  <a:pt x="7414" y="2219"/>
                </a:lnTo>
                <a:lnTo>
                  <a:pt x="7477" y="2181"/>
                </a:lnTo>
                <a:lnTo>
                  <a:pt x="7537" y="2144"/>
                </a:lnTo>
                <a:lnTo>
                  <a:pt x="7614" y="2094"/>
                </a:lnTo>
                <a:lnTo>
                  <a:pt x="7665" y="2024"/>
                </a:lnTo>
                <a:lnTo>
                  <a:pt x="7737" y="1961"/>
                </a:lnTo>
                <a:lnTo>
                  <a:pt x="7796" y="1899"/>
                </a:lnTo>
                <a:lnTo>
                  <a:pt x="7860" y="1833"/>
                </a:lnTo>
                <a:lnTo>
                  <a:pt x="7920" y="1761"/>
                </a:lnTo>
                <a:lnTo>
                  <a:pt x="7979" y="1703"/>
                </a:lnTo>
                <a:lnTo>
                  <a:pt x="8018" y="1649"/>
                </a:lnTo>
                <a:lnTo>
                  <a:pt x="8073" y="1599"/>
                </a:lnTo>
                <a:lnTo>
                  <a:pt x="8111" y="1545"/>
                </a:lnTo>
                <a:lnTo>
                  <a:pt x="8158" y="1479"/>
                </a:lnTo>
                <a:lnTo>
                  <a:pt x="8192" y="1433"/>
                </a:lnTo>
                <a:lnTo>
                  <a:pt x="8231" y="1379"/>
                </a:lnTo>
                <a:lnTo>
                  <a:pt x="8277" y="1325"/>
                </a:lnTo>
                <a:lnTo>
                  <a:pt x="8303" y="1279"/>
                </a:lnTo>
                <a:lnTo>
                  <a:pt x="8337" y="1238"/>
                </a:lnTo>
                <a:lnTo>
                  <a:pt x="8371" y="1192"/>
                </a:lnTo>
                <a:lnTo>
                  <a:pt x="8401" y="1146"/>
                </a:lnTo>
                <a:lnTo>
                  <a:pt x="8443" y="1059"/>
                </a:lnTo>
                <a:lnTo>
                  <a:pt x="8477" y="1009"/>
                </a:lnTo>
                <a:lnTo>
                  <a:pt x="8503" y="955"/>
                </a:lnTo>
                <a:lnTo>
                  <a:pt x="8528" y="902"/>
                </a:lnTo>
                <a:lnTo>
                  <a:pt x="8554" y="881"/>
                </a:lnTo>
                <a:lnTo>
                  <a:pt x="8588" y="814"/>
                </a:lnTo>
                <a:lnTo>
                  <a:pt x="8614" y="760"/>
                </a:lnTo>
                <a:lnTo>
                  <a:pt x="8648" y="706"/>
                </a:lnTo>
                <a:lnTo>
                  <a:pt x="8690" y="640"/>
                </a:lnTo>
                <a:lnTo>
                  <a:pt x="8728" y="589"/>
                </a:lnTo>
                <a:lnTo>
                  <a:pt x="8767" y="548"/>
                </a:lnTo>
                <a:lnTo>
                  <a:pt x="8809" y="489"/>
                </a:lnTo>
                <a:lnTo>
                  <a:pt x="8831" y="452"/>
                </a:lnTo>
                <a:lnTo>
                  <a:pt x="8865" y="390"/>
                </a:lnTo>
                <a:lnTo>
                  <a:pt x="8907" y="340"/>
                </a:lnTo>
                <a:lnTo>
                  <a:pt x="8933" y="307"/>
                </a:lnTo>
                <a:lnTo>
                  <a:pt x="8988" y="253"/>
                </a:lnTo>
                <a:lnTo>
                  <a:pt x="9043" y="207"/>
                </a:lnTo>
                <a:lnTo>
                  <a:pt x="9094" y="157"/>
                </a:lnTo>
                <a:lnTo>
                  <a:pt x="9188" y="112"/>
                </a:lnTo>
                <a:lnTo>
                  <a:pt x="9286" y="74"/>
                </a:lnTo>
                <a:lnTo>
                  <a:pt x="9405" y="53"/>
                </a:lnTo>
                <a:lnTo>
                  <a:pt x="9494" y="37"/>
                </a:lnTo>
                <a:lnTo>
                  <a:pt x="9588" y="24"/>
                </a:lnTo>
                <a:lnTo>
                  <a:pt x="9673" y="16"/>
                </a:lnTo>
                <a:lnTo>
                  <a:pt x="9763" y="12"/>
                </a:lnTo>
                <a:lnTo>
                  <a:pt x="9856" y="8"/>
                </a:lnTo>
                <a:lnTo>
                  <a:pt x="9954" y="8"/>
                </a:lnTo>
                <a:lnTo>
                  <a:pt x="10048" y="0"/>
                </a:lnTo>
                <a:lnTo>
                  <a:pt x="10150" y="0"/>
                </a:lnTo>
                <a:lnTo>
                  <a:pt x="10252" y="0"/>
                </a:lnTo>
                <a:lnTo>
                  <a:pt x="10367" y="0"/>
                </a:lnTo>
                <a:lnTo>
                  <a:pt x="10469" y="0"/>
                </a:lnTo>
                <a:lnTo>
                  <a:pt x="10571" y="0"/>
                </a:lnTo>
                <a:lnTo>
                  <a:pt x="10665" y="0"/>
                </a:lnTo>
                <a:lnTo>
                  <a:pt x="10775" y="0"/>
                </a:lnTo>
                <a:lnTo>
                  <a:pt x="10873" y="0"/>
                </a:lnTo>
                <a:lnTo>
                  <a:pt x="10963" y="0"/>
                </a:lnTo>
                <a:lnTo>
                  <a:pt x="16423" y="0"/>
                </a:lnTo>
                <a:lnTo>
                  <a:pt x="10528" y="0"/>
                </a:lnTo>
                <a:lnTo>
                  <a:pt x="10767" y="0"/>
                </a:lnTo>
                <a:lnTo>
                  <a:pt x="10801" y="0"/>
                </a:lnTo>
                <a:lnTo>
                  <a:pt x="11026" y="0"/>
                </a:lnTo>
                <a:lnTo>
                  <a:pt x="11086" y="0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482840" y="4041720"/>
            <a:ext cx="7144200" cy="870480"/>
            <a:chOff x="1482840" y="4041720"/>
            <a:chExt cx="7144200" cy="870480"/>
          </a:xfrm>
        </p:grpSpPr>
        <p:sp>
          <p:nvSpPr>
            <p:cNvPr id="657" name=""/>
            <p:cNvSpPr/>
            <p:nvPr/>
          </p:nvSpPr>
          <p:spPr>
            <a:xfrm>
              <a:off x="1482840" y="4041720"/>
              <a:ext cx="3922920" cy="870480"/>
            </a:xfrm>
            <a:custGeom>
              <a:avLst/>
              <a:gdLst/>
              <a:ahLst/>
              <a:rect l="0" t="0" r="r" b="b"/>
              <a:pathLst>
                <a:path fill="none" w="10897" h="2418">
                  <a:moveTo>
                    <a:pt x="2321" y="2418"/>
                  </a:moveTo>
                  <a:lnTo>
                    <a:pt x="0" y="2418"/>
                  </a:lnTo>
                  <a:lnTo>
                    <a:pt x="1707" y="2418"/>
                  </a:lnTo>
                  <a:lnTo>
                    <a:pt x="1818" y="2418"/>
                  </a:lnTo>
                  <a:lnTo>
                    <a:pt x="1924" y="2418"/>
                  </a:lnTo>
                  <a:lnTo>
                    <a:pt x="2025" y="2418"/>
                  </a:lnTo>
                  <a:lnTo>
                    <a:pt x="2131" y="2418"/>
                  </a:lnTo>
                  <a:lnTo>
                    <a:pt x="2237" y="2418"/>
                  </a:lnTo>
                  <a:lnTo>
                    <a:pt x="2387" y="2418"/>
                  </a:lnTo>
                  <a:lnTo>
                    <a:pt x="2453" y="2418"/>
                  </a:lnTo>
                  <a:lnTo>
                    <a:pt x="2559" y="2418"/>
                  </a:lnTo>
                  <a:lnTo>
                    <a:pt x="2656" y="2418"/>
                  </a:lnTo>
                  <a:lnTo>
                    <a:pt x="2767" y="2418"/>
                  </a:lnTo>
                  <a:lnTo>
                    <a:pt x="2877" y="2418"/>
                  </a:lnTo>
                  <a:lnTo>
                    <a:pt x="2983" y="2418"/>
                  </a:lnTo>
                  <a:lnTo>
                    <a:pt x="3089" y="2408"/>
                  </a:lnTo>
                  <a:lnTo>
                    <a:pt x="3195" y="2401"/>
                  </a:lnTo>
                  <a:lnTo>
                    <a:pt x="3301" y="2384"/>
                  </a:lnTo>
                  <a:lnTo>
                    <a:pt x="3407" y="2368"/>
                  </a:lnTo>
                  <a:lnTo>
                    <a:pt x="3512" y="2351"/>
                  </a:lnTo>
                  <a:lnTo>
                    <a:pt x="3632" y="2324"/>
                  </a:lnTo>
                  <a:lnTo>
                    <a:pt x="3751" y="2290"/>
                  </a:lnTo>
                  <a:lnTo>
                    <a:pt x="3843" y="2257"/>
                  </a:lnTo>
                  <a:lnTo>
                    <a:pt x="3936" y="2220"/>
                  </a:lnTo>
                  <a:lnTo>
                    <a:pt x="4011" y="2183"/>
                  </a:lnTo>
                  <a:lnTo>
                    <a:pt x="4077" y="2143"/>
                  </a:lnTo>
                  <a:lnTo>
                    <a:pt x="4166" y="2092"/>
                  </a:lnTo>
                  <a:lnTo>
                    <a:pt x="4227" y="2022"/>
                  </a:lnTo>
                  <a:lnTo>
                    <a:pt x="4311" y="1962"/>
                  </a:lnTo>
                  <a:lnTo>
                    <a:pt x="4377" y="1898"/>
                  </a:lnTo>
                  <a:lnTo>
                    <a:pt x="4453" y="1831"/>
                  </a:lnTo>
                  <a:lnTo>
                    <a:pt x="4519" y="1763"/>
                  </a:lnTo>
                  <a:lnTo>
                    <a:pt x="4589" y="1702"/>
                  </a:lnTo>
                  <a:lnTo>
                    <a:pt x="4633" y="1648"/>
                  </a:lnTo>
                  <a:lnTo>
                    <a:pt x="4695" y="1598"/>
                  </a:lnTo>
                  <a:lnTo>
                    <a:pt x="4739" y="1544"/>
                  </a:lnTo>
                  <a:lnTo>
                    <a:pt x="4792" y="1477"/>
                  </a:lnTo>
                  <a:lnTo>
                    <a:pt x="4832" y="1434"/>
                  </a:lnTo>
                  <a:lnTo>
                    <a:pt x="4876" y="1380"/>
                  </a:lnTo>
                  <a:lnTo>
                    <a:pt x="4929" y="1326"/>
                  </a:lnTo>
                  <a:lnTo>
                    <a:pt x="4960" y="1279"/>
                  </a:lnTo>
                  <a:lnTo>
                    <a:pt x="5000" y="1239"/>
                  </a:lnTo>
                  <a:lnTo>
                    <a:pt x="5035" y="1192"/>
                  </a:lnTo>
                  <a:lnTo>
                    <a:pt x="5070" y="1145"/>
                  </a:lnTo>
                  <a:lnTo>
                    <a:pt x="5119" y="1058"/>
                  </a:lnTo>
                  <a:lnTo>
                    <a:pt x="5159" y="1007"/>
                  </a:lnTo>
                  <a:lnTo>
                    <a:pt x="5190" y="957"/>
                  </a:lnTo>
                  <a:lnTo>
                    <a:pt x="5220" y="903"/>
                  </a:lnTo>
                  <a:lnTo>
                    <a:pt x="5247" y="880"/>
                  </a:lnTo>
                  <a:lnTo>
                    <a:pt x="5287" y="816"/>
                  </a:lnTo>
                  <a:lnTo>
                    <a:pt x="5318" y="759"/>
                  </a:lnTo>
                  <a:lnTo>
                    <a:pt x="5353" y="705"/>
                  </a:lnTo>
                  <a:lnTo>
                    <a:pt x="5406" y="638"/>
                  </a:lnTo>
                  <a:lnTo>
                    <a:pt x="5451" y="590"/>
                  </a:lnTo>
                  <a:lnTo>
                    <a:pt x="5495" y="547"/>
                  </a:lnTo>
                  <a:lnTo>
                    <a:pt x="5539" y="490"/>
                  </a:lnTo>
                  <a:lnTo>
                    <a:pt x="5566" y="453"/>
                  </a:lnTo>
                  <a:lnTo>
                    <a:pt x="5605" y="389"/>
                  </a:lnTo>
                  <a:lnTo>
                    <a:pt x="5654" y="338"/>
                  </a:lnTo>
                  <a:lnTo>
                    <a:pt x="5685" y="305"/>
                  </a:lnTo>
                  <a:lnTo>
                    <a:pt x="5747" y="255"/>
                  </a:lnTo>
                  <a:lnTo>
                    <a:pt x="5808" y="208"/>
                  </a:lnTo>
                  <a:lnTo>
                    <a:pt x="5870" y="157"/>
                  </a:lnTo>
                  <a:lnTo>
                    <a:pt x="5976" y="110"/>
                  </a:lnTo>
                  <a:lnTo>
                    <a:pt x="6086" y="73"/>
                  </a:lnTo>
                  <a:lnTo>
                    <a:pt x="6223" y="53"/>
                  </a:lnTo>
                  <a:lnTo>
                    <a:pt x="6329" y="36"/>
                  </a:lnTo>
                  <a:lnTo>
                    <a:pt x="6435" y="26"/>
                  </a:lnTo>
                  <a:lnTo>
                    <a:pt x="6532" y="16"/>
                  </a:lnTo>
                  <a:lnTo>
                    <a:pt x="6634" y="13"/>
                  </a:lnTo>
                  <a:lnTo>
                    <a:pt x="6744" y="6"/>
                  </a:lnTo>
                  <a:lnTo>
                    <a:pt x="6854" y="6"/>
                  </a:lnTo>
                  <a:lnTo>
                    <a:pt x="6965" y="0"/>
                  </a:lnTo>
                  <a:lnTo>
                    <a:pt x="7079" y="0"/>
                  </a:lnTo>
                  <a:lnTo>
                    <a:pt x="7199" y="0"/>
                  </a:lnTo>
                  <a:lnTo>
                    <a:pt x="7331" y="0"/>
                  </a:lnTo>
                  <a:lnTo>
                    <a:pt x="7446" y="0"/>
                  </a:lnTo>
                  <a:lnTo>
                    <a:pt x="7565" y="0"/>
                  </a:lnTo>
                  <a:lnTo>
                    <a:pt x="7671" y="0"/>
                  </a:lnTo>
                  <a:lnTo>
                    <a:pt x="7799" y="0"/>
                  </a:lnTo>
                  <a:lnTo>
                    <a:pt x="7909" y="0"/>
                  </a:lnTo>
                  <a:lnTo>
                    <a:pt x="8015" y="0"/>
                  </a:lnTo>
                  <a:lnTo>
                    <a:pt x="10897" y="0"/>
                  </a:lnTo>
                  <a:lnTo>
                    <a:pt x="7516" y="0"/>
                  </a:lnTo>
                  <a:lnTo>
                    <a:pt x="7790" y="0"/>
                  </a:lnTo>
                  <a:lnTo>
                    <a:pt x="7830" y="0"/>
                  </a:lnTo>
                  <a:lnTo>
                    <a:pt x="8086" y="0"/>
                  </a:lnTo>
                  <a:lnTo>
                    <a:pt x="8156" y="0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02320" y="4041720"/>
              <a:ext cx="3924720" cy="870480"/>
            </a:xfrm>
            <a:custGeom>
              <a:avLst/>
              <a:gdLst/>
              <a:ahLst/>
              <a:rect l="0" t="0" r="r" b="b"/>
              <a:pathLst>
                <a:path fill="none" w="10902" h="2418">
                  <a:moveTo>
                    <a:pt x="8580" y="2418"/>
                  </a:moveTo>
                  <a:lnTo>
                    <a:pt x="10902" y="2418"/>
                  </a:lnTo>
                  <a:lnTo>
                    <a:pt x="9194" y="2418"/>
                  </a:lnTo>
                  <a:lnTo>
                    <a:pt x="9083" y="2418"/>
                  </a:lnTo>
                  <a:lnTo>
                    <a:pt x="8977" y="2418"/>
                  </a:lnTo>
                  <a:lnTo>
                    <a:pt x="8876" y="2418"/>
                  </a:lnTo>
                  <a:lnTo>
                    <a:pt x="8770" y="2418"/>
                  </a:lnTo>
                  <a:lnTo>
                    <a:pt x="8664" y="2418"/>
                  </a:lnTo>
                  <a:lnTo>
                    <a:pt x="8514" y="2418"/>
                  </a:lnTo>
                  <a:lnTo>
                    <a:pt x="8448" y="2418"/>
                  </a:lnTo>
                  <a:lnTo>
                    <a:pt x="8342" y="2418"/>
                  </a:lnTo>
                  <a:lnTo>
                    <a:pt x="8244" y="2418"/>
                  </a:lnTo>
                  <a:lnTo>
                    <a:pt x="8133" y="2418"/>
                  </a:lnTo>
                  <a:lnTo>
                    <a:pt x="8023" y="2418"/>
                  </a:lnTo>
                  <a:lnTo>
                    <a:pt x="7917" y="2418"/>
                  </a:lnTo>
                  <a:lnTo>
                    <a:pt x="7811" y="2408"/>
                  </a:lnTo>
                  <a:lnTo>
                    <a:pt x="7705" y="2401"/>
                  </a:lnTo>
                  <a:lnTo>
                    <a:pt x="7599" y="2384"/>
                  </a:lnTo>
                  <a:lnTo>
                    <a:pt x="7493" y="2368"/>
                  </a:lnTo>
                  <a:lnTo>
                    <a:pt x="7387" y="2351"/>
                  </a:lnTo>
                  <a:lnTo>
                    <a:pt x="7268" y="2324"/>
                  </a:lnTo>
                  <a:lnTo>
                    <a:pt x="7149" y="2290"/>
                  </a:lnTo>
                  <a:lnTo>
                    <a:pt x="7056" y="2257"/>
                  </a:lnTo>
                  <a:lnTo>
                    <a:pt x="6963" y="2220"/>
                  </a:lnTo>
                  <a:lnTo>
                    <a:pt x="6888" y="2183"/>
                  </a:lnTo>
                  <a:lnTo>
                    <a:pt x="6822" y="2143"/>
                  </a:lnTo>
                  <a:lnTo>
                    <a:pt x="6733" y="2092"/>
                  </a:lnTo>
                  <a:lnTo>
                    <a:pt x="6672" y="2022"/>
                  </a:lnTo>
                  <a:lnTo>
                    <a:pt x="6588" y="1962"/>
                  </a:lnTo>
                  <a:lnTo>
                    <a:pt x="6522" y="1898"/>
                  </a:lnTo>
                  <a:lnTo>
                    <a:pt x="6447" y="1831"/>
                  </a:lnTo>
                  <a:lnTo>
                    <a:pt x="6380" y="1763"/>
                  </a:lnTo>
                  <a:lnTo>
                    <a:pt x="6310" y="1702"/>
                  </a:lnTo>
                  <a:lnTo>
                    <a:pt x="6265" y="1648"/>
                  </a:lnTo>
                  <a:lnTo>
                    <a:pt x="6204" y="1598"/>
                  </a:lnTo>
                  <a:lnTo>
                    <a:pt x="6160" y="1544"/>
                  </a:lnTo>
                  <a:lnTo>
                    <a:pt x="6107" y="1477"/>
                  </a:lnTo>
                  <a:lnTo>
                    <a:pt x="6067" y="1434"/>
                  </a:lnTo>
                  <a:lnTo>
                    <a:pt x="6023" y="1380"/>
                  </a:lnTo>
                  <a:lnTo>
                    <a:pt x="5970" y="1326"/>
                  </a:lnTo>
                  <a:lnTo>
                    <a:pt x="5939" y="1279"/>
                  </a:lnTo>
                  <a:lnTo>
                    <a:pt x="5899" y="1239"/>
                  </a:lnTo>
                  <a:lnTo>
                    <a:pt x="5864" y="1192"/>
                  </a:lnTo>
                  <a:lnTo>
                    <a:pt x="5828" y="1145"/>
                  </a:lnTo>
                  <a:lnTo>
                    <a:pt x="5780" y="1058"/>
                  </a:lnTo>
                  <a:lnTo>
                    <a:pt x="5740" y="1007"/>
                  </a:lnTo>
                  <a:lnTo>
                    <a:pt x="5709" y="957"/>
                  </a:lnTo>
                  <a:lnTo>
                    <a:pt x="5678" y="903"/>
                  </a:lnTo>
                  <a:lnTo>
                    <a:pt x="5652" y="880"/>
                  </a:lnTo>
                  <a:lnTo>
                    <a:pt x="5612" y="816"/>
                  </a:lnTo>
                  <a:lnTo>
                    <a:pt x="5581" y="759"/>
                  </a:lnTo>
                  <a:lnTo>
                    <a:pt x="5546" y="705"/>
                  </a:lnTo>
                  <a:lnTo>
                    <a:pt x="5493" y="638"/>
                  </a:lnTo>
                  <a:lnTo>
                    <a:pt x="5449" y="590"/>
                  </a:lnTo>
                  <a:lnTo>
                    <a:pt x="5405" y="547"/>
                  </a:lnTo>
                  <a:lnTo>
                    <a:pt x="5360" y="490"/>
                  </a:lnTo>
                  <a:lnTo>
                    <a:pt x="5334" y="453"/>
                  </a:lnTo>
                  <a:lnTo>
                    <a:pt x="5294" y="389"/>
                  </a:lnTo>
                  <a:lnTo>
                    <a:pt x="5246" y="338"/>
                  </a:lnTo>
                  <a:lnTo>
                    <a:pt x="5215" y="305"/>
                  </a:lnTo>
                  <a:lnTo>
                    <a:pt x="5153" y="255"/>
                  </a:lnTo>
                  <a:lnTo>
                    <a:pt x="5091" y="208"/>
                  </a:lnTo>
                  <a:lnTo>
                    <a:pt x="5029" y="157"/>
                  </a:lnTo>
                  <a:lnTo>
                    <a:pt x="4923" y="110"/>
                  </a:lnTo>
                  <a:lnTo>
                    <a:pt x="4813" y="73"/>
                  </a:lnTo>
                  <a:lnTo>
                    <a:pt x="4676" y="53"/>
                  </a:lnTo>
                  <a:lnTo>
                    <a:pt x="4570" y="36"/>
                  </a:lnTo>
                  <a:lnTo>
                    <a:pt x="4464" y="26"/>
                  </a:lnTo>
                  <a:lnTo>
                    <a:pt x="4367" y="16"/>
                  </a:lnTo>
                  <a:lnTo>
                    <a:pt x="4265" y="13"/>
                  </a:lnTo>
                  <a:lnTo>
                    <a:pt x="4155" y="6"/>
                  </a:lnTo>
                  <a:lnTo>
                    <a:pt x="4045" y="6"/>
                  </a:lnTo>
                  <a:lnTo>
                    <a:pt x="3934" y="0"/>
                  </a:lnTo>
                  <a:lnTo>
                    <a:pt x="3820" y="0"/>
                  </a:lnTo>
                  <a:lnTo>
                    <a:pt x="3700" y="0"/>
                  </a:lnTo>
                  <a:lnTo>
                    <a:pt x="3568" y="0"/>
                  </a:lnTo>
                  <a:lnTo>
                    <a:pt x="3453" y="0"/>
                  </a:lnTo>
                  <a:lnTo>
                    <a:pt x="3334" y="0"/>
                  </a:lnTo>
                  <a:lnTo>
                    <a:pt x="3228" y="0"/>
                  </a:lnTo>
                  <a:lnTo>
                    <a:pt x="3100" y="0"/>
                  </a:lnTo>
                  <a:lnTo>
                    <a:pt x="2990" y="0"/>
                  </a:lnTo>
                  <a:lnTo>
                    <a:pt x="2884" y="0"/>
                  </a:lnTo>
                  <a:lnTo>
                    <a:pt x="0" y="0"/>
                  </a:lnTo>
                  <a:lnTo>
                    <a:pt x="3382" y="0"/>
                  </a:lnTo>
                  <a:lnTo>
                    <a:pt x="3109" y="0"/>
                  </a:lnTo>
                  <a:lnTo>
                    <a:pt x="3069" y="0"/>
                  </a:lnTo>
                  <a:lnTo>
                    <a:pt x="2813" y="0"/>
                  </a:lnTo>
                  <a:lnTo>
                    <a:pt x="2742" y="0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482840" y="4041720"/>
              <a:ext cx="3922920" cy="870480"/>
            </a:xfrm>
            <a:custGeom>
              <a:avLst/>
              <a:gdLst/>
              <a:ahLst/>
              <a:rect l="0" t="0" r="r" b="b"/>
              <a:pathLst>
                <a:path fill="none" w="10897" h="2418">
                  <a:moveTo>
                    <a:pt x="2321" y="0"/>
                  </a:moveTo>
                  <a:lnTo>
                    <a:pt x="0" y="0"/>
                  </a:lnTo>
                  <a:lnTo>
                    <a:pt x="1707" y="0"/>
                  </a:lnTo>
                  <a:lnTo>
                    <a:pt x="1818" y="0"/>
                  </a:lnTo>
                  <a:lnTo>
                    <a:pt x="1924" y="0"/>
                  </a:lnTo>
                  <a:lnTo>
                    <a:pt x="2025" y="0"/>
                  </a:lnTo>
                  <a:lnTo>
                    <a:pt x="2131" y="0"/>
                  </a:lnTo>
                  <a:lnTo>
                    <a:pt x="2237" y="0"/>
                  </a:lnTo>
                  <a:lnTo>
                    <a:pt x="2387" y="0"/>
                  </a:lnTo>
                  <a:lnTo>
                    <a:pt x="2453" y="0"/>
                  </a:lnTo>
                  <a:lnTo>
                    <a:pt x="2559" y="0"/>
                  </a:lnTo>
                  <a:lnTo>
                    <a:pt x="2656" y="0"/>
                  </a:lnTo>
                  <a:lnTo>
                    <a:pt x="2767" y="0"/>
                  </a:lnTo>
                  <a:lnTo>
                    <a:pt x="2877" y="0"/>
                  </a:lnTo>
                  <a:lnTo>
                    <a:pt x="2983" y="0"/>
                  </a:lnTo>
                  <a:lnTo>
                    <a:pt x="3089" y="10"/>
                  </a:lnTo>
                  <a:lnTo>
                    <a:pt x="3195" y="16"/>
                  </a:lnTo>
                  <a:lnTo>
                    <a:pt x="3301" y="33"/>
                  </a:lnTo>
                  <a:lnTo>
                    <a:pt x="3407" y="50"/>
                  </a:lnTo>
                  <a:lnTo>
                    <a:pt x="3512" y="67"/>
                  </a:lnTo>
                  <a:lnTo>
                    <a:pt x="3632" y="93"/>
                  </a:lnTo>
                  <a:lnTo>
                    <a:pt x="3751" y="127"/>
                  </a:lnTo>
                  <a:lnTo>
                    <a:pt x="3843" y="161"/>
                  </a:lnTo>
                  <a:lnTo>
                    <a:pt x="3936" y="198"/>
                  </a:lnTo>
                  <a:lnTo>
                    <a:pt x="4011" y="234"/>
                  </a:lnTo>
                  <a:lnTo>
                    <a:pt x="4077" y="275"/>
                  </a:lnTo>
                  <a:lnTo>
                    <a:pt x="4166" y="325"/>
                  </a:lnTo>
                  <a:lnTo>
                    <a:pt x="4227" y="396"/>
                  </a:lnTo>
                  <a:lnTo>
                    <a:pt x="4311" y="456"/>
                  </a:lnTo>
                  <a:lnTo>
                    <a:pt x="4377" y="520"/>
                  </a:lnTo>
                  <a:lnTo>
                    <a:pt x="4453" y="587"/>
                  </a:lnTo>
                  <a:lnTo>
                    <a:pt x="4519" y="655"/>
                  </a:lnTo>
                  <a:lnTo>
                    <a:pt x="4589" y="715"/>
                  </a:lnTo>
                  <a:lnTo>
                    <a:pt x="4633" y="769"/>
                  </a:lnTo>
                  <a:lnTo>
                    <a:pt x="4695" y="819"/>
                  </a:lnTo>
                  <a:lnTo>
                    <a:pt x="4739" y="873"/>
                  </a:lnTo>
                  <a:lnTo>
                    <a:pt x="4792" y="940"/>
                  </a:lnTo>
                  <a:lnTo>
                    <a:pt x="4832" y="984"/>
                  </a:lnTo>
                  <a:lnTo>
                    <a:pt x="4876" y="1038"/>
                  </a:lnTo>
                  <a:lnTo>
                    <a:pt x="4929" y="1091"/>
                  </a:lnTo>
                  <a:lnTo>
                    <a:pt x="4960" y="1138"/>
                  </a:lnTo>
                  <a:lnTo>
                    <a:pt x="5000" y="1179"/>
                  </a:lnTo>
                  <a:lnTo>
                    <a:pt x="5035" y="1226"/>
                  </a:lnTo>
                  <a:lnTo>
                    <a:pt x="5070" y="1273"/>
                  </a:lnTo>
                  <a:lnTo>
                    <a:pt x="5119" y="1360"/>
                  </a:lnTo>
                  <a:lnTo>
                    <a:pt x="5159" y="1410"/>
                  </a:lnTo>
                  <a:lnTo>
                    <a:pt x="5190" y="1460"/>
                  </a:lnTo>
                  <a:lnTo>
                    <a:pt x="5220" y="1514"/>
                  </a:lnTo>
                  <a:lnTo>
                    <a:pt x="5247" y="1538"/>
                  </a:lnTo>
                  <a:lnTo>
                    <a:pt x="5287" y="1601"/>
                  </a:lnTo>
                  <a:lnTo>
                    <a:pt x="5318" y="1659"/>
                  </a:lnTo>
                  <a:lnTo>
                    <a:pt x="5353" y="1712"/>
                  </a:lnTo>
                  <a:lnTo>
                    <a:pt x="5406" y="1779"/>
                  </a:lnTo>
                  <a:lnTo>
                    <a:pt x="5451" y="1827"/>
                  </a:lnTo>
                  <a:lnTo>
                    <a:pt x="5495" y="1871"/>
                  </a:lnTo>
                  <a:lnTo>
                    <a:pt x="5539" y="1928"/>
                  </a:lnTo>
                  <a:lnTo>
                    <a:pt x="5566" y="1965"/>
                  </a:lnTo>
                  <a:lnTo>
                    <a:pt x="5605" y="2029"/>
                  </a:lnTo>
                  <a:lnTo>
                    <a:pt x="5654" y="2079"/>
                  </a:lnTo>
                  <a:lnTo>
                    <a:pt x="5685" y="2113"/>
                  </a:lnTo>
                  <a:lnTo>
                    <a:pt x="5747" y="2163"/>
                  </a:lnTo>
                  <a:lnTo>
                    <a:pt x="5808" y="2210"/>
                  </a:lnTo>
                  <a:lnTo>
                    <a:pt x="5870" y="2260"/>
                  </a:lnTo>
                  <a:lnTo>
                    <a:pt x="5976" y="2307"/>
                  </a:lnTo>
                  <a:lnTo>
                    <a:pt x="6086" y="2344"/>
                  </a:lnTo>
                  <a:lnTo>
                    <a:pt x="6223" y="2364"/>
                  </a:lnTo>
                  <a:lnTo>
                    <a:pt x="6329" y="2381"/>
                  </a:lnTo>
                  <a:lnTo>
                    <a:pt x="6435" y="2391"/>
                  </a:lnTo>
                  <a:lnTo>
                    <a:pt x="6532" y="2401"/>
                  </a:lnTo>
                  <a:lnTo>
                    <a:pt x="6634" y="2405"/>
                  </a:lnTo>
                  <a:lnTo>
                    <a:pt x="6744" y="2411"/>
                  </a:lnTo>
                  <a:lnTo>
                    <a:pt x="6854" y="2411"/>
                  </a:lnTo>
                  <a:lnTo>
                    <a:pt x="6965" y="2418"/>
                  </a:lnTo>
                  <a:lnTo>
                    <a:pt x="7079" y="2418"/>
                  </a:lnTo>
                  <a:lnTo>
                    <a:pt x="7199" y="2418"/>
                  </a:lnTo>
                  <a:lnTo>
                    <a:pt x="7331" y="2418"/>
                  </a:lnTo>
                  <a:lnTo>
                    <a:pt x="7446" y="2418"/>
                  </a:lnTo>
                  <a:lnTo>
                    <a:pt x="7565" y="2418"/>
                  </a:lnTo>
                  <a:lnTo>
                    <a:pt x="7671" y="2418"/>
                  </a:lnTo>
                  <a:lnTo>
                    <a:pt x="7799" y="2418"/>
                  </a:lnTo>
                  <a:lnTo>
                    <a:pt x="7909" y="2418"/>
                  </a:lnTo>
                  <a:lnTo>
                    <a:pt x="8015" y="2418"/>
                  </a:lnTo>
                  <a:lnTo>
                    <a:pt x="10897" y="2418"/>
                  </a:lnTo>
                  <a:lnTo>
                    <a:pt x="7516" y="2418"/>
                  </a:lnTo>
                  <a:lnTo>
                    <a:pt x="7790" y="2418"/>
                  </a:lnTo>
                  <a:lnTo>
                    <a:pt x="7830" y="2418"/>
                  </a:lnTo>
                  <a:lnTo>
                    <a:pt x="8086" y="2418"/>
                  </a:lnTo>
                  <a:lnTo>
                    <a:pt x="8156" y="2418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02320" y="4041720"/>
              <a:ext cx="3924720" cy="870480"/>
            </a:xfrm>
            <a:custGeom>
              <a:avLst/>
              <a:gdLst/>
              <a:ahLst/>
              <a:rect l="0" t="0" r="r" b="b"/>
              <a:pathLst>
                <a:path fill="none" w="10902" h="2418">
                  <a:moveTo>
                    <a:pt x="8580" y="0"/>
                  </a:moveTo>
                  <a:lnTo>
                    <a:pt x="10902" y="0"/>
                  </a:lnTo>
                  <a:lnTo>
                    <a:pt x="9194" y="0"/>
                  </a:lnTo>
                  <a:lnTo>
                    <a:pt x="9083" y="0"/>
                  </a:lnTo>
                  <a:lnTo>
                    <a:pt x="8977" y="0"/>
                  </a:lnTo>
                  <a:lnTo>
                    <a:pt x="8876" y="0"/>
                  </a:lnTo>
                  <a:lnTo>
                    <a:pt x="8770" y="0"/>
                  </a:lnTo>
                  <a:lnTo>
                    <a:pt x="8664" y="0"/>
                  </a:lnTo>
                  <a:lnTo>
                    <a:pt x="8514" y="0"/>
                  </a:lnTo>
                  <a:lnTo>
                    <a:pt x="8448" y="0"/>
                  </a:lnTo>
                  <a:lnTo>
                    <a:pt x="8342" y="0"/>
                  </a:lnTo>
                  <a:lnTo>
                    <a:pt x="8244" y="0"/>
                  </a:lnTo>
                  <a:lnTo>
                    <a:pt x="8133" y="0"/>
                  </a:lnTo>
                  <a:lnTo>
                    <a:pt x="8023" y="0"/>
                  </a:lnTo>
                  <a:lnTo>
                    <a:pt x="7917" y="0"/>
                  </a:lnTo>
                  <a:lnTo>
                    <a:pt x="7811" y="10"/>
                  </a:lnTo>
                  <a:lnTo>
                    <a:pt x="7705" y="16"/>
                  </a:lnTo>
                  <a:lnTo>
                    <a:pt x="7599" y="33"/>
                  </a:lnTo>
                  <a:lnTo>
                    <a:pt x="7493" y="50"/>
                  </a:lnTo>
                  <a:lnTo>
                    <a:pt x="7387" y="67"/>
                  </a:lnTo>
                  <a:lnTo>
                    <a:pt x="7268" y="93"/>
                  </a:lnTo>
                  <a:lnTo>
                    <a:pt x="7149" y="127"/>
                  </a:lnTo>
                  <a:lnTo>
                    <a:pt x="7056" y="161"/>
                  </a:lnTo>
                  <a:lnTo>
                    <a:pt x="6963" y="198"/>
                  </a:lnTo>
                  <a:lnTo>
                    <a:pt x="6888" y="234"/>
                  </a:lnTo>
                  <a:lnTo>
                    <a:pt x="6822" y="275"/>
                  </a:lnTo>
                  <a:lnTo>
                    <a:pt x="6733" y="325"/>
                  </a:lnTo>
                  <a:lnTo>
                    <a:pt x="6672" y="396"/>
                  </a:lnTo>
                  <a:lnTo>
                    <a:pt x="6588" y="456"/>
                  </a:lnTo>
                  <a:lnTo>
                    <a:pt x="6522" y="520"/>
                  </a:lnTo>
                  <a:lnTo>
                    <a:pt x="6447" y="587"/>
                  </a:lnTo>
                  <a:lnTo>
                    <a:pt x="6380" y="655"/>
                  </a:lnTo>
                  <a:lnTo>
                    <a:pt x="6310" y="715"/>
                  </a:lnTo>
                  <a:lnTo>
                    <a:pt x="6265" y="769"/>
                  </a:lnTo>
                  <a:lnTo>
                    <a:pt x="6204" y="819"/>
                  </a:lnTo>
                  <a:lnTo>
                    <a:pt x="6160" y="873"/>
                  </a:lnTo>
                  <a:lnTo>
                    <a:pt x="6107" y="940"/>
                  </a:lnTo>
                  <a:lnTo>
                    <a:pt x="6067" y="984"/>
                  </a:lnTo>
                  <a:lnTo>
                    <a:pt x="6023" y="1038"/>
                  </a:lnTo>
                  <a:lnTo>
                    <a:pt x="5970" y="1091"/>
                  </a:lnTo>
                  <a:lnTo>
                    <a:pt x="5939" y="1138"/>
                  </a:lnTo>
                  <a:lnTo>
                    <a:pt x="5899" y="1179"/>
                  </a:lnTo>
                  <a:lnTo>
                    <a:pt x="5864" y="1226"/>
                  </a:lnTo>
                  <a:lnTo>
                    <a:pt x="5828" y="1273"/>
                  </a:lnTo>
                  <a:lnTo>
                    <a:pt x="5780" y="1360"/>
                  </a:lnTo>
                  <a:lnTo>
                    <a:pt x="5740" y="1410"/>
                  </a:lnTo>
                  <a:lnTo>
                    <a:pt x="5709" y="1460"/>
                  </a:lnTo>
                  <a:lnTo>
                    <a:pt x="5678" y="1514"/>
                  </a:lnTo>
                  <a:lnTo>
                    <a:pt x="5652" y="1538"/>
                  </a:lnTo>
                  <a:lnTo>
                    <a:pt x="5612" y="1601"/>
                  </a:lnTo>
                  <a:lnTo>
                    <a:pt x="5581" y="1659"/>
                  </a:lnTo>
                  <a:lnTo>
                    <a:pt x="5546" y="1712"/>
                  </a:lnTo>
                  <a:lnTo>
                    <a:pt x="5493" y="1779"/>
                  </a:lnTo>
                  <a:lnTo>
                    <a:pt x="5449" y="1827"/>
                  </a:lnTo>
                  <a:lnTo>
                    <a:pt x="5405" y="1871"/>
                  </a:lnTo>
                  <a:lnTo>
                    <a:pt x="5360" y="1928"/>
                  </a:lnTo>
                  <a:lnTo>
                    <a:pt x="5334" y="1965"/>
                  </a:lnTo>
                  <a:lnTo>
                    <a:pt x="5294" y="2029"/>
                  </a:lnTo>
                  <a:lnTo>
                    <a:pt x="5246" y="2079"/>
                  </a:lnTo>
                  <a:lnTo>
                    <a:pt x="5215" y="2113"/>
                  </a:lnTo>
                  <a:lnTo>
                    <a:pt x="5153" y="2163"/>
                  </a:lnTo>
                  <a:lnTo>
                    <a:pt x="5091" y="2210"/>
                  </a:lnTo>
                  <a:lnTo>
                    <a:pt x="5029" y="2260"/>
                  </a:lnTo>
                  <a:lnTo>
                    <a:pt x="4923" y="2307"/>
                  </a:lnTo>
                  <a:lnTo>
                    <a:pt x="4813" y="2344"/>
                  </a:lnTo>
                  <a:lnTo>
                    <a:pt x="4676" y="2364"/>
                  </a:lnTo>
                  <a:lnTo>
                    <a:pt x="4570" y="2381"/>
                  </a:lnTo>
                  <a:lnTo>
                    <a:pt x="4464" y="2391"/>
                  </a:lnTo>
                  <a:lnTo>
                    <a:pt x="4367" y="2401"/>
                  </a:lnTo>
                  <a:lnTo>
                    <a:pt x="4265" y="2405"/>
                  </a:lnTo>
                  <a:lnTo>
                    <a:pt x="4155" y="2411"/>
                  </a:lnTo>
                  <a:lnTo>
                    <a:pt x="4045" y="2411"/>
                  </a:lnTo>
                  <a:lnTo>
                    <a:pt x="3934" y="2418"/>
                  </a:lnTo>
                  <a:lnTo>
                    <a:pt x="3820" y="2418"/>
                  </a:lnTo>
                  <a:lnTo>
                    <a:pt x="3700" y="2418"/>
                  </a:lnTo>
                  <a:lnTo>
                    <a:pt x="3568" y="2418"/>
                  </a:lnTo>
                  <a:lnTo>
                    <a:pt x="3453" y="2418"/>
                  </a:lnTo>
                  <a:lnTo>
                    <a:pt x="3334" y="2418"/>
                  </a:lnTo>
                  <a:lnTo>
                    <a:pt x="3228" y="2418"/>
                  </a:lnTo>
                  <a:lnTo>
                    <a:pt x="3100" y="2418"/>
                  </a:lnTo>
                  <a:lnTo>
                    <a:pt x="2990" y="2418"/>
                  </a:lnTo>
                  <a:lnTo>
                    <a:pt x="2884" y="2418"/>
                  </a:lnTo>
                  <a:lnTo>
                    <a:pt x="0" y="2418"/>
                  </a:lnTo>
                  <a:lnTo>
                    <a:pt x="3382" y="2418"/>
                  </a:lnTo>
                  <a:lnTo>
                    <a:pt x="3109" y="2418"/>
                  </a:lnTo>
                  <a:lnTo>
                    <a:pt x="3069" y="2418"/>
                  </a:lnTo>
                  <a:lnTo>
                    <a:pt x="2813" y="2418"/>
                  </a:lnTo>
                  <a:lnTo>
                    <a:pt x="2742" y="2418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5070600" y="2722680"/>
            <a:ext cx="0" cy="291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65600" y="3005280"/>
            <a:ext cx="34621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78240" y="4476600"/>
            <a:ext cx="0" cy="11653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262160" y="2489040"/>
            <a:ext cx="806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370240" y="4476600"/>
            <a:ext cx="58546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043000" y="2719440"/>
            <a:ext cx="6699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869000" y="3657600"/>
            <a:ext cx="40464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16040" y="5641920"/>
            <a:ext cx="2503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35400" y="5641920"/>
            <a:ext cx="2880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743200" y="5653080"/>
            <a:ext cx="18097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tup Time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661000" y="5272200"/>
            <a:ext cx="17463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ld Time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565280" y="4238640"/>
            <a:ext cx="6462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567240" y="2209680"/>
            <a:ext cx="9968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89320" y="4683240"/>
            <a:ext cx="1644840" cy="468720"/>
          </a:xfrm>
          <a:custGeom>
            <a:avLst/>
            <a:gdLst/>
            <a:ahLst/>
            <a:rect l="0" t="0" r="r" b="b"/>
            <a:pathLst>
              <a:path fill="none" w="4569" h="1302">
                <a:moveTo>
                  <a:pt x="4569" y="1302"/>
                </a:moveTo>
                <a:lnTo>
                  <a:pt x="0" y="1302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195880" y="3803760"/>
            <a:ext cx="1635480" cy="530640"/>
          </a:xfrm>
          <a:custGeom>
            <a:avLst/>
            <a:gdLst/>
            <a:ahLst/>
            <a:rect l="0" t="0" r="r" b="b"/>
            <a:pathLst>
              <a:path fill="none" w="4543" h="1474">
                <a:moveTo>
                  <a:pt x="0" y="0"/>
                </a:moveTo>
                <a:lnTo>
                  <a:pt x="4543" y="0"/>
                </a:lnTo>
                <a:lnTo>
                  <a:pt x="4543" y="1474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448160" y="2736720"/>
            <a:ext cx="511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5376960" y="3505320"/>
            <a:ext cx="289872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On  Hold Time Vio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2693880" y="5180040"/>
            <a:ext cx="194472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tup Time Vio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249200" y="3603600"/>
            <a:ext cx="6793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010360" y="44956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869000" y="4952880"/>
            <a:ext cx="40464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595520" y="1460520"/>
            <a:ext cx="6880320" cy="10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beállási/tartási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idõ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pecifikációt  “megsértõ” a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(pl.:  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register  write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539720" y="1709640"/>
            <a:ext cx="6964560" cy="4370760"/>
          </a:xfrm>
          <a:custGeom>
            <a:avLst/>
            <a:gdLst/>
            <a:ahLst/>
            <a:rect l="0" t="0" r="r" b="b"/>
            <a:pathLst>
              <a:path w="19346" h="12141">
                <a:moveTo>
                  <a:pt x="0" y="0"/>
                </a:moveTo>
                <a:lnTo>
                  <a:pt x="0" y="12141"/>
                </a:lnTo>
                <a:lnTo>
                  <a:pt x="19346" y="12141"/>
                </a:lnTo>
                <a:lnTo>
                  <a:pt x="193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306440" y="1523880"/>
            <a:ext cx="7271280" cy="4545360"/>
          </a:xfrm>
          <a:custGeom>
            <a:avLst/>
            <a:gdLst/>
            <a:ahLst/>
            <a:rect l="0" t="0" r="r" b="b"/>
            <a:pathLst>
              <a:path w="20198" h="12626">
                <a:moveTo>
                  <a:pt x="431" y="401"/>
                </a:moveTo>
                <a:lnTo>
                  <a:pt x="0" y="0"/>
                </a:lnTo>
                <a:lnTo>
                  <a:pt x="20198" y="0"/>
                </a:lnTo>
                <a:lnTo>
                  <a:pt x="20114" y="83"/>
                </a:lnTo>
                <a:lnTo>
                  <a:pt x="213" y="83"/>
                </a:lnTo>
                <a:lnTo>
                  <a:pt x="471" y="317"/>
                </a:lnTo>
                <a:lnTo>
                  <a:pt x="20114" y="317"/>
                </a:lnTo>
                <a:lnTo>
                  <a:pt x="20034" y="590"/>
                </a:lnTo>
                <a:lnTo>
                  <a:pt x="773" y="590"/>
                </a:lnTo>
                <a:lnTo>
                  <a:pt x="773" y="12626"/>
                </a:lnTo>
                <a:lnTo>
                  <a:pt x="431" y="12626"/>
                </a:lnTo>
                <a:lnTo>
                  <a:pt x="431" y="40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79320" y="439560"/>
            <a:ext cx="8245440" cy="7207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Palatino"/>
                <a:ea typeface="Palatino"/>
              </a:rPr>
              <a:t>2:   </a:t>
            </a:r>
            <a:r>
              <a:rPr b="1" lang="en-US" sz="4400" spc="-1" strike="noStrike">
                <a:solidFill>
                  <a:srgbClr val="fafd00"/>
                </a:solidFill>
                <a:latin typeface="Palatino"/>
                <a:ea typeface="Palatino"/>
              </a:rPr>
              <a:t>Megjelen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143080" y="2209680"/>
            <a:ext cx="63244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yers mintapontok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d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nal-utánzás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vect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mpresszió (minta-ritkítás) 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poláció (minta-sûrítés)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égtelen utánvilágítás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point AC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áltozó utánvilágítás (árnya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nalíró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ro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üzemm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1060560" y="693720"/>
            <a:ext cx="7545240" cy="10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DSO  nyomvonal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megjelenítése  “csa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H-Times New Roman"/>
                <a:ea typeface="H-Times New Roman"/>
              </a:rPr>
              <a:t>vizuális referencia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(!),  a  mért értéke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tárolt hullámforma  </a:t>
            </a:r>
            <a:r>
              <a:rPr b="1" lang="en-US" sz="3200" spc="-1" strike="noStrike">
                <a:solidFill>
                  <a:srgbClr val="7fff00"/>
                </a:solidFill>
                <a:latin typeface="H-Times New Roman"/>
                <a:ea typeface="H-Times New Roman"/>
              </a:rPr>
              <a:t>numerikus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ad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tartalmazzá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 vizualizálás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túlmintavételezési  igény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</a:t>
            </a:r>
            <a:r>
              <a:rPr b="1" lang="en-US" sz="3200" spc="-1" strike="noStrike">
                <a:solidFill>
                  <a:srgbClr val="7fff00"/>
                </a:solidFill>
                <a:latin typeface="H-Times New Roman"/>
                <a:ea typeface="H-Times New Roman"/>
              </a:rPr>
              <a:t>vektor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-típusú  (folytonos  nyomvona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emuláló)  mód  csökkenti, egyben gát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z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érzékcsalódás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(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“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perceptual aliasing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”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fellépésé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34800" y="361800"/>
            <a:ext cx="904860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Vektor (“</a:t>
            </a:r>
            <a:r>
              <a:rPr b="1" lang="en-US" sz="3600" spc="-1" strike="noStrike">
                <a:solidFill>
                  <a:srgbClr val="7fff00"/>
                </a:solidFill>
                <a:latin typeface="Palatino"/>
                <a:ea typeface="Palatino"/>
              </a:rPr>
              <a:t>connect the dot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”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megjelenít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542880" y="2273400"/>
            <a:ext cx="4191120" cy="367020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14880" y="2286000"/>
            <a:ext cx="3753000" cy="36399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984240" y="1749600"/>
            <a:ext cx="3103560" cy="5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optikai illúzió (</a:t>
            </a:r>
            <a:r>
              <a:rPr b="1" lang="en-US" sz="1800" spc="-1" strike="noStrike">
                <a:solidFill>
                  <a:srgbClr val="7fff00"/>
                </a:solidFill>
                <a:latin typeface="Palatino"/>
                <a:ea typeface="Palatino"/>
              </a:rPr>
              <a:t>visual aliasing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870440" y="1541520"/>
            <a:ext cx="4411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* van csúcs-hiba (de nincs “alul”mintavételezé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* csökken (!)  a  frissítési  gyakorisá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yomvonal  rekonstrukci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847800" y="2209680"/>
            <a:ext cx="8077320" cy="38862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 txBox="1"/>
          <p:nvPr/>
        </p:nvSpPr>
        <p:spPr>
          <a:xfrm>
            <a:off x="4489560" y="5732640"/>
            <a:ext cx="6746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660760" y="5838840"/>
            <a:ext cx="55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(L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7004160" y="58388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(SINC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984240" y="1236600"/>
            <a:ext cx="78613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A hullámforma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közvetlenül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megjeleníthetõ,  ha a  </a:t>
            </a: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rekord-hossz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 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ACQuisition MEMory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és a horizontális </a:t>
            </a: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pixel-szám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DISPlay MEMory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) azonos.   Rendszerint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nem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 ez a helyze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1060560" y="2303640"/>
            <a:ext cx="33051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Ha kevés a minta [“gyors” idõal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vagy  idõnyújtás (ZOOM)  esetén]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 u="sng">
                <a:solidFill>
                  <a:srgbClr val="081d58"/>
                </a:solidFill>
                <a:uFillTx/>
                <a:latin typeface="Palatino"/>
                <a:ea typeface="Palatino"/>
              </a:rPr>
              <a:t>minta</a:t>
            </a:r>
            <a:r>
              <a:rPr b="1" lang="en-US" sz="1800" spc="-1" strike="noStrike">
                <a:solidFill>
                  <a:srgbClr val="081d58"/>
                </a:solidFill>
                <a:latin typeface="Palatino"/>
                <a:ea typeface="Palatino"/>
              </a:rPr>
              <a:t> 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Palatino"/>
                <a:ea typeface="Palatino"/>
              </a:rPr>
              <a:t>sûrítés</a:t>
            </a:r>
            <a:r>
              <a:rPr b="1" lang="en-US" sz="1800" spc="-1" strike="noStrike">
                <a:solidFill>
                  <a:srgbClr val="081d58"/>
                </a:solidFill>
                <a:latin typeface="Palatino"/>
                <a:ea typeface="Palatino"/>
              </a:rPr>
              <a:t>  </a:t>
            </a: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szükséges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Az  interpolált minták csak  az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mutatják meg, hogy  “minek kellet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megtörténnie”, és  nem  azt,  hog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valójában mi történt”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114880" y="5486400"/>
            <a:ext cx="228960" cy="228960"/>
          </a:xfrm>
          <a:custGeom>
            <a:avLst/>
            <a:gdLst/>
            <a:ahLst/>
            <a:rect l="0" t="0" r="r" b="b"/>
            <a:pathLst>
              <a:path w="636" h="636">
                <a:moveTo>
                  <a:pt x="0" y="211"/>
                </a:moveTo>
                <a:lnTo>
                  <a:pt x="0" y="423"/>
                </a:lnTo>
                <a:lnTo>
                  <a:pt x="445" y="423"/>
                </a:lnTo>
                <a:lnTo>
                  <a:pt x="445" y="636"/>
                </a:lnTo>
                <a:lnTo>
                  <a:pt x="636" y="317"/>
                </a:lnTo>
                <a:lnTo>
                  <a:pt x="445" y="0"/>
                </a:lnTo>
                <a:lnTo>
                  <a:pt x="445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114880" y="4419720"/>
            <a:ext cx="228960" cy="228960"/>
          </a:xfrm>
          <a:custGeom>
            <a:avLst/>
            <a:gdLst/>
            <a:ahLst/>
            <a:rect l="0" t="0" r="r" b="b"/>
            <a:pathLst>
              <a:path w="636" h="636">
                <a:moveTo>
                  <a:pt x="0" y="211"/>
                </a:moveTo>
                <a:lnTo>
                  <a:pt x="0" y="423"/>
                </a:lnTo>
                <a:lnTo>
                  <a:pt x="445" y="423"/>
                </a:lnTo>
                <a:lnTo>
                  <a:pt x="445" y="636"/>
                </a:lnTo>
                <a:lnTo>
                  <a:pt x="636" y="317"/>
                </a:lnTo>
                <a:lnTo>
                  <a:pt x="445" y="0"/>
                </a:lnTo>
                <a:lnTo>
                  <a:pt x="445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1539720" y="1692360"/>
            <a:ext cx="6964560" cy="4370760"/>
          </a:xfrm>
          <a:custGeom>
            <a:avLst/>
            <a:gdLst/>
            <a:ahLst/>
            <a:rect l="0" t="0" r="r" b="b"/>
            <a:pathLst>
              <a:path w="19346" h="12141">
                <a:moveTo>
                  <a:pt x="0" y="0"/>
                </a:moveTo>
                <a:lnTo>
                  <a:pt x="0" y="12141"/>
                </a:lnTo>
                <a:lnTo>
                  <a:pt x="19346" y="12141"/>
                </a:lnTo>
                <a:lnTo>
                  <a:pt x="193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306440" y="1506600"/>
            <a:ext cx="7271280" cy="4545360"/>
          </a:xfrm>
          <a:custGeom>
            <a:avLst/>
            <a:gdLst/>
            <a:ahLst/>
            <a:rect l="0" t="0" r="r" b="b"/>
            <a:pathLst>
              <a:path w="20198" h="12626">
                <a:moveTo>
                  <a:pt x="431" y="401"/>
                </a:moveTo>
                <a:lnTo>
                  <a:pt x="0" y="0"/>
                </a:lnTo>
                <a:lnTo>
                  <a:pt x="20198" y="0"/>
                </a:lnTo>
                <a:lnTo>
                  <a:pt x="20114" y="83"/>
                </a:lnTo>
                <a:lnTo>
                  <a:pt x="213" y="83"/>
                </a:lnTo>
                <a:lnTo>
                  <a:pt x="471" y="317"/>
                </a:lnTo>
                <a:lnTo>
                  <a:pt x="20114" y="317"/>
                </a:lnTo>
                <a:lnTo>
                  <a:pt x="20034" y="590"/>
                </a:lnTo>
                <a:lnTo>
                  <a:pt x="773" y="590"/>
                </a:lnTo>
                <a:lnTo>
                  <a:pt x="773" y="12626"/>
                </a:lnTo>
                <a:lnTo>
                  <a:pt x="431" y="12626"/>
                </a:lnTo>
                <a:lnTo>
                  <a:pt x="431" y="40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79320" y="439560"/>
            <a:ext cx="8245440" cy="7207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Palatino"/>
                <a:ea typeface="Palatino"/>
              </a:rPr>
              <a:t>3:   </a:t>
            </a:r>
            <a:r>
              <a:rPr b="1" lang="en-US" sz="4400" spc="-1" strike="noStrike">
                <a:solidFill>
                  <a:srgbClr val="fafd00"/>
                </a:solidFill>
                <a:latin typeface="Palatino"/>
                <a:ea typeface="Palatino"/>
              </a:rPr>
              <a:t>Mérés  és  elem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066760" y="213372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ullámforma-paraméterek  mér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kord  mûveletek 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Waveform M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ktrum  analízis 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FF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at-eloszlás 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histogra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érési  statisztik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ntr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statisztikai  mér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szk mérés  (határérték komparál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1289160" y="395280"/>
            <a:ext cx="7521480" cy="10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 hullámforma  (idõ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rekord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)   numerik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mintáinak feldolgozása (</a:t>
            </a:r>
            <a:r>
              <a:rPr b="1" lang="en-US" sz="3200" spc="-1" strike="noStrike">
                <a:solidFill>
                  <a:srgbClr val="fafd00"/>
                </a:solidFill>
                <a:latin typeface="H-Times New Roman"/>
                <a:ea typeface="H-Times New Roman"/>
              </a:rPr>
              <a:t>DSP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)  haté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mérések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et,  és tartomány váltással (</a:t>
            </a:r>
            <a:r>
              <a:rPr b="1" lang="en-US" sz="3200" spc="-1" strike="noStrike">
                <a:solidFill>
                  <a:srgbClr val="7fff00"/>
                </a:solidFill>
                <a:latin typeface="H-Times New Roman"/>
                <a:ea typeface="H-Times New Roman"/>
              </a:rPr>
              <a:t>FFT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7fff00"/>
                </a:solidFill>
                <a:latin typeface="H-Times New Roman"/>
                <a:ea typeface="H-Times New Roman"/>
              </a:rPr>
              <a:t>hisztogram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)  új nézõpontú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elemzés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t te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lehetõ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Változások számszerû minõsítésére alkal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mas a paraméter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statisztika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felvétel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z eszköz 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intelligencia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a  nagy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átbocsátó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képesség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(a gyors válaszok) alapja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utomatikus paraméter-mérés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3743280" y="2286000"/>
            <a:ext cx="5486400" cy="35812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7477200" y="5583240"/>
            <a:ext cx="16765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Periódikus  jel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755640" y="1347840"/>
            <a:ext cx="728964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Pulzus-paraméterek (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IEEE Std. 181, 194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),  és  mérési statisztiká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Szintbeállítás:  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amplitúdó-hisztogram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b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638760" y="2687760"/>
            <a:ext cx="16765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Amplitúdó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429080" y="5583240"/>
            <a:ext cx="16765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Idõtartam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755640" y="3349800"/>
            <a:ext cx="2616120" cy="13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A folyam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paraméter mér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csökken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a frissítési gyakoriságot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794120" y="2583000"/>
            <a:ext cx="798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400880" y="4952880"/>
            <a:ext cx="1447920" cy="533520"/>
          </a:xfrm>
          <a:prstGeom prst="rect">
            <a:avLst/>
          </a:prstGeom>
          <a:noFill/>
          <a:ln w="12600">
            <a:solidFill>
              <a:srgbClr val="fc0128"/>
            </a:solidFill>
            <a:custDash>
              <a:ds d="100000" sp="100000"/>
            </a:custDash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243000" y="316080"/>
            <a:ext cx="92329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  mûvelet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3743280" y="2286000"/>
            <a:ext cx="5486400" cy="35812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6089760" y="555480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946760" y="1424160"/>
            <a:ext cx="391644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Az  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interpoláció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 segíti  a  hard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maximális  kihasználásá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907920" y="2222640"/>
            <a:ext cx="2190600" cy="44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összeg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zor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négy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integrá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differenciá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imítás (szûré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átlago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burkol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81160" y="4114800"/>
            <a:ext cx="60984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695160" y="361800"/>
            <a:ext cx="8458200" cy="160848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FFT = DFT = Fourier-sor 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periódiku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jelrészlet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armóniku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omponensekre bontás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46200" y="2057400"/>
            <a:ext cx="8659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z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F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módszerû  spektrum analíz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rtománya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 - fs/2     ( fs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 minta-gyakorisá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elbontása: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s/N         ( 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az  FFT  minta-szá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z 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id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tartomány és a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rekvenc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tartomán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lbont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án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lentmond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idõfelbont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1/fs   [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s az </a:t>
            </a:r>
            <a:r>
              <a:rPr b="1" lang="en-US" sz="1800" spc="-1" strike="noStrike">
                <a:solidFill>
                  <a:srgbClr val="7fff00"/>
                </a:solidFill>
                <a:latin typeface="Arial"/>
                <a:ea typeface="Arial"/>
              </a:rPr>
              <a:t>idõabla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(1/fs).N = 10.”sec/DIV”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FT “ablak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m-kohere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mintavétel hatásának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ktrum-szivárg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mplitúdó-hib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 csökken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000" y="316080"/>
            <a:ext cx="9232920" cy="16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Ekvivalens idejû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intavétel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ET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: Equivalent-Time Sampling;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petitive samp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380960" y="1905120"/>
            <a:ext cx="73915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sa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petití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esetén  (... mint  “ART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smétlõd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trigger           rekord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észlet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õl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áll össze” a      teljes rekord,  emiatt  csökken(!)  a  frissítési gyakori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megvalósult (effektív)  minta gyakoriság  nagyobb(!) mint a hardver(A/D) korl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ihasználható a teljes(!) analóg sávszélessé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véletlen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E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 van pretrig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en nagy sávszélességhez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“szekvenciális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95560" y="31240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1457280" y="1692360"/>
            <a:ext cx="6858000" cy="43275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334800" y="361800"/>
            <a:ext cx="9048600" cy="9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álózati-feszültség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orzítás</a:t>
            </a:r>
            <a:br>
              <a:rPr sz="1800"/>
            </a:b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páratlan harmónikuso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248600" y="3581280"/>
            <a:ext cx="914400" cy="1371600"/>
          </a:xfrm>
          <a:prstGeom prst="rect">
            <a:avLst/>
          </a:prstGeom>
          <a:noFill/>
          <a:ln w="12600">
            <a:solidFill>
              <a:srgbClr val="fc0128"/>
            </a:solidFill>
            <a:custDash>
              <a:ds d="100000" sp="100000"/>
            </a:custDash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270240" y="5850000"/>
            <a:ext cx="5065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/D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336920" y="5850000"/>
            <a:ext cx="5065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/D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2355840" y="2151000"/>
            <a:ext cx="5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F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2127240" y="3141720"/>
            <a:ext cx="500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2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736720" y="2760840"/>
            <a:ext cx="5176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3r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7385040" y="4970520"/>
            <a:ext cx="749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Par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Me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771480" y="361800"/>
            <a:ext cx="815328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tatisztikai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mér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752400" y="1324080"/>
            <a:ext cx="81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yományos (vizuális, manuális)  eljár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zélsõ-érték detektálás 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envelo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,  kurzor-mér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utomatizálás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isztikai-adatbázis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lvét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smétlõdõ statisztikus jelenségek (idõ-jitte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mplitúdó zaj, ...) eloszlásának rögzítése ( 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histogram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és  a  statisztikai  koncentrációk  elemzése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243000" y="316080"/>
            <a:ext cx="9232920" cy="9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zem-ábra”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átlapolódó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  jel-szegmens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981160" y="1523880"/>
            <a:ext cx="6248520" cy="46562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 txBox="1"/>
          <p:nvPr/>
        </p:nvSpPr>
        <p:spPr>
          <a:xfrm>
            <a:off x="527040" y="1693800"/>
            <a:ext cx="2114640" cy="27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Alap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base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és</a:t>
            </a: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tetõ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top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a közép alatti és felet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dominá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amplitúdó-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populá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ezek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nem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a min. 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max. értékek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19200" y="4132440"/>
            <a:ext cx="2284560" cy="2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Elemzés 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közeli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proximal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, 10%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közbensõ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mesial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, 50%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távoli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distal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, 90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szinte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42880" y="285840"/>
            <a:ext cx="861048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Véletlen”  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89120" y="2708280"/>
            <a:ext cx="1792440" cy="1066680"/>
            <a:chOff x="1689120" y="2708280"/>
            <a:chExt cx="1792440" cy="1066680"/>
          </a:xfrm>
        </p:grpSpPr>
        <p:sp>
          <p:nvSpPr>
            <p:cNvPr id="282" name=""/>
            <p:cNvSpPr/>
            <p:nvPr/>
          </p:nvSpPr>
          <p:spPr>
            <a:xfrm>
              <a:off x="1689120" y="2708280"/>
              <a:ext cx="179244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5580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9880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2884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7184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0188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4488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7492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076640" y="2708280"/>
            <a:ext cx="1792440" cy="1066680"/>
            <a:chOff x="4076640" y="2708280"/>
            <a:chExt cx="1792440" cy="1066680"/>
          </a:xfrm>
        </p:grpSpPr>
        <p:sp>
          <p:nvSpPr>
            <p:cNvPr id="291" name=""/>
            <p:cNvSpPr/>
            <p:nvPr/>
          </p:nvSpPr>
          <p:spPr>
            <a:xfrm>
              <a:off x="4076640" y="2708280"/>
              <a:ext cx="179244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4332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8632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1636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936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940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3240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6244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332400" y="2708280"/>
            <a:ext cx="1792440" cy="1066680"/>
            <a:chOff x="6332400" y="2708280"/>
            <a:chExt cx="1792440" cy="1066680"/>
          </a:xfrm>
        </p:grpSpPr>
        <p:sp>
          <p:nvSpPr>
            <p:cNvPr id="300" name=""/>
            <p:cNvSpPr/>
            <p:nvPr/>
          </p:nvSpPr>
          <p:spPr>
            <a:xfrm>
              <a:off x="6332400" y="2708280"/>
              <a:ext cx="179244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9908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4064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7248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1368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4552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8672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1856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332400" y="4564080"/>
            <a:ext cx="1792440" cy="1065240"/>
            <a:chOff x="6332400" y="4564080"/>
            <a:chExt cx="1792440" cy="1065240"/>
          </a:xfrm>
        </p:grpSpPr>
        <p:sp>
          <p:nvSpPr>
            <p:cNvPr id="309" name=""/>
            <p:cNvSpPr/>
            <p:nvPr/>
          </p:nvSpPr>
          <p:spPr>
            <a:xfrm>
              <a:off x="6332400" y="4564080"/>
              <a:ext cx="179244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9908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4064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7248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1368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4552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8672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1856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2571840" y="2638440"/>
            <a:ext cx="0" cy="1038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960800" y="2638440"/>
            <a:ext cx="0" cy="1038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213680" y="2638440"/>
            <a:ext cx="0" cy="1038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219800" y="4484520"/>
            <a:ext cx="0" cy="1049400"/>
          </a:xfrm>
          <a:prstGeom prst="line">
            <a:avLst/>
          </a:prstGeom>
          <a:ln w="25560">
            <a:solidFill>
              <a:srgbClr val="fafd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394000" y="2414520"/>
            <a:ext cx="5572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Trig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792680" y="2414520"/>
            <a:ext cx="5572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Trig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026120" y="2414520"/>
            <a:ext cx="5572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Trig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10024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0368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46536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09104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71816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3240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49116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21512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92180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14680" y="2905200"/>
            <a:ext cx="1724400" cy="581400"/>
          </a:xfrm>
          <a:custGeom>
            <a:avLst/>
            <a:gdLst/>
            <a:ahLst/>
            <a:rect l="0" t="0" r="r" b="b"/>
            <a:pathLst>
              <a:path fill="none" w="4790" h="1615">
                <a:moveTo>
                  <a:pt x="0" y="1615"/>
                </a:moveTo>
                <a:lnTo>
                  <a:pt x="1747" y="1615"/>
                </a:lnTo>
                <a:lnTo>
                  <a:pt x="3043" y="0"/>
                </a:lnTo>
                <a:lnTo>
                  <a:pt x="4790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905200"/>
            <a:ext cx="1724400" cy="581400"/>
          </a:xfrm>
          <a:custGeom>
            <a:avLst/>
            <a:gdLst/>
            <a:ahLst/>
            <a:rect l="0" t="0" r="r" b="b"/>
            <a:pathLst>
              <a:path fill="none" w="4790" h="1615">
                <a:moveTo>
                  <a:pt x="0" y="1615"/>
                </a:moveTo>
                <a:lnTo>
                  <a:pt x="1747" y="1615"/>
                </a:lnTo>
                <a:lnTo>
                  <a:pt x="3043" y="0"/>
                </a:lnTo>
                <a:lnTo>
                  <a:pt x="4790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81720" y="2905200"/>
            <a:ext cx="1724400" cy="581400"/>
          </a:xfrm>
          <a:custGeom>
            <a:avLst/>
            <a:gdLst/>
            <a:ahLst/>
            <a:rect l="0" t="0" r="r" b="b"/>
            <a:pathLst>
              <a:path fill="none" w="4790" h="1615">
                <a:moveTo>
                  <a:pt x="0" y="1615"/>
                </a:moveTo>
                <a:lnTo>
                  <a:pt x="1747" y="1615"/>
                </a:lnTo>
                <a:lnTo>
                  <a:pt x="3043" y="0"/>
                </a:lnTo>
                <a:lnTo>
                  <a:pt x="4790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62640" y="4762440"/>
            <a:ext cx="1724400" cy="581400"/>
          </a:xfrm>
          <a:custGeom>
            <a:avLst/>
            <a:gdLst/>
            <a:ahLst/>
            <a:rect l="0" t="0" r="r" b="b"/>
            <a:pathLst>
              <a:path fill="none" w="4790" h="1615">
                <a:moveTo>
                  <a:pt x="0" y="1615"/>
                </a:moveTo>
                <a:lnTo>
                  <a:pt x="1747" y="1615"/>
                </a:lnTo>
                <a:lnTo>
                  <a:pt x="3043" y="0"/>
                </a:lnTo>
                <a:lnTo>
                  <a:pt x="4790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52720" y="2841480"/>
            <a:ext cx="6126120" cy="2557440"/>
            <a:chOff x="2052720" y="2841480"/>
            <a:chExt cx="6126120" cy="2557440"/>
          </a:xfrm>
        </p:grpSpPr>
        <p:grpSp>
          <p:nvGrpSpPr>
            <p:cNvPr id="338" name=""/>
            <p:cNvGrpSpPr/>
            <p:nvPr/>
          </p:nvGrpSpPr>
          <p:grpSpPr>
            <a:xfrm>
              <a:off x="2052720" y="2846520"/>
              <a:ext cx="1452600" cy="708120"/>
              <a:chOff x="2052720" y="2846520"/>
              <a:chExt cx="1452600" cy="708120"/>
            </a:xfrm>
          </p:grpSpPr>
          <p:sp>
            <p:nvSpPr>
              <p:cNvPr id="339" name=""/>
              <p:cNvSpPr/>
              <p:nvPr/>
            </p:nvSpPr>
            <p:spPr>
              <a:xfrm>
                <a:off x="2052720" y="343548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35280" y="284652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86160" y="284652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043520" y="2841480"/>
              <a:ext cx="1473120" cy="713160"/>
              <a:chOff x="4043520" y="2841480"/>
              <a:chExt cx="1473120" cy="713160"/>
            </a:xfrm>
          </p:grpSpPr>
          <p:sp>
            <p:nvSpPr>
              <p:cNvPr id="343" name=""/>
              <p:cNvSpPr/>
              <p:nvPr/>
            </p:nvSpPr>
            <p:spPr>
              <a:xfrm>
                <a:off x="4043520" y="3435480"/>
                <a:ext cx="12060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76760" y="342108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97480" y="284148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442200" y="2852640"/>
              <a:ext cx="1549440" cy="702000"/>
              <a:chOff x="6442200" y="2852640"/>
              <a:chExt cx="1549440" cy="702000"/>
            </a:xfrm>
          </p:grpSpPr>
          <p:sp>
            <p:nvSpPr>
              <p:cNvPr id="347" name=""/>
              <p:cNvSpPr/>
              <p:nvPr/>
            </p:nvSpPr>
            <p:spPr>
              <a:xfrm>
                <a:off x="6442200" y="343548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45280" y="318132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872480" y="285264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265800" y="4707000"/>
              <a:ext cx="1913040" cy="691920"/>
              <a:chOff x="6265800" y="4707000"/>
              <a:chExt cx="1913040" cy="691920"/>
            </a:xfrm>
          </p:grpSpPr>
          <p:sp>
            <p:nvSpPr>
              <p:cNvPr id="351" name=""/>
              <p:cNvSpPr/>
              <p:nvPr/>
            </p:nvSpPr>
            <p:spPr>
              <a:xfrm>
                <a:off x="6265800" y="5278320"/>
                <a:ext cx="120600" cy="12060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59680" y="500688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88280" y="470700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04080" y="5278320"/>
                <a:ext cx="120600" cy="12060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64160" y="5278320"/>
                <a:ext cx="119160" cy="12060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59680" y="470700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608960" y="470700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61320" y="470700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73680" y="5278320"/>
                <a:ext cx="119160" cy="12060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 flipV="1">
            <a:off x="2828880" y="3048120"/>
            <a:ext cx="0" cy="533160"/>
          </a:xfrm>
          <a:prstGeom prst="line">
            <a:avLst/>
          </a:prstGeom>
          <a:ln w="12600">
            <a:solidFill>
              <a:srgbClr val="fafd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19800" y="3048120"/>
            <a:ext cx="0" cy="533160"/>
          </a:xfrm>
          <a:prstGeom prst="line">
            <a:avLst/>
          </a:prstGeom>
          <a:ln w="12600">
            <a:solidFill>
              <a:srgbClr val="fafd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11240" y="3886200"/>
            <a:ext cx="826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S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  </a:t>
            </a: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p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00280" y="3657600"/>
            <a:ext cx="22860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62600" y="3657600"/>
            <a:ext cx="45720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136520" y="1447920"/>
            <a:ext cx="7088040" cy="8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ismétlõdõ(repetitív)  jelbõl   </a:t>
            </a:r>
            <a:r>
              <a:rPr b="1" lang="en-US" sz="2800" spc="-1" strike="noStrike">
                <a:solidFill>
                  <a:srgbClr val="fdc0e5"/>
                </a:solidFill>
                <a:latin typeface="Palatino"/>
                <a:ea typeface="Palatino"/>
              </a:rPr>
              <a:t>rekord-részletek</a:t>
            </a:r>
            <a:r>
              <a:rPr b="1" lang="en-US" sz="2800" spc="-1" strike="noStrike">
                <a:solidFill>
                  <a:srgbClr val="fdc0e5"/>
                </a:solidFill>
                <a:latin typeface="Palatino"/>
                <a:ea typeface="Palatino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56040" y="4660920"/>
            <a:ext cx="21495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dc0e5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teljes rek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28880" y="4343400"/>
            <a:ext cx="609480" cy="0"/>
          </a:xfrm>
          <a:prstGeom prst="line">
            <a:avLst/>
          </a:prstGeom>
          <a:ln w="12600">
            <a:solidFill>
              <a:srgbClr val="fdc0e5"/>
            </a:solidFill>
            <a:custDash>
              <a:ds d="100000" sp="1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584440" y="4457880"/>
            <a:ext cx="12654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dc0e5"/>
                </a:solidFill>
                <a:latin typeface="Palatino"/>
                <a:ea typeface="Palatino"/>
              </a:rPr>
              <a:t>hardver (A/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dc0e5"/>
                </a:solidFill>
                <a:latin typeface="Palatino"/>
                <a:ea typeface="Palatino"/>
              </a:rPr>
              <a:t>     </a:t>
            </a:r>
            <a:r>
              <a:rPr b="1" lang="en-US" sz="1400" spc="-1" strike="noStrike">
                <a:solidFill>
                  <a:srgbClr val="fdc0e5"/>
                </a:solidFill>
                <a:latin typeface="Palatino"/>
                <a:ea typeface="Palatino"/>
              </a:rPr>
              <a:t>korlá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632560" y="4267080"/>
            <a:ext cx="16923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PREtrigger = 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956040" y="5067360"/>
            <a:ext cx="214488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a hardver (A/D) korlátná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jobb(!)  idõfelbont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685880" y="3809880"/>
            <a:ext cx="990720" cy="1143000"/>
          </a:xfrm>
          <a:prstGeom prst="line">
            <a:avLst/>
          </a:prstGeom>
          <a:ln w="12600">
            <a:solidFill>
              <a:srgbClr val="fc0128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47800" y="4800600"/>
            <a:ext cx="990720" cy="83808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100000" sp="100000"/>
            </a:custDash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76240" y="4853160"/>
            <a:ext cx="961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dc0e5"/>
                </a:solidFill>
                <a:latin typeface="Palatino"/>
                <a:ea typeface="Palatino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id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mé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9200" y="272880"/>
            <a:ext cx="853452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zekvenciális”  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644480" y="2521080"/>
            <a:ext cx="1905120" cy="1133280"/>
            <a:chOff x="1644480" y="2521080"/>
            <a:chExt cx="1905120" cy="1133280"/>
          </a:xfrm>
        </p:grpSpPr>
        <p:sp>
          <p:nvSpPr>
            <p:cNvPr id="376" name=""/>
            <p:cNvSpPr/>
            <p:nvPr/>
          </p:nvSpPr>
          <p:spPr>
            <a:xfrm>
              <a:off x="1644480" y="2521080"/>
              <a:ext cx="1905120" cy="1063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208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7792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2416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8120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2564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844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892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 txBox="1"/>
          <p:nvPr/>
        </p:nvSpPr>
        <p:spPr>
          <a:xfrm>
            <a:off x="1685880" y="2028960"/>
            <a:ext cx="58752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300" spc="-1" strike="noStrike">
                <a:solidFill>
                  <a:srgbClr val="fafd00"/>
                </a:solidFill>
                <a:latin typeface="Arial"/>
                <a:ea typeface="Arial"/>
              </a:rPr>
              <a:t>Trig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47720" y="2066760"/>
            <a:ext cx="3240" cy="38124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647720" y="3743280"/>
            <a:ext cx="0" cy="37476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363920" y="2705040"/>
            <a:ext cx="0" cy="863640"/>
          </a:xfrm>
          <a:prstGeom prst="line">
            <a:avLst/>
          </a:prstGeom>
          <a:ln w="25560">
            <a:solidFill>
              <a:srgbClr val="fdc0e5"/>
            </a:solidFill>
            <a:custDash>
              <a:ds d="49296" sp="49296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181400" y="2521080"/>
            <a:ext cx="1905120" cy="1133280"/>
            <a:chOff x="4181400" y="2521080"/>
            <a:chExt cx="1905120" cy="1133280"/>
          </a:xfrm>
        </p:grpSpPr>
        <p:sp>
          <p:nvSpPr>
            <p:cNvPr id="389" name=""/>
            <p:cNvSpPr/>
            <p:nvPr/>
          </p:nvSpPr>
          <p:spPr>
            <a:xfrm>
              <a:off x="4181400" y="2521080"/>
              <a:ext cx="1905120" cy="1063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5780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162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610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1812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6400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2140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672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4195800" y="2028960"/>
            <a:ext cx="58752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300" spc="-1" strike="noStrike">
                <a:solidFill>
                  <a:srgbClr val="fafd00"/>
                </a:solidFill>
                <a:latin typeface="Arial"/>
                <a:ea typeface="Arial"/>
              </a:rPr>
              <a:t>Trig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95800" y="2066760"/>
            <a:ext cx="0" cy="38124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357800" y="3743280"/>
            <a:ext cx="0" cy="3301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591240" y="2066760"/>
            <a:ext cx="0" cy="38124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578640" y="2521080"/>
            <a:ext cx="1906560" cy="1133280"/>
            <a:chOff x="6578640" y="2521080"/>
            <a:chExt cx="1906560" cy="1133280"/>
          </a:xfrm>
        </p:grpSpPr>
        <p:sp>
          <p:nvSpPr>
            <p:cNvPr id="402" name=""/>
            <p:cNvSpPr/>
            <p:nvPr/>
          </p:nvSpPr>
          <p:spPr>
            <a:xfrm>
              <a:off x="6578640" y="2521080"/>
              <a:ext cx="1906560" cy="1063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564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1352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796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1536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6124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1864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6452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 flipV="1">
            <a:off x="7013520" y="2720880"/>
            <a:ext cx="0" cy="851040"/>
          </a:xfrm>
          <a:prstGeom prst="line">
            <a:avLst/>
          </a:prstGeom>
          <a:ln w="25560">
            <a:solidFill>
              <a:srgbClr val="fdc0e5"/>
            </a:solidFill>
            <a:custDash>
              <a:ds d="49296" sp="49296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608880" y="2028960"/>
            <a:ext cx="58752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300" spc="-1" strike="noStrike">
                <a:solidFill>
                  <a:srgbClr val="fafd00"/>
                </a:solidFill>
                <a:latin typeface="Arial"/>
                <a:ea typeface="Arial"/>
              </a:rPr>
              <a:t>Trig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7015320" y="3743280"/>
            <a:ext cx="0" cy="3175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578640" y="4357800"/>
            <a:ext cx="1906560" cy="1131840"/>
            <a:chOff x="6578640" y="4357800"/>
            <a:chExt cx="1906560" cy="1131840"/>
          </a:xfrm>
        </p:grpSpPr>
        <p:sp>
          <p:nvSpPr>
            <p:cNvPr id="414" name=""/>
            <p:cNvSpPr/>
            <p:nvPr/>
          </p:nvSpPr>
          <p:spPr>
            <a:xfrm>
              <a:off x="6578640" y="4357800"/>
              <a:ext cx="1906560" cy="10620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5648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1352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5796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1536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6124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1864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6452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276200" y="2695680"/>
            <a:ext cx="2248200" cy="733680"/>
          </a:xfrm>
          <a:custGeom>
            <a:avLst/>
            <a:gdLst/>
            <a:ahLst/>
            <a:rect l="0" t="0" r="r" b="b"/>
            <a:pathLst>
              <a:path fill="none" w="6245" h="2038">
                <a:moveTo>
                  <a:pt x="0" y="2038"/>
                </a:moveTo>
                <a:lnTo>
                  <a:pt x="608" y="2038"/>
                </a:lnTo>
                <a:lnTo>
                  <a:pt x="1455" y="0"/>
                </a:lnTo>
                <a:lnTo>
                  <a:pt x="6245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790800" y="2695680"/>
            <a:ext cx="2248200" cy="733680"/>
          </a:xfrm>
          <a:custGeom>
            <a:avLst/>
            <a:gdLst/>
            <a:ahLst/>
            <a:rect l="0" t="0" r="r" b="b"/>
            <a:pathLst>
              <a:path fill="none" w="6245" h="2038">
                <a:moveTo>
                  <a:pt x="0" y="2038"/>
                </a:moveTo>
                <a:lnTo>
                  <a:pt x="608" y="2038"/>
                </a:lnTo>
                <a:lnTo>
                  <a:pt x="1455" y="0"/>
                </a:lnTo>
                <a:lnTo>
                  <a:pt x="6245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19720" y="2705040"/>
            <a:ext cx="2248200" cy="733680"/>
          </a:xfrm>
          <a:custGeom>
            <a:avLst/>
            <a:gdLst/>
            <a:ahLst/>
            <a:rect l="0" t="0" r="r" b="b"/>
            <a:pathLst>
              <a:path fill="none" w="6245" h="2038">
                <a:moveTo>
                  <a:pt x="0" y="2038"/>
                </a:moveTo>
                <a:lnTo>
                  <a:pt x="608" y="2038"/>
                </a:lnTo>
                <a:lnTo>
                  <a:pt x="1455" y="0"/>
                </a:lnTo>
                <a:lnTo>
                  <a:pt x="6245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10360" y="4562640"/>
            <a:ext cx="2248200" cy="733680"/>
          </a:xfrm>
          <a:custGeom>
            <a:avLst/>
            <a:gdLst/>
            <a:ahLst/>
            <a:rect l="0" t="0" r="r" b="b"/>
            <a:pathLst>
              <a:path fill="none" w="6245" h="2038">
                <a:moveTo>
                  <a:pt x="0" y="2038"/>
                </a:moveTo>
                <a:lnTo>
                  <a:pt x="608" y="2038"/>
                </a:lnTo>
                <a:lnTo>
                  <a:pt x="1455" y="0"/>
                </a:lnTo>
                <a:lnTo>
                  <a:pt x="6245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9560" y="297180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76800" y="266688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43680" y="266688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86480" y="480060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943680" y="449568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15080" y="449568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3675240"/>
            <a:ext cx="826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S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 </a:t>
            </a: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poi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136520" y="1341360"/>
            <a:ext cx="7394400" cy="8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ismétlõdõ(repetitív)  jelbõl   </a:t>
            </a:r>
            <a:r>
              <a:rPr b="1" lang="en-US" sz="2800" spc="-1" strike="noStrike">
                <a:solidFill>
                  <a:srgbClr val="fdc0e5"/>
                </a:solidFill>
                <a:latin typeface="Palatino"/>
                <a:ea typeface="Palatino"/>
              </a:rPr>
              <a:t>késleltetett minták</a:t>
            </a:r>
            <a:r>
              <a:rPr b="1" lang="en-US" sz="2800" spc="-1" strike="noStrike">
                <a:solidFill>
                  <a:srgbClr val="fdc0e5"/>
                </a:solidFill>
                <a:latin typeface="Palatino"/>
                <a:ea typeface="Palatino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279520" y="4700520"/>
            <a:ext cx="1504800" cy="10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dc0e5"/>
                </a:solidFill>
                <a:latin typeface="Palatino"/>
                <a:ea typeface="Palatino"/>
              </a:rPr>
              <a:t>       </a:t>
            </a: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id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késlelte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0480" y="3581280"/>
            <a:ext cx="15228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19400" y="4648320"/>
            <a:ext cx="1600200" cy="83808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100000" sp="100000"/>
            </a:custDash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362400" y="3657600"/>
            <a:ext cx="914400" cy="990720"/>
          </a:xfrm>
          <a:prstGeom prst="line">
            <a:avLst/>
          </a:prstGeom>
          <a:ln w="12600">
            <a:solidFill>
              <a:srgbClr val="fc0128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62800" y="3581280"/>
            <a:ext cx="45720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099040" y="4432320"/>
            <a:ext cx="11826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rek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562800" y="4419720"/>
            <a:ext cx="0" cy="990360"/>
          </a:xfrm>
          <a:prstGeom prst="line">
            <a:avLst/>
          </a:prstGeom>
          <a:ln w="12600">
            <a:solidFill>
              <a:srgbClr val="fafd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41840" y="4838760"/>
            <a:ext cx="1581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nincs pretrigger(!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74800" y="1371600"/>
            <a:ext cx="81262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kord hoss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“ACQuisition Memory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i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õala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“sec/DIV”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sztás-szám (Div): 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ullámforma idõtartam: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sec/DIV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inta-gyakorisá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: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minta idõtávolsá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ipro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9200" y="361800"/>
            <a:ext cx="861048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 rekord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ktuális  minta-gyakorisága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: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(f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real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vagy   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equ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584440" y="4151160"/>
            <a:ext cx="882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 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38360" y="441972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498840" y="4495680"/>
            <a:ext cx="776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T/</a:t>
            </a:r>
            <a:r>
              <a:rPr b="1" i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27440" y="3962520"/>
            <a:ext cx="361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13240" y="4191120"/>
            <a:ext cx="387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86280" y="441972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794120" y="4451400"/>
            <a:ext cx="19969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sec/DIV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5403960" y="3917880"/>
            <a:ext cx="11127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852560" y="4694400"/>
            <a:ext cx="11923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[MS/s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65720" y="4846680"/>
            <a:ext cx="1803240" cy="8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[msec/Div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65720" y="3780000"/>
            <a:ext cx="1330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[K pts.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600280" y="5559480"/>
            <a:ext cx="4476600" cy="5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(Ennek  felsõ  korlátja  eszköz-specifikáció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1076400" y="361800"/>
            <a:ext cx="7772400" cy="95184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egengedett  jel-sávszélesség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5%-os pontosságho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23760" y="137160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-szor kisebb(!)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t  az  oszcilloszkó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óg sávszélesség (- 3dB)”  érték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- 3dB jelcsillapítás = - 29% amplitúdó hiba !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b)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inta-gyakoriság 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K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ad rész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és  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K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&gt;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=2  Nyquist-hatá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914480" y="388296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[fs/2-nél  nagyobb frekvenciájú  jelkomponens  az  alapsáv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a  transzformálódik:  “hasonmás  (ALIASING)”  lép fel !!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LINeáris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polációnál    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K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 =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SIN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polációnál         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K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90000"/>
              </a:lnSpc>
            </a:pPr>
            <a:r>
              <a:rPr b="1" lang="en-US" sz="1200" spc="-1" strike="noStrike">
                <a:solidFill>
                  <a:srgbClr val="063de8"/>
                </a:solidFill>
                <a:latin typeface="Arial"/>
                <a:ea typeface="Arial"/>
              </a:rPr>
              <a:t>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63de8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[A  rekord-felvétel  tehát  csak  “a  történet  egyik  fele”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z  interpoláció  mûvelete  növeli  a rekordok  közötti  holtidõt.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34800" y="361800"/>
            <a:ext cx="904860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hossz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3200" spc="-1" strike="noStrike">
                <a:solidFill>
                  <a:srgbClr val="7fff00"/>
                </a:solidFill>
                <a:latin typeface="Palatino"/>
                <a:ea typeface="Palatino"/>
              </a:rPr>
              <a:t>ACQuisition MEMory</a:t>
            </a: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22160" y="1647720"/>
            <a:ext cx="81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agy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rekord-hossz  célszer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mert  a  memória-mérettel  arányos  a  minta-gyakoriság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két kivéte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1)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petitív jel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gfigyelé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2)  gyorsan lezajló esemény  (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övid ideig tartó je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542960" indent="-17136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7fff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nagy méretû memória  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szegmentálhat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izualizáláshoz (nyomvonal megjelenítéshez) hatásos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dat-tömörítõ algoritm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zükséges(!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miatt  csökken  a  frissítési  gyakori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Pápay Zsolt</dc:creator>
  <dc:description/>
  <dc:language>en-US</dc:language>
  <cp:lastModifiedBy>Pápay Zsolt</cp:lastModifiedBy>
  <cp:revision>0</cp:revision>
  <dc:subject>rekord - felvétel, trigger</dc:subject>
  <dc:title>Digitális oszcilloszkóp (DSO)</dc:title>
</cp:coreProperties>
</file>