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814-BFF9-49FE-ADFB-6A3113B7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6C0-9A49-4A09-B8E2-7EBA1FA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689-AD8B-48FB-9626-CF0B164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0B1-FCC5-4746-93EF-73C90F4B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D01-C7A5-45D1-B46F-9F3DFEC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F8A-A57E-41A1-A97C-54111ABA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416-1389-4A8F-A70B-74F74D54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EA4-1230-439E-AE50-8A6A3D10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234-F3F3-470A-A9CE-39AE6B3E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C1E-26C2-49EC-8821-4B9F78B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20C-D0C7-4545-9D8F-54B01042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EBB-7128-4892-82A1-6F3E6EE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207-3C3E-43A7-8B09-D97962FD5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LENGTH ASSIGNMENT IN OPTICAL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ish Nata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iv Jayant Saurabhi Vadalk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jay Shar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od Vokka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65600" y="3003480"/>
            <a:ext cx="1828800" cy="164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859040" y="3003480"/>
            <a:ext cx="823680" cy="8222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59040" y="3917880"/>
            <a:ext cx="914400" cy="730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784760" y="3825360"/>
            <a:ext cx="1006560" cy="822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84760" y="3003480"/>
            <a:ext cx="1006560" cy="7304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90920"/>
            <a:ext cx="2865600" cy="1052280"/>
          </a:xfrm>
          <a:custGeom>
            <a:avLst/>
            <a:gdLst/>
            <a:ahLst/>
            <a:rect l="l" t="t" r="r" b="b"/>
            <a:pathLst>
              <a:path w="4752" h="1824">
                <a:moveTo>
                  <a:pt x="0" y="1824"/>
                </a:moveTo>
                <a:cubicBezTo>
                  <a:pt x="396" y="1152"/>
                  <a:pt x="792" y="480"/>
                  <a:pt x="1584" y="240"/>
                </a:cubicBezTo>
                <a:cubicBezTo>
                  <a:pt x="2376" y="0"/>
                  <a:pt x="4224" y="360"/>
                  <a:pt x="4752" y="384"/>
                </a:cubicBezTo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971800"/>
            <a:ext cx="2895480" cy="1676520"/>
          </a:xfrm>
          <a:custGeom>
            <a:avLst/>
            <a:gdLst/>
            <a:ahLst/>
            <a:rect l="l" t="t" r="r" b="b"/>
            <a:pathLst>
              <a:path w="4440" h="3024">
                <a:moveTo>
                  <a:pt x="0" y="1512"/>
                </a:moveTo>
                <a:cubicBezTo>
                  <a:pt x="456" y="1104"/>
                  <a:pt x="912" y="696"/>
                  <a:pt x="1584" y="504"/>
                </a:cubicBezTo>
                <a:cubicBezTo>
                  <a:pt x="2256" y="312"/>
                  <a:pt x="3624" y="0"/>
                  <a:pt x="4032" y="360"/>
                </a:cubicBezTo>
                <a:cubicBezTo>
                  <a:pt x="4440" y="720"/>
                  <a:pt x="4032" y="2304"/>
                  <a:pt x="4032" y="2664"/>
                </a:cubicBezTo>
                <a:cubicBezTo>
                  <a:pt x="4032" y="3024"/>
                  <a:pt x="4032" y="2772"/>
                  <a:pt x="4032" y="2520"/>
                </a:cubicBezTo>
              </a:path>
            </a:pathLst>
          </a:custGeom>
          <a:noFill/>
          <a:ln w="2556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048120"/>
            <a:ext cx="1524240" cy="1676160"/>
          </a:xfrm>
          <a:custGeom>
            <a:avLst/>
            <a:gdLst/>
            <a:ahLst/>
            <a:rect l="l" t="t" r="r" b="b"/>
            <a:pathLst>
              <a:path w="2544" h="2496">
                <a:moveTo>
                  <a:pt x="240" y="0"/>
                </a:moveTo>
                <a:cubicBezTo>
                  <a:pt x="120" y="912"/>
                  <a:pt x="0" y="1824"/>
                  <a:pt x="384" y="2160"/>
                </a:cubicBezTo>
                <a:cubicBezTo>
                  <a:pt x="768" y="2496"/>
                  <a:pt x="2184" y="2040"/>
                  <a:pt x="2544" y="2016"/>
                </a:cubicBezTo>
              </a:path>
            </a:pathLst>
          </a:custGeom>
          <a:noFill/>
          <a:ln w="255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3186000"/>
            <a:ext cx="2346480" cy="2071800"/>
          </a:xfrm>
          <a:custGeom>
            <a:avLst/>
            <a:gdLst/>
            <a:ahLst/>
            <a:rect l="l" t="t" r="r" b="b"/>
            <a:pathLst>
              <a:path w="4152" h="3456">
                <a:moveTo>
                  <a:pt x="3384" y="0"/>
                </a:moveTo>
                <a:cubicBezTo>
                  <a:pt x="3768" y="1296"/>
                  <a:pt x="4152" y="2592"/>
                  <a:pt x="3672" y="3024"/>
                </a:cubicBezTo>
                <a:cubicBezTo>
                  <a:pt x="3192" y="3456"/>
                  <a:pt x="1008" y="2664"/>
                  <a:pt x="504" y="2592"/>
                </a:cubicBezTo>
                <a:cubicBezTo>
                  <a:pt x="0" y="2520"/>
                  <a:pt x="324" y="2556"/>
                  <a:pt x="648" y="2592"/>
                </a:cubicBezTo>
              </a:path>
            </a:pathLst>
          </a:custGeom>
          <a:noFill/>
          <a:ln w="25560">
            <a:solidFill>
              <a:srgbClr val="3399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514600"/>
            <a:ext cx="3200400" cy="1066680"/>
          </a:xfrm>
          <a:custGeom>
            <a:avLst/>
            <a:gdLst/>
            <a:ahLst/>
            <a:rect l="l" t="t" r="r" b="b"/>
            <a:pathLst>
              <a:path w="5136" h="1704">
                <a:moveTo>
                  <a:pt x="0" y="72"/>
                </a:moveTo>
                <a:cubicBezTo>
                  <a:pt x="768" y="72"/>
                  <a:pt x="1536" y="72"/>
                  <a:pt x="2016" y="72"/>
                </a:cubicBezTo>
                <a:cubicBezTo>
                  <a:pt x="2496" y="72"/>
                  <a:pt x="2616" y="0"/>
                  <a:pt x="2880" y="72"/>
                </a:cubicBezTo>
                <a:cubicBezTo>
                  <a:pt x="3144" y="144"/>
                  <a:pt x="3264" y="264"/>
                  <a:pt x="3600" y="504"/>
                </a:cubicBezTo>
                <a:cubicBezTo>
                  <a:pt x="3936" y="744"/>
                  <a:pt x="4656" y="1320"/>
                  <a:pt x="4896" y="1512"/>
                </a:cubicBezTo>
                <a:cubicBezTo>
                  <a:pt x="5136" y="1704"/>
                  <a:pt x="5088" y="1680"/>
                  <a:pt x="5040" y="1656"/>
                </a:cubicBezTo>
              </a:path>
            </a:pathLst>
          </a:custGeom>
          <a:noFill/>
          <a:ln w="255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rgest Firs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819520"/>
            <a:ext cx="38124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657600"/>
            <a:ext cx="38088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4495680"/>
            <a:ext cx="38124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2819520"/>
            <a:ext cx="38088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581280"/>
            <a:ext cx="38088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495680"/>
            <a:ext cx="380880" cy="4064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12960" y="23274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25909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8098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312408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29000" y="49528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209680"/>
            <a:ext cx="2133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 (A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(A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(F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(B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= (B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638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-path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838080" y="510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rgest Firs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120" y="1447920"/>
            <a:ext cx="3352680" cy="2743200"/>
            <a:chOff x="762120" y="1447920"/>
            <a:chExt cx="3352680" cy="2743200"/>
          </a:xfrm>
        </p:grpSpPr>
        <p:sp>
          <p:nvSpPr>
            <p:cNvPr id="92" name=""/>
            <p:cNvSpPr/>
            <p:nvPr/>
          </p:nvSpPr>
          <p:spPr>
            <a:xfrm>
              <a:off x="1791000" y="1972080"/>
              <a:ext cx="126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49640" y="1972080"/>
              <a:ext cx="365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33800" y="2976840"/>
              <a:ext cx="21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1972080"/>
              <a:ext cx="639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514600" y="1972080"/>
              <a:ext cx="635040" cy="13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325152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8680" y="1460880"/>
              <a:ext cx="36684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91200" y="1447920"/>
              <a:ext cx="36648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5360" y="3046680"/>
              <a:ext cx="379440" cy="382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3160800"/>
              <a:ext cx="365040" cy="49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3733920"/>
              <a:ext cx="457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274356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1800" y="175284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4240" y="1752840"/>
              <a:ext cx="38088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0720" y="2819520"/>
              <a:ext cx="38088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410080" y="1295280"/>
            <a:ext cx="3124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19112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xiliary Graph (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56386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st First Orde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2, 1, 3, 4, 5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6019920"/>
            <a:ext cx="25146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7040" y="60958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velength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Smallest Last Algorith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el nodes as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…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p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mallest l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rtex ordering and use node index to break 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ces V(G)={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……..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} ord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ch that, deg(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&l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eg(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ode with highest degree is assigned a wave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move this node from graph and re-order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peat process of assigning wavelengths until all the nodes are assigned a wave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Smallest Last Algorith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86000"/>
            <a:ext cx="91440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95480"/>
            <a:ext cx="914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1371600"/>
            <a:ext cx="3352680" cy="2819520"/>
            <a:chOff x="685800" y="1371600"/>
            <a:chExt cx="3352680" cy="2819520"/>
          </a:xfrm>
        </p:grpSpPr>
        <p:sp>
          <p:nvSpPr>
            <p:cNvPr id="122" name=""/>
            <p:cNvSpPr/>
            <p:nvPr/>
          </p:nvSpPr>
          <p:spPr>
            <a:xfrm>
              <a:off x="1714680" y="1895760"/>
              <a:ext cx="126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73320" y="1895760"/>
              <a:ext cx="365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7480" y="2900520"/>
              <a:ext cx="21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01720" y="1895760"/>
              <a:ext cx="6397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438280" y="1895760"/>
              <a:ext cx="635040" cy="138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09680" y="317520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2360" y="1384560"/>
              <a:ext cx="366840" cy="274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4880" y="1371600"/>
              <a:ext cx="36648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9040" y="2970360"/>
              <a:ext cx="379440" cy="382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084480"/>
              <a:ext cx="365040" cy="274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733920"/>
              <a:ext cx="457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266724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1676520"/>
              <a:ext cx="38124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7920" y="1676520"/>
              <a:ext cx="38088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14400" y="2743200"/>
              <a:ext cx="380880" cy="40644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715000" y="1219320"/>
            <a:ext cx="3124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19112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xiliary Graph (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est Last Orde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5, 3, 1, 2, 4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5638680"/>
            <a:ext cx="2514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4, 2, 1, 3, 5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7040" y="56386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velength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Dynamic Wavelength Assign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3505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First F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est 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east U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os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43400" y="2286000"/>
            <a:ext cx="4495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in-Produ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Least Loa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ax-S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Relative Capacity Lo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rst Fit and Longest First Assig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Fit Assign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lengths are numbered and 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searching for available wavelengths, a lower numbered wavelength is considered before a higher numbered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that wavelength towards lower-end of ordered set of wavelengths are used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blocking probabi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irness during 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computational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est First Assignmen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the light-path requests based on their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 the longest light-path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28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287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3935520"/>
            <a:ext cx="7238880" cy="2313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6172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est First Wavelength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{1,3}, {1,2} , {4,5} , {3,5} , {2,4} , {3,4}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124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-Fit Wavelength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1143000"/>
          <a:ext cx="723888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23888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st and Most Used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Used (LU)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a wavelength that is least used in the network, thereby attempting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e the 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all the wave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of this scheme looks attractive but, 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is worse of than random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dditional storage and computation cost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ost Us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lects the most used wavelength in the network for the next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 packs the connections into fewer wavelengths and conserves the spare capa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 is outperforms the LU in several asp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162920" cy="2314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7239240" cy="240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746080" y="35053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st Use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69760" y="6338880"/>
            <a:ext cx="36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Used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22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{1,3}, {1,2} , {4,5} , {3,5} , {2,4} , {3,4}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Max-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nsiders all possible paths in the network and attempt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ximize the remaining path capacities after light path establish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ssu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raffic matri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nown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dv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th capacity on waveleng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j, is the number of fibers on which wavelength j is available on the most congested link along the path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th capacity of 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 is sum of path capacities on all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lect a wavelength, so that path capacity after light path establishment is maxim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nce connection has been established network state is updated and the next connection request is handled the sam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ptical net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rovide high network capac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reduced costs for applications such as Internet, video and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avelength division multiplexing (WD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ivides bandwidth of  fiber into multiple wavelength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ultiple users can transmit at distinct wavelength channels through the same fiber con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etworks no longer limited by transmission bandwidth, but by processing capability of electronic switches, routers and multiplex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662940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6705360" cy="221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08640" y="15228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2-4), (1-5), (3-6), (0-3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  b        c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3360" y="320040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waveleng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10040" y="59436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-Sum allocation of (2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104760" y="114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     1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5160" y="251460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2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04760" y="18288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    1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840" y="7621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5) (3-6) (0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76212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1523880"/>
            <a:ext cx="1447560" cy="60984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578995"/>
                <a:lnTo>
                  <a:pt x="21117" y="14006"/>
                </a:lnTo>
                <a:lnTo>
                  <a:pt x="17280" y="21600"/>
                </a:lnTo>
                <a:lnTo>
                  <a:pt x="12477" y="14006"/>
                </a:lnTo>
                <a:lnTo>
                  <a:pt x="14637" y="14006"/>
                </a:lnTo>
                <a:arcTo wR="7560" hR="21600" stAng="-2821005" swAng="-222156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2286000"/>
            <a:ext cx="1447920" cy="609480"/>
          </a:xfrm>
          <a:custGeom>
            <a:avLst/>
            <a:gdLst>
              <a:gd name="textAreaLeft" fmla="*/ 234360 w 1447920"/>
              <a:gd name="textAreaRight" fmla="*/ 108000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99" hR="21600" stAng="10800000" swAng="5400000"/>
                <a:lnTo>
                  <a:pt x="12613" y="0"/>
                </a:lnTo>
                <a:arcTo wR="6999" hR="21600" stAng="-5400000" swAng="2550172"/>
                <a:lnTo>
                  <a:pt x="21200" y="14400"/>
                </a:lnTo>
                <a:lnTo>
                  <a:pt x="16804" y="21600"/>
                </a:lnTo>
                <a:lnTo>
                  <a:pt x="11608" y="14400"/>
                </a:lnTo>
                <a:lnTo>
                  <a:pt x="13597" y="14400"/>
                </a:lnTo>
                <a:arcTo wR="6999" hR="21600" stAng="-2849828" swAng="-2065711"/>
                <a:lnTo>
                  <a:pt x="9806" y="1814"/>
                </a:lnTo>
                <a:arcTo wR="6999" hR="21600" stAng="-5884462" swAng="-4915538"/>
                <a:close/>
              </a:path>
              <a:path fill="darkenLess" w="21600" h="21600">
                <a:moveTo>
                  <a:pt x="0" y="21600"/>
                </a:moveTo>
                <a:arcTo wR="6999" hR="21600" stAng="10800000" swAng="5400000"/>
                <a:lnTo>
                  <a:pt x="6999" y="0"/>
                </a:lnTo>
                <a:arcTo wR="6999" hR="21600" stAng="-5400000" swAng="484462"/>
                <a:lnTo>
                  <a:pt x="9806" y="1814"/>
                </a:lnTo>
                <a:arcTo wR="6999" hR="21600" stAng="-5884462" swAng="-4915538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886200"/>
            <a:ext cx="32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Max-S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 establish (2-4). Other request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={(1-5), (3-6), (0-3)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waveleng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assigned to (2-4), then for remaining reques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1-5), cannot  us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used by (2-4), cannot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used by (0-3). 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 have just on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(3-6), can use wavelength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 baseline="-14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We ha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w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(0-3), cannot use any of the availabl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. We ha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p all these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18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 + 2 + 0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1 + 1 + 1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0 + 1 + 1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-14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472428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Relative Capacity Loss (RCL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ing total capacity loss sometimes doesn’t lead to the best choice of wave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L calculates relative capacity loss for each path on each available wavelength and then chooses the wavelength that minimizes sum of the relative capacity loss on all the p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t 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j),p)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fo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veleng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(j),p)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veleng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j),p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’(j),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j),p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R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wavelength for each light-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wavelength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C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472428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9560" y="441972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CL</a:t>
            </a:r>
            <a:r>
              <a:rPr b="1" lang="en-US" sz="2800" spc="-1" strike="noStrike" baseline="-6000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6629400" cy="2189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09000" y="152280"/>
            <a:ext cx="33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(2-4), (1-5), (3-6), (0-3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  b        c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4600" y="320040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wavelength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594360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CL allocation of (2-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57200" y="1143000"/>
            <a:ext cx="274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-0)/1   (2-1)/2   (1-1)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33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5)     (3-6)     (0-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68580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44792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578995"/>
                <a:lnTo>
                  <a:pt x="21117" y="14006"/>
                </a:lnTo>
                <a:lnTo>
                  <a:pt x="17280" y="21600"/>
                </a:lnTo>
                <a:lnTo>
                  <a:pt x="12477" y="14006"/>
                </a:lnTo>
                <a:lnTo>
                  <a:pt x="14637" y="14006"/>
                </a:lnTo>
                <a:arcTo wR="7560" hR="21600" stAng="-2821005" swAng="-222156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2209680"/>
            <a:ext cx="1447920" cy="609840"/>
          </a:xfrm>
          <a:custGeom>
            <a:avLst/>
            <a:gdLst>
              <a:gd name="textAreaLeft" fmla="*/ 234360 w 1447920"/>
              <a:gd name="textAreaRight" fmla="*/ 1080000 w 14479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99" hR="21600" stAng="10800000" swAng="5400000"/>
                <a:lnTo>
                  <a:pt x="12613" y="0"/>
                </a:lnTo>
                <a:arcTo wR="6999" hR="21600" stAng="-5400000" swAng="2550172"/>
                <a:lnTo>
                  <a:pt x="21200" y="14400"/>
                </a:lnTo>
                <a:lnTo>
                  <a:pt x="16804" y="21600"/>
                </a:lnTo>
                <a:lnTo>
                  <a:pt x="11608" y="14400"/>
                </a:lnTo>
                <a:lnTo>
                  <a:pt x="13597" y="14400"/>
                </a:lnTo>
                <a:arcTo wR="6999" hR="21600" stAng="-2849828" swAng="-2065711"/>
                <a:lnTo>
                  <a:pt x="9806" y="1814"/>
                </a:lnTo>
                <a:arcTo wR="6999" hR="21600" stAng="-5884462" swAng="-4915538"/>
                <a:close/>
              </a:path>
              <a:path fill="darkenLess" w="21600" h="21600">
                <a:moveTo>
                  <a:pt x="0" y="21600"/>
                </a:moveTo>
                <a:arcTo wR="6999" hR="21600" stAng="10800000" swAng="5400000"/>
                <a:lnTo>
                  <a:pt x="6999" y="0"/>
                </a:lnTo>
                <a:arcTo wR="6999" hR="21600" stAng="-5400000" swAng="484462"/>
                <a:lnTo>
                  <a:pt x="9806" y="1814"/>
                </a:lnTo>
                <a:arcTo wR="6999" hR="21600" stAng="-5884462" swAng="-4915538"/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86200"/>
            <a:ext cx="17524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CL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CL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CL</a:t>
            </a:r>
            <a:r>
              <a:rPr b="1" lang="en-US" sz="2400" spc="-1" strike="noStrike" baseline="-16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6629400" cy="2163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-457200" y="1905120"/>
            <a:ext cx="274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-1)/1   (2-1)/2   (1-1)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-457200" y="2666880"/>
            <a:ext cx="2743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-1)/1   (2-2)/2   (1-0)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9907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6094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6094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Relative Capacity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for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ght-pat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U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j),p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-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3-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0-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igning (2,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   (1-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3-6)        (0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CL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(1-1)/1 + (2-2)/2 + (1-0)/1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CL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(1-1)/1 + (2-1)/2 + (1-1)/1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CL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(1-0)/1 + (2-1)/2 + (1-1)/1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hoos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yield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nimum RC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502920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-Produc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fi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the number of fibers being used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ppose, we are required to assign a wavelength for a particular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 consider each available wavelength and compute the number of fibers carrying the same wavelength on each link in the light-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r each wavelength, the number of fibers on each link are all multipli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cate that wavelength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 connection request which minimizes this value, across all available wave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-Produc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38080" y="914400"/>
          <a:ext cx="739152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3915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57200" y="5181480"/>
            <a:ext cx="80773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wavelength, compute the produc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*3*1*3*5  =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2*4*1*2 =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*2*1*2*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3048120"/>
          <a:ext cx="7467840" cy="19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746784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Least Lo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signed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lti-fi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netwo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lect wavelength with the largest residual capacity for the most loaded link along the route p (of the connection reques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minimum indexed wavelength j among the set of wavelengths available Sp, so that it achie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maximum number of fiber/li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Least Lo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ame exa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capac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ng to each of the wavelengths in each of the links are in bracket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number of fibers per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links and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3581280"/>
          <a:ext cx="8381880" cy="20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81280"/>
                    <a:ext cx="8381880" cy="20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Least Loa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up connection 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capacities along Link1 + Link 2 are 5,4. Minimum is 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capacities along Link1 + Link 2 are 4,5. Minimum is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capacities along Link1 + Link 2 are 6,5. Minimum is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hoose wavelength that maximizes value of minimum individual residual capac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Light P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 optical path established between two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reated by allocation of wavelength throughout the pa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ovides a ‘circuit switched’ interconnection between two no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sirable to establish light paths between every pair of 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mitations in WDM routing network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wavelength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im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mi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mber of end-to-end conn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hysical constrai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mited number of optical transceivers limit the number of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and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light-pa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nd Dynamic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and Dynamic Light-path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each heuristic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RCL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length Conversion Techniques and minimization of Wavelength Conve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SimSu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Hui Zang, Jason P. Jue and Biswanath Mukherj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, “A Review of Routing and Wavelength Assignment Approaches for Wavelength-Routed Optical Networks,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. Mukherje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Optical Communication Networks,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McGraw-Hill, New York,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S. Subramanian and R.A. Barr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“Wavelength Assignment in Fixed Routing WDM Networks,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IEEE International Conference on , Volume: 1 , pg. 406 -410 vol.1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Wavelength Con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converting the wavelength of an incoming channel to another wavelength at the outgoing chan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two packets are destined to go out of the same output port at the same time. Both packets can be still transmitted, but on two different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ategories of wavelength convers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ll conver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rt an incoming wavelength to any outgoing waveleng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ed conver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rt an incoming wavelength to a subset of the outgoing wavelength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xed conver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rt an incoming wavelength to a fixed outgoing 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rse wavelength convers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are comprised of a mix of wavelength conve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Wavelength Continuit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light-path that operates on the same wavelength on all fiber links that it trave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ds to inefficient utilization of wavelength channels and higher blocking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quest rejected even though a route is available but the same wavelength in not, on all the links along the ro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WA becomes critical in WDM routing networks where goal is to maximize throughput by optimally assigning routes and wavelengths to a given traffic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f switch equipped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avelength conve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no wavelength continuity constra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Routing and Wavelengt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Assignment (R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WA algorithms based on traffic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atic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t of connections for source and destination pairs are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ynamic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nnection requests arrive to and depart from network one by one in a random mann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ance metrics used fall under one of the following three categor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Number of wavelength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onnection blocking probability: Ratio between number of blocked connections and total number of connections arr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Fiber cost or number of fiber resources handled at the routing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Light Path Establishment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atic Light-path Establishment (SLE )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RWA problem f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static traff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Two sub-problems: routing and wavelength assig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NP comple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Heuristic wavelength assignment algorithms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Largest-Fir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Smallest-La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ynamic Light-path Establishment (DLE)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sumes a fixed number of wavelengths exist for allo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RWA problem for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dynamic traff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Objective: setup light paths and assign wavelengths such that i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inimizes amount of connection block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maximizes number of connec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at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establis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Heuristic wavelength assignment algorithms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Random Assignment, First-Fit, Least-Used, Most-Used, Min-Product, Least-Loaded, Max-Sum, Relative Capacity Lo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Static Wavelength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ight-paths and their routes known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eed to assign wavelength to each light-path, such that light-paths on a given link have different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an be solved by formulating problem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er linear progr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L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raph-coloring probl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to assign wavelengths to light-paths that minimizes number of wavelength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rgest Firs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el nodes as v</a:t>
            </a:r>
            <a:r>
              <a:rPr b="0" lang="en-US" sz="2400" spc="-1" strike="noStrike" baseline="-22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v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v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… v</a:t>
            </a:r>
            <a:r>
              <a:rPr b="0" lang="en-US" sz="2400" spc="-1" strike="noStrike" baseline="-22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p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rgest fi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rtex ordering and use node index to break 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c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(G)=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……..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Arial Unicode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de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ch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g(v</a:t>
            </a:r>
            <a:r>
              <a:rPr b="1" lang="en-US" sz="2400" spc="-1" strike="noStrike" baseline="-24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&gt;= deg(v</a:t>
            </a:r>
            <a:r>
              <a:rPr b="1" lang="en-US" sz="2400" spc="-1" strike="noStrike" baseline="-22000">
                <a:solidFill>
                  <a:srgbClr val="000000"/>
                </a:solidFill>
                <a:latin typeface="Times New Roman"/>
                <a:ea typeface="Arial Unicode MS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de with highest degree is assigned wave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move this node from graph and re-ord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peat process of assigning wavelengths until all nodes are assigned a wave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od</cp:lastModifiedBy>
  <dcterms:modified xsi:type="dcterms:W3CDTF">2001-11-29T01:14:25Z</dcterms:modified>
  <cp:revision>41</cp:revision>
  <dc:subject/>
  <dc:title>PowerPoint Presentation</dc:title>
</cp:coreProperties>
</file>