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24E-AD3C-45B5-B909-614D4422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F12-EDE7-4976-B3C8-1C62D347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518-885F-4E37-99AC-CB7364D6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26F-6C1A-4D8B-B92B-FEF6EC26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1A5-916F-4E17-95B2-82B7509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9F6-E8E3-4A42-8144-9B8E62B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84A-5B03-45A0-950D-99CB35A9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BE8-B918-4C89-BD9E-157319D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322-52A1-4A64-B1AB-4ECBF42E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4AE-08C5-42A5-8EB1-0EB5BEC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DC0-609F-4B50-A7D5-DE0DB56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0D7-1393-472F-B57F-F2C3AE7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pay@hit.bme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O -   gradient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10EC-1FDE-434E-8766-199DF3250D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tuális valóság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-</a:t>
            </a:r>
            <a:br>
              <a:rPr sz="4400"/>
            </a:b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„analóg érzés” digitális oszcilloszkópp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09680" y="3200400"/>
            <a:ext cx="4562640" cy="2349360"/>
            <a:chOff x="2209680" y="3200400"/>
            <a:chExt cx="4562640" cy="23493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209680" y="3200400"/>
              <a:ext cx="4562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14600" y="4724280"/>
              <a:ext cx="407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DSO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950)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972)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9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3F4-0B16-4E0B-B60A-3A930EB493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-graded displa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Agil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038760" cy="304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591080" cy="3048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3680" y="5334120"/>
            <a:ext cx="242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“digital phosphor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139-03C5-442A-90F8-32F2E5FA9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-graded display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Agil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8120" y="5222880"/>
            <a:ext cx="278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ixels “age” digit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29200" y="2286000"/>
            <a:ext cx="3442680" cy="3705840"/>
            <a:chOff x="5029200" y="2286000"/>
            <a:chExt cx="3442680" cy="370584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5029200" y="228600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178960" y="5257800"/>
              <a:ext cx="3292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pixels don’t age, but .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136-4549-4CDE-A99B-9E4439413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Tra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oul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190476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00560" y="205740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at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tional D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24360" y="1600200"/>
            <a:ext cx="4228920" cy="3267000"/>
            <a:chOff x="3924360" y="1600200"/>
            <a:chExt cx="4228920" cy="32670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876920" y="2209680"/>
              <a:ext cx="32763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924360" y="1600200"/>
              <a:ext cx="799920" cy="762120"/>
            </a:xfrm>
            <a:custGeom>
              <a:avLst/>
              <a:gdLst/>
              <a:ahLst/>
              <a:rect l="l" t="t" r="r" b="b"/>
              <a:pathLst>
                <a:path w="504" h="480">
                  <a:moveTo>
                    <a:pt x="72" y="0"/>
                  </a:moveTo>
                  <a:cubicBezTo>
                    <a:pt x="36" y="104"/>
                    <a:pt x="0" y="208"/>
                    <a:pt x="72" y="288"/>
                  </a:cubicBezTo>
                  <a:cubicBezTo>
                    <a:pt x="144" y="368"/>
                    <a:pt x="432" y="448"/>
                    <a:pt x="504" y="4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AAA-1611-43C4-801A-12DD47E14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Tra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oul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2861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28800" y="2209680"/>
            <a:ext cx="6515280" cy="3000600"/>
            <a:chOff x="1828800" y="2209680"/>
            <a:chExt cx="6515280" cy="30006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486400" y="2362320"/>
              <a:ext cx="285768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28800" y="2209680"/>
              <a:ext cx="3530520" cy="749520"/>
            </a:xfrm>
            <a:custGeom>
              <a:avLst/>
              <a:gdLst/>
              <a:ahLst/>
              <a:rect l="l" t="t" r="r" b="b"/>
              <a:pathLst>
                <a:path w="2224" h="472">
                  <a:moveTo>
                    <a:pt x="112" y="472"/>
                  </a:moveTo>
                  <a:cubicBezTo>
                    <a:pt x="56" y="276"/>
                    <a:pt x="0" y="80"/>
                    <a:pt x="352" y="40"/>
                  </a:cubicBezTo>
                  <a:cubicBezTo>
                    <a:pt x="704" y="0"/>
                    <a:pt x="1912" y="200"/>
                    <a:pt x="2224" y="23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1D6-5895-401A-A9A6-B68B0E8A6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-points display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okogaw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5EA-F012-4411-85F9-DBB170819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-points display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okogaw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70520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5029200" y="4267080"/>
            <a:ext cx="3267000" cy="1543320"/>
            <a:chOff x="5029200" y="4267080"/>
            <a:chExt cx="3267000" cy="15433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248520" y="4267080"/>
              <a:ext cx="204768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29200" y="464832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0"/>
                  </a:moveTo>
                  <a:cubicBezTo>
                    <a:pt x="68" y="72"/>
                    <a:pt x="136" y="144"/>
                    <a:pt x="240" y="192"/>
                  </a:cubicBezTo>
                  <a:cubicBezTo>
                    <a:pt x="344" y="240"/>
                    <a:pt x="560" y="272"/>
                    <a:pt x="624" y="28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3200" y="1523880"/>
            <a:ext cx="7618680" cy="3320640"/>
            <a:chOff x="763200" y="1523880"/>
            <a:chExt cx="7618680" cy="332064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5883120" y="1752480"/>
              <a:ext cx="243864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63200" y="4384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0" y="1523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*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>
              <a:off x="5562360" y="2209680"/>
              <a:ext cx="2819880" cy="1448640"/>
            </a:xfrm>
            <a:prstGeom prst="bentConnector3">
              <a:avLst>
                <a:gd name="adj1" fmla="val 446"/>
              </a:avLst>
            </a:prstGeom>
            <a:ln w="9360">
              <a:solidFill>
                <a:srgbClr val="ff33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DE6-AF21-4B88-9AA7-9843D9342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8240" y="5181480"/>
            <a:ext cx="2478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nsity-gra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8080" y="2133720"/>
            <a:ext cx="3292920" cy="3812400"/>
            <a:chOff x="4798080" y="2133720"/>
            <a:chExt cx="3292920" cy="38124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4800600" y="2133720"/>
              <a:ext cx="32767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798080" y="5181480"/>
              <a:ext cx="32929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with histogra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482-2C49-4B7C-9C4C-34A5B675C0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C8D-9C0E-423F-AD3B-317E302450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832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238880" y="266688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328-5250-4570-820C-EB56B20D80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 persistenc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Cro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641840" cy="3610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234200" y="2666880"/>
            <a:ext cx="13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2320" y="487692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e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56D-0B5B-4AE3-B017-6A2187F333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3651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8520" y="1676520"/>
            <a:ext cx="86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o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l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e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it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ge (Sampling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l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8600" y="3733920"/>
            <a:ext cx="22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rect signal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limited writing spe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00320" y="236232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djunct function to captu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tensive manip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0FD-1FBF-451F-9AC0-6D6050BC6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676520"/>
            <a:ext cx="695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“infinite”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shoo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6240" y="3657600"/>
            <a:ext cx="781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ment, analysis, mask testing, storag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-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it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-repet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le-sh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88C-F227-40B0-950D-3C139A307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133720"/>
          <a:ext cx="830592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30592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531360" y="1523880"/>
            <a:ext cx="2494440" cy="596880"/>
            <a:chOff x="531360" y="1523880"/>
            <a:chExt cx="2494440" cy="596880"/>
          </a:xfrm>
        </p:grpSpPr>
        <p:sp>
          <p:nvSpPr>
            <p:cNvPr id="58" name=""/>
            <p:cNvSpPr/>
            <p:nvPr/>
          </p:nvSpPr>
          <p:spPr>
            <a:xfrm>
              <a:off x="533520" y="1523880"/>
              <a:ext cx="249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nsity variation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360" y="1752480"/>
              <a:ext cx="22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amount of de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247440" y="5638680"/>
            <a:ext cx="236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ster-scan display (vector 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170400" y="1523880"/>
            <a:ext cx="2453760" cy="596880"/>
            <a:chOff x="6170400" y="1523880"/>
            <a:chExt cx="2453760" cy="596880"/>
          </a:xfrm>
        </p:grpSpPr>
        <p:sp>
          <p:nvSpPr>
            <p:cNvPr id="62" name=""/>
            <p:cNvSpPr/>
            <p:nvPr/>
          </p:nvSpPr>
          <p:spPr>
            <a:xfrm>
              <a:off x="6800400" y="1523880"/>
              <a:ext cx="182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iform intensit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70400" y="1752480"/>
              <a:ext cx="244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mited number of pix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C1B-C2E3-432A-BF06-001F96424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Scope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lu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23880" y="1905120"/>
            <a:ext cx="6096240" cy="3809880"/>
            <a:chOff x="1523880" y="1905120"/>
            <a:chExt cx="6096240" cy="3809880"/>
          </a:xfrm>
        </p:grpSpPr>
        <p:graphicFrame>
          <p:nvGraphicFramePr>
            <p:cNvPr id="66" name=""/>
            <p:cNvGraphicFramePr/>
            <p:nvPr/>
          </p:nvGraphicFramePr>
          <p:xfrm>
            <a:off x="1523880" y="1905120"/>
            <a:ext cx="609624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905120"/>
                      <a:ext cx="609624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514600" y="1905120"/>
              <a:ext cx="7621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5105520"/>
              <a:ext cx="7621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81480" y="5105520"/>
              <a:ext cx="7621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905120"/>
              <a:ext cx="7621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732840" y="52578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C8C-7994-4DB0-89BC-5752D189F7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O: connect-the-d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19720" y="1676520"/>
            <a:ext cx="4209840" cy="4249440"/>
            <a:chOff x="4419720" y="1676520"/>
            <a:chExt cx="4209840" cy="424944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4952880" y="2286000"/>
              <a:ext cx="3676680" cy="36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419720" y="1676520"/>
              <a:ext cx="685800" cy="990360"/>
            </a:xfrm>
            <a:custGeom>
              <a:avLst/>
              <a:gdLst/>
              <a:ahLst/>
              <a:rect l="l" t="t" r="r" b="b"/>
              <a:pathLst>
                <a:path w="392" h="384">
                  <a:moveTo>
                    <a:pt x="56" y="0"/>
                  </a:moveTo>
                  <a:cubicBezTo>
                    <a:pt x="28" y="40"/>
                    <a:pt x="0" y="80"/>
                    <a:pt x="56" y="144"/>
                  </a:cubicBezTo>
                  <a:cubicBezTo>
                    <a:pt x="112" y="208"/>
                    <a:pt x="336" y="344"/>
                    <a:pt x="392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5720" y="1805040"/>
            <a:ext cx="4269960" cy="4151160"/>
            <a:chOff x="225720" y="1805040"/>
            <a:chExt cx="4269960" cy="4151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04920" y="2286000"/>
              <a:ext cx="419076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5720" y="1805040"/>
              <a:ext cx="171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visual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lia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FE1-02EE-459D-A7A1-D4EF263853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/m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eak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19320" y="1981080"/>
            <a:ext cx="6629400" cy="3733920"/>
            <a:chOff x="1219320" y="1981080"/>
            <a:chExt cx="6629400" cy="37339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219320" y="1981080"/>
              <a:ext cx="66294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9810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37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60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328284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3822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760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9880" y="3816360"/>
              <a:ext cx="0" cy="3682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38098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273480" y="502920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decimation (1-in-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760" y="5257800"/>
            <a:ext cx="168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inimize alia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1911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at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545-A43C-4D4F-8571-1561041BD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point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ix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857320" cy="1276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24880" y="190512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-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data-compression (simple proc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9840" y="3962520"/>
            <a:ext cx="8015760" cy="1923840"/>
            <a:chOff x="519840" y="3962520"/>
            <a:chExt cx="8015760" cy="192384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3276720" y="4648320"/>
              <a:ext cx="28573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9840" y="3962520"/>
              <a:ext cx="80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lligent, low-lo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-compression (statistical composition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1720" y="4876920"/>
              <a:ext cx="1930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ps display int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cal den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data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129-9DD1-4B79-ABE6-DC0F3F681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83f7"/>
            </a:gs>
            <a:gs pos="100000">
              <a:srgbClr val="ccdc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uare wave / rising edge / r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49544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114800" y="1295280"/>
            <a:ext cx="4419720" cy="4650480"/>
            <a:chOff x="4114800" y="1295280"/>
            <a:chExt cx="4419720" cy="465048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4419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57680" y="563868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istogram</a:t>
              </a: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f the j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0520" y="1295280"/>
              <a:ext cx="205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lor-grad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persist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22096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6680" y="35812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9200" y="525780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2A6-0532-4826-82C2-1FABBA7D8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05:40:09Z</dcterms:created>
  <dc:creator>DR PAPAY</dc:creator>
  <dc:description/>
  <dc:language>en-US</dc:language>
  <cp:lastModifiedBy>DR PAPAY</cp:lastModifiedBy>
  <cp:lastPrinted>2001-10-01T07:51:57Z</cp:lastPrinted>
  <dcterms:modified xsi:type="dcterms:W3CDTF">2001-10-01T08:19:55Z</dcterms:modified>
  <cp:revision>89</cp:revision>
  <dc:subject/>
  <dc:title>Virtuális valóság - analóg érzés digitális oszcilloszkóppal</dc:title>
</cp:coreProperties>
</file>