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E8F-C9CB-4447-8DA3-BB3DBE1B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D3E-C79A-40EA-B28B-E69F27A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C2C-D4F9-4463-82EC-B435F3BC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02F-6C09-4725-8C5C-4F2A97C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E61-FBAD-4481-82CC-125B68F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93B-945D-469D-8EDC-560B45D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9C9-5955-4B43-940A-5F5184B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78B-6DCF-4E6B-8241-A88E184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3B6-1334-4C00-85AD-44925F40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6D4-F149-497A-A0DA-E9AFD435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281-2B27-43E6-9ECA-FF9F2F4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70C-94C0-414D-AF60-FCB9CA4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ay@hit.bme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O -   gradient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DA86-2023-49F9-ACC7-843488018C4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 - Scopes’r’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1148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800600" y="1523880"/>
            <a:ext cx="4164120" cy="1067040"/>
            <a:chOff x="4800600" y="1523880"/>
            <a:chExt cx="4164120" cy="1067040"/>
          </a:xfrm>
        </p:grpSpPr>
        <p:sp>
          <p:nvSpPr>
            <p:cNvPr id="45" name=""/>
            <p:cNvSpPr/>
            <p:nvPr/>
          </p:nvSpPr>
          <p:spPr>
            <a:xfrm>
              <a:off x="4800600" y="2286000"/>
              <a:ext cx="762120" cy="30492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64200" y="1523880"/>
              <a:ext cx="3800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staV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pture m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-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1-bit-deep pixel map -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92240" y="3048120"/>
            <a:ext cx="6595200" cy="3004560"/>
            <a:chOff x="1992240" y="3048120"/>
            <a:chExt cx="6595200" cy="3004560"/>
          </a:xfrm>
        </p:grpSpPr>
        <p:sp>
          <p:nvSpPr>
            <p:cNvPr id="48" name=""/>
            <p:cNvSpPr/>
            <p:nvPr/>
          </p:nvSpPr>
          <p:spPr>
            <a:xfrm>
              <a:off x="1992240" y="5410080"/>
              <a:ext cx="65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PO integrates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st capture and update r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nsity gr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ek has elected not to make “DPO” a trademar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4419720" y="3048120"/>
              <a:ext cx="41148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18080" y="48769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99d"/>
                  </a:solidFill>
                  <a:latin typeface="Times New Roman"/>
                </a:rPr>
                <a:t>(3-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9FC-E501-4749-B80B-04C1009B57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743200" cy="219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240" y="2362320"/>
            <a:ext cx="30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FORMs are fin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complex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ow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do less and less to expl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BEHAVIOR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800" y="3429000"/>
            <a:ext cx="572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chtop DSOs with Windows PC’s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gilent; Tektronix, Gou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peed Digitizers module in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ustom DSOlik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2640" y="304920"/>
            <a:ext cx="331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SCILLOSCOPE i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a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of vital inform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development proces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2760" y="10666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ywhere’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cilloscopes plu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th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CA0-F4AF-4465-98AB-02891FC043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Vu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ruCapture - 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9680" y="15238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O holdoff: 8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67080" y="1523880"/>
            <a:ext cx="4572000" cy="4191120"/>
            <a:chOff x="4267080" y="1523880"/>
            <a:chExt cx="4572000" cy="41911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4800600" y="1981080"/>
              <a:ext cx="40384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02760" y="15238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1600200"/>
              <a:ext cx="457200" cy="38088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24" y="76"/>
                    <a:pt x="48" y="152"/>
                    <a:pt x="96" y="192"/>
                  </a:cubicBezTo>
                  <a:cubicBezTo>
                    <a:pt x="144" y="232"/>
                    <a:pt x="256" y="232"/>
                    <a:pt x="288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9E0-8B82-4046-A96A-0FF04FD41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41148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8CE-4F34-4320-8ED2-EE51267BA6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46483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33880" y="2895480"/>
            <a:ext cx="2247480" cy="1130400"/>
            <a:chOff x="533880" y="2895480"/>
            <a:chExt cx="2247480" cy="1130400"/>
          </a:xfrm>
        </p:grpSpPr>
        <p:sp>
          <p:nvSpPr>
            <p:cNvPr id="65" name=""/>
            <p:cNvSpPr/>
            <p:nvPr/>
          </p:nvSpPr>
          <p:spPr>
            <a:xfrm>
              <a:off x="1981440" y="2895480"/>
              <a:ext cx="799920" cy="1067040"/>
            </a:xfrm>
            <a:custGeom>
              <a:avLst/>
              <a:gdLst/>
              <a:ahLst/>
              <a:rect l="l" t="t" r="r" b="b"/>
              <a:pathLst>
                <a:path w="504" h="672">
                  <a:moveTo>
                    <a:pt x="360" y="672"/>
                  </a:moveTo>
                  <a:cubicBezTo>
                    <a:pt x="180" y="656"/>
                    <a:pt x="0" y="640"/>
                    <a:pt x="24" y="528"/>
                  </a:cubicBezTo>
                  <a:cubicBezTo>
                    <a:pt x="48" y="416"/>
                    <a:pt x="424" y="88"/>
                    <a:pt x="504" y="0"/>
                  </a:cubicBezTo>
                </a:path>
              </a:pathLst>
            </a:custGeom>
            <a:noFill/>
            <a:ln w="57240">
              <a:solidFill>
                <a:srgbClr val="4983f7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880" y="32004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983f7"/>
                  </a:solidFill>
                  <a:latin typeface="Times New Roman"/>
                </a:rPr>
                <a:t>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983f7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2080" y="4419720"/>
            <a:ext cx="2287440" cy="901800"/>
            <a:chOff x="532080" y="4419720"/>
            <a:chExt cx="2287440" cy="901800"/>
          </a:xfrm>
        </p:grpSpPr>
        <p:sp>
          <p:nvSpPr>
            <p:cNvPr id="68" name=""/>
            <p:cNvSpPr/>
            <p:nvPr/>
          </p:nvSpPr>
          <p:spPr>
            <a:xfrm flipV="1">
              <a:off x="1905120" y="4419720"/>
              <a:ext cx="9144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080" y="4496040"/>
              <a:ext cx="159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595-6499-4341-8C5C-D10A02DEC1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2057400"/>
            <a:ext cx="4035600" cy="3817440"/>
            <a:chOff x="609480" y="2057400"/>
            <a:chExt cx="4035600" cy="381744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388620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01640" y="5105520"/>
              <a:ext cx="39434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l-tim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nsity grad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n graysca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ke an 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568760" y="2057400"/>
            <a:ext cx="4432680" cy="3817440"/>
            <a:chOff x="4568760" y="2057400"/>
            <a:chExt cx="4432680" cy="381744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800600" y="2057400"/>
              <a:ext cx="3886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68760" y="5105520"/>
              <a:ext cx="44326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lor grad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mproves contras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tween frequencies of occurrence bounda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ED7-538D-4CFE-9C77-4489DE0A40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33920" cy="2895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2440" y="4952880"/>
            <a:ext cx="33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effec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upply contro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00600" y="1981080"/>
            <a:ext cx="3657240" cy="3515040"/>
            <a:chOff x="4800600" y="1981080"/>
            <a:chExt cx="3657240" cy="35150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4800600" y="1981080"/>
              <a:ext cx="3657240" cy="28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461920" y="5036400"/>
              <a:ext cx="23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ulated car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7B6-EFA8-4209-B23F-E10655EFD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752480"/>
            <a:ext cx="23432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Al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offshoot of D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maly det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rts you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deviate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normal" in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S 3000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894-F316-4512-BABE-6DECD20D5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1160" y="1752480"/>
            <a:ext cx="26175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bination of D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orm throughpu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assisted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result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through test sp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k te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ingle and 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devi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S 30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3TMT 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7680" y="160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13D-8258-4407-BBCA-A737645C1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96240" y="4876920"/>
            <a:ext cx="59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phosphor (3-D database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expor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your P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1800" y="5381640"/>
            <a:ext cx="4653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3-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our p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ives you an instant view of the d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t events are dramatically emphasized by height and colo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487-A90C-4FBE-AEE0-7083C5F02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05:40:09Z</dcterms:created>
  <dc:creator>DR PAPAY</dc:creator>
  <dc:description/>
  <dc:language>en-US</dc:language>
  <cp:lastModifiedBy>DR PAPAY</cp:lastModifiedBy>
  <cp:lastPrinted>2001-10-01T07:51:57Z</cp:lastPrinted>
  <dcterms:modified xsi:type="dcterms:W3CDTF">2001-10-01T08:21:02Z</dcterms:modified>
  <cp:revision>89</cp:revision>
  <dc:subject/>
  <dc:title>Virtuális valóság - analóg érzés digitális oszcilloszkóppal</dc:title>
</cp:coreProperties>
</file>