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166B8-973F-4726-AC9E-F2D95AE94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mérés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gyakorlati,   instrumentá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eszközt használó)  mûvelet;  a lény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kvantitatív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tulajdonságok kísérleti me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ismerését seg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Az  interaktív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jelalak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  mérés  alapvet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vizsgálati módszer, és  ennek eszköze 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oszcilloszkóp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 “három nag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tek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hp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lecro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400" y="6275520"/>
            <a:ext cx="905004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905520" y="6364440"/>
            <a:ext cx="1895400" cy="6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fld id="{53029790-F8CA-4102-86DB-89A28A8BC273}" type="slidenum"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2200" y="6416640"/>
            <a:ext cx="19018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papay @ hit.bme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6320" y="787320"/>
            <a:ext cx="4762440" cy="332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976320" y="1805040"/>
            <a:ext cx="69548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7200" spc="-1" strike="noStrike">
                <a:solidFill>
                  <a:srgbClr val="fafd00"/>
                </a:solidFill>
                <a:latin typeface="Palatino"/>
                <a:ea typeface="Palatino"/>
              </a:rPr>
              <a:t>Digitál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9600" spc="-1" strike="noStrike">
                <a:solidFill>
                  <a:srgbClr val="fafd00"/>
                </a:solidFill>
                <a:latin typeface="Palatino"/>
                <a:ea typeface="Palatino"/>
              </a:rPr>
              <a:t>Oszcilloszkó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74760" y="4573440"/>
            <a:ext cx="643572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Digitális  ablak  az  analóg  világr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89080" y="252360"/>
            <a:ext cx="7167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RT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alap_struktú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1609560"/>
            <a:ext cx="8082000" cy="4300560"/>
            <a:chOff x="914400" y="1609560"/>
            <a:chExt cx="8082000" cy="43005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914400" y="1609560"/>
              <a:ext cx="808200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004760" y="1654200"/>
              <a:ext cx="7888320" cy="419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1108080" y="1182600"/>
            <a:ext cx="1863720" cy="41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petití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83360" y="1181160"/>
            <a:ext cx="16416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nyom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29040" y="5219640"/>
            <a:ext cx="2438640" cy="533880"/>
          </a:xfrm>
          <a:custGeom>
            <a:avLst/>
            <a:gdLst/>
            <a:ahLst/>
            <a:rect l="0" t="0" r="r" b="b"/>
            <a:pathLst>
              <a:path w="6774" h="1483">
                <a:moveTo>
                  <a:pt x="6774" y="1335"/>
                </a:moveTo>
                <a:lnTo>
                  <a:pt x="6774" y="296"/>
                </a:lnTo>
                <a:lnTo>
                  <a:pt x="6097" y="148"/>
                </a:lnTo>
                <a:lnTo>
                  <a:pt x="5419" y="148"/>
                </a:lnTo>
                <a:lnTo>
                  <a:pt x="6097" y="0"/>
                </a:lnTo>
                <a:lnTo>
                  <a:pt x="4742" y="148"/>
                </a:lnTo>
                <a:lnTo>
                  <a:pt x="677" y="148"/>
                </a:lnTo>
                <a:lnTo>
                  <a:pt x="0" y="296"/>
                </a:lnTo>
                <a:lnTo>
                  <a:pt x="0" y="1335"/>
                </a:lnTo>
                <a:lnTo>
                  <a:pt x="677" y="1483"/>
                </a:lnTo>
                <a:lnTo>
                  <a:pt x="6097" y="1483"/>
                </a:lnTo>
                <a:lnTo>
                  <a:pt x="6774" y="133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66920" y="5329080"/>
            <a:ext cx="22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petitív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ind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68560" y="3409920"/>
            <a:ext cx="1465560" cy="533880"/>
          </a:xfrm>
          <a:custGeom>
            <a:avLst/>
            <a:gdLst/>
            <a:ahLst/>
            <a:rect l="0" t="0" r="r" b="b"/>
            <a:pathLst>
              <a:path w="4071" h="1483">
                <a:moveTo>
                  <a:pt x="4071" y="1335"/>
                </a:moveTo>
                <a:lnTo>
                  <a:pt x="4071" y="296"/>
                </a:lnTo>
                <a:lnTo>
                  <a:pt x="3664" y="148"/>
                </a:lnTo>
                <a:lnTo>
                  <a:pt x="3257" y="148"/>
                </a:lnTo>
                <a:lnTo>
                  <a:pt x="3664" y="0"/>
                </a:lnTo>
                <a:lnTo>
                  <a:pt x="2850" y="148"/>
                </a:lnTo>
                <a:lnTo>
                  <a:pt x="407" y="148"/>
                </a:lnTo>
                <a:lnTo>
                  <a:pt x="0" y="296"/>
                </a:lnTo>
                <a:lnTo>
                  <a:pt x="0" y="1335"/>
                </a:lnTo>
                <a:lnTo>
                  <a:pt x="407" y="1483"/>
                </a:lnTo>
                <a:lnTo>
                  <a:pt x="3664" y="1483"/>
                </a:lnTo>
                <a:lnTo>
                  <a:pt x="4071" y="133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67200" y="3500280"/>
            <a:ext cx="12654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oft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6320" y="558180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2440" y="236520"/>
            <a:ext cx="9048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alap_struktú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1622520"/>
            <a:ext cx="8128080" cy="4357800"/>
            <a:chOff x="914400" y="1622520"/>
            <a:chExt cx="8128080" cy="43578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914400" y="1622520"/>
              <a:ext cx="812808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004760" y="1666800"/>
              <a:ext cx="7934400" cy="42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1165320" y="1257480"/>
            <a:ext cx="5032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70240" y="1297080"/>
            <a:ext cx="1890720" cy="11235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hullám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(idõrek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791400" y="895320"/>
            <a:ext cx="1806480" cy="1123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konstru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nyom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3160" y="5392800"/>
            <a:ext cx="2762640" cy="457560"/>
          </a:xfrm>
          <a:custGeom>
            <a:avLst/>
            <a:gdLst/>
            <a:ahLst/>
            <a:rect l="0" t="0" r="r" b="b"/>
            <a:pathLst>
              <a:path w="7674" h="1271">
                <a:moveTo>
                  <a:pt x="7674" y="1143"/>
                </a:moveTo>
                <a:lnTo>
                  <a:pt x="7674" y="254"/>
                </a:lnTo>
                <a:lnTo>
                  <a:pt x="6907" y="127"/>
                </a:lnTo>
                <a:lnTo>
                  <a:pt x="6140" y="127"/>
                </a:lnTo>
                <a:lnTo>
                  <a:pt x="6907" y="0"/>
                </a:lnTo>
                <a:lnTo>
                  <a:pt x="5372" y="127"/>
                </a:lnTo>
                <a:lnTo>
                  <a:pt x="767" y="127"/>
                </a:lnTo>
                <a:lnTo>
                  <a:pt x="0" y="254"/>
                </a:lnTo>
                <a:lnTo>
                  <a:pt x="0" y="1143"/>
                </a:lnTo>
                <a:lnTo>
                  <a:pt x="767" y="1271"/>
                </a:lnTo>
                <a:lnTo>
                  <a:pt x="6907" y="1271"/>
                </a:lnTo>
                <a:lnTo>
                  <a:pt x="7674" y="1143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492280" y="5467320"/>
            <a:ext cx="27273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rekord-felvétel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1200" y="5219640"/>
            <a:ext cx="1333800" cy="648000"/>
          </a:xfrm>
          <a:custGeom>
            <a:avLst/>
            <a:gdLst/>
            <a:ahLst/>
            <a:rect l="0" t="0" r="r" b="b"/>
            <a:pathLst>
              <a:path w="3705" h="1800">
                <a:moveTo>
                  <a:pt x="3334" y="0"/>
                </a:moveTo>
                <a:lnTo>
                  <a:pt x="740" y="0"/>
                </a:lnTo>
                <a:lnTo>
                  <a:pt x="370" y="179"/>
                </a:lnTo>
                <a:lnTo>
                  <a:pt x="370" y="359"/>
                </a:lnTo>
                <a:lnTo>
                  <a:pt x="0" y="179"/>
                </a:lnTo>
                <a:lnTo>
                  <a:pt x="370" y="539"/>
                </a:lnTo>
                <a:lnTo>
                  <a:pt x="370" y="1620"/>
                </a:lnTo>
                <a:lnTo>
                  <a:pt x="740" y="1800"/>
                </a:lnTo>
                <a:lnTo>
                  <a:pt x="3334" y="1800"/>
                </a:lnTo>
                <a:lnTo>
                  <a:pt x="3705" y="1620"/>
                </a:lnTo>
                <a:lnTo>
                  <a:pt x="3705" y="179"/>
                </a:lnTo>
                <a:lnTo>
                  <a:pt x="3334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43920" y="5176800"/>
            <a:ext cx="1146240" cy="11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po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idõa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07320" y="2386080"/>
            <a:ext cx="568800" cy="983160"/>
          </a:xfrm>
          <a:custGeom>
            <a:avLst/>
            <a:gdLst/>
            <a:ahLst/>
            <a:rect l="0" t="0" r="r" b="b"/>
            <a:pathLst>
              <a:path w="1580" h="2731">
                <a:moveTo>
                  <a:pt x="0" y="272"/>
                </a:moveTo>
                <a:lnTo>
                  <a:pt x="0" y="2185"/>
                </a:lnTo>
                <a:lnTo>
                  <a:pt x="157" y="2458"/>
                </a:lnTo>
                <a:lnTo>
                  <a:pt x="315" y="2458"/>
                </a:lnTo>
                <a:lnTo>
                  <a:pt x="157" y="2731"/>
                </a:lnTo>
                <a:lnTo>
                  <a:pt x="474" y="2458"/>
                </a:lnTo>
                <a:lnTo>
                  <a:pt x="1422" y="2458"/>
                </a:lnTo>
                <a:lnTo>
                  <a:pt x="1580" y="2185"/>
                </a:lnTo>
                <a:lnTo>
                  <a:pt x="1580" y="272"/>
                </a:lnTo>
                <a:lnTo>
                  <a:pt x="1422" y="0"/>
                </a:lnTo>
                <a:lnTo>
                  <a:pt x="157" y="0"/>
                </a:lnTo>
                <a:lnTo>
                  <a:pt x="0" y="27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81760" y="2719440"/>
            <a:ext cx="7570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42160" y="3286080"/>
            <a:ext cx="452880" cy="1622880"/>
          </a:xfrm>
          <a:custGeom>
            <a:avLst/>
            <a:gdLst/>
            <a:ahLst/>
            <a:rect l="0" t="0" r="r" b="b"/>
            <a:pathLst>
              <a:path w="1258" h="4508">
                <a:moveTo>
                  <a:pt x="0" y="450"/>
                </a:moveTo>
                <a:lnTo>
                  <a:pt x="0" y="3607"/>
                </a:lnTo>
                <a:lnTo>
                  <a:pt x="125" y="4058"/>
                </a:lnTo>
                <a:lnTo>
                  <a:pt x="251" y="4058"/>
                </a:lnTo>
                <a:lnTo>
                  <a:pt x="125" y="4508"/>
                </a:lnTo>
                <a:lnTo>
                  <a:pt x="378" y="4058"/>
                </a:lnTo>
                <a:lnTo>
                  <a:pt x="1133" y="4058"/>
                </a:lnTo>
                <a:lnTo>
                  <a:pt x="1258" y="3607"/>
                </a:lnTo>
                <a:lnTo>
                  <a:pt x="1258" y="450"/>
                </a:lnTo>
                <a:lnTo>
                  <a:pt x="1133" y="0"/>
                </a:lnTo>
                <a:lnTo>
                  <a:pt x="125" y="0"/>
                </a:lnTo>
                <a:lnTo>
                  <a:pt x="0" y="45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15280" y="3900600"/>
            <a:ext cx="1417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8640" y="559764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2320" y="363600"/>
            <a:ext cx="5600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11320" y="1805040"/>
            <a:ext cx="674388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enlete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-gyakoriságú,     </a:t>
            </a:r>
            <a:r>
              <a:rPr b="1" i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olyamato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izálá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irkulári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tgyûjtõ 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rap-arou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Quisition MEMory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IGgerrel  pozícionált  ( szabályozható késleltetést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vet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89000" y="5014800"/>
            <a:ext cx="539604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öbb csatorna: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párhuzamos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digitaliz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305080" y="5467320"/>
            <a:ext cx="59151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... nincs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CHOPped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vagy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LTernate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,  mint “ART” eseté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76400" y="1398600"/>
            <a:ext cx="437184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valós-idejû,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normá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intavét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1800" y="1601640"/>
            <a:ext cx="8094600" cy="4299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858960" y="477720"/>
            <a:ext cx="794052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pre-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és post-)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8160" y="4957920"/>
            <a:ext cx="0" cy="5252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543880" y="2871720"/>
            <a:ext cx="4680" cy="47304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59080" y="5246640"/>
            <a:ext cx="2835360" cy="5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 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1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9840" y="1720800"/>
            <a:ext cx="2949480" cy="5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 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10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261200" y="2738520"/>
            <a:ext cx="13240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66920" y="5014800"/>
            <a:ext cx="0" cy="453960"/>
          </a:xfrm>
          <a:prstGeom prst="line">
            <a:avLst/>
          </a:prstGeom>
          <a:ln w="12600">
            <a:solidFill>
              <a:srgbClr val="081d5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84680" y="2095560"/>
            <a:ext cx="0" cy="57132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934400" y="5562720"/>
            <a:ext cx="693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51000" y="2811600"/>
            <a:ext cx="9111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mod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70480" y="3014640"/>
            <a:ext cx="22161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24 + 10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98600" y="5640480"/>
            <a:ext cx="7444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( 90%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668600"/>
            <a:ext cx="743040" cy="32076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2320" y="363600"/>
            <a:ext cx="8594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leg”fontosabb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esség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1720" y="2297160"/>
            <a:ext cx="817236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YSIWY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hat_You_See  Is  What_You_Triggered_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yományos  és  új  for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ge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ul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(  Slew-R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ay (time, event)                 Glitch,  Wid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“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hold-o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Time-out,  Run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V                                            Setup/Hold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og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( pattern,  stat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6800" y="1612800"/>
            <a:ext cx="7959600" cy="4344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V="1">
            <a:off x="6515280" y="2793960"/>
            <a:ext cx="0" cy="214956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0320" y="433440"/>
            <a:ext cx="780408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old-off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91120" y="5224320"/>
            <a:ext cx="1679400" cy="42228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20680" y="558648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7840" y="2274840"/>
            <a:ext cx="422280" cy="54936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313000"/>
            <a:ext cx="736560" cy="54936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9800" y="3176640"/>
            <a:ext cx="378000" cy="0"/>
          </a:xfrm>
          <a:prstGeom prst="line">
            <a:avLst/>
          </a:prstGeom>
          <a:ln w="1522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9800" y="5075280"/>
            <a:ext cx="1290600" cy="1440"/>
          </a:xfrm>
          <a:prstGeom prst="line">
            <a:avLst/>
          </a:prstGeom>
          <a:ln w="1522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19520" bIns="-11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584680" y="2751120"/>
            <a:ext cx="22320" cy="37476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49920" y="3338640"/>
            <a:ext cx="1644480" cy="37800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9440" y="3635280"/>
            <a:ext cx="365040" cy="10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67120" y="5440320"/>
            <a:ext cx="37620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82880" y="3178080"/>
            <a:ext cx="1517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eltéríté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664240" y="3022560"/>
            <a:ext cx="13651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visszatéríté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423200" y="3348000"/>
            <a:ext cx="1128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tiltá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8960" y="396720"/>
            <a:ext cx="789768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-gyakoriság  és  “sweep”-id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65200" y="1192320"/>
            <a:ext cx="79628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yakori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indít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szonylag gyo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swee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gy”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l(nyomvon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-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itka 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trigg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ss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dõala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 “flikker” mentes , 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egyenletes fényerejû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 nyomvonal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özepes”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yomvona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-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 növelhetõ speciális módszerrel [ “InstaVu” ]  ...  mint ART 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230480" y="3193920"/>
            <a:ext cx="6730920" cy="22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320" y="363600"/>
            <a:ext cx="904572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rissítési-gyakoriság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(display, trace  </a:t>
            </a:r>
            <a:r>
              <a:rPr b="1" lang="en-US" sz="3600" spc="-1" strike="noStrike">
                <a:solidFill>
                  <a:srgbClr val="00ff00"/>
                </a:solidFill>
                <a:latin typeface="Palatino"/>
                <a:ea typeface="Palatino"/>
              </a:rPr>
              <a:t>Update Rate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44600" y="1782720"/>
            <a:ext cx="3784680" cy="398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35520" y="1782720"/>
            <a:ext cx="3840120" cy="3933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143000" y="2755800"/>
            <a:ext cx="992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585200" y="2062080"/>
            <a:ext cx="992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023240" y="349740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5400" y="2376360"/>
            <a:ext cx="3006720" cy="2298600"/>
          </a:xfrm>
          <a:prstGeom prst="rect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58680" y="181944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468440" y="2054160"/>
            <a:ext cx="378000" cy="260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149720" y="5597640"/>
            <a:ext cx="739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65360" y="3094200"/>
            <a:ext cx="350640" cy="166680"/>
          </a:xfrm>
          <a:prstGeom prst="line">
            <a:avLst/>
          </a:prstGeom>
          <a:ln w="1260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52440" y="363600"/>
            <a:ext cx="54990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petitív jel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tabilit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9120" y="1098720"/>
            <a:ext cx="817236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gfigyelhet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dáci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 nyomvonal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nzitás-változ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1) elveszet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orm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onstans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 intenzitá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2)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érhetõ(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égtel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utánvilágítás (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Infinite Persiste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b)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tatisztikai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atbáz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változ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tenzitású utánvilágítá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képpont  relatív-gyakorisággal  arányos  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zíne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94000" y="2612880"/>
            <a:ext cx="6375240" cy="97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857920" y="446040"/>
            <a:ext cx="2162160" cy="11235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amplitúdó zaj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idõ-jitter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320" y="363600"/>
            <a:ext cx="90457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pont gyakoriság  (“pixel aktivitás”)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datbáz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622520" y="1836720"/>
            <a:ext cx="5419800" cy="404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555920" y="5584680"/>
            <a:ext cx="739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56280" y="3597120"/>
            <a:ext cx="5983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D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320" y="363600"/>
            <a:ext cx="9045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93680" y="762120"/>
            <a:ext cx="7135920" cy="67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A 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mérés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gyakorlati,</a:t>
            </a:r>
            <a:r>
              <a:rPr b="1" lang="en-US" sz="3200" spc="-1" strike="noStrike">
                <a:solidFill>
                  <a:srgbClr val="00279f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instrumentális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(eszközt használó!)  mûvelet;  a  lényeges 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kvantitatív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tulajdonságok  kísérleti megismerését segí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Alapvetõ  vizsgálati  eljárás  a   “gerjesztés - válasz(jelalak) 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elemzés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”. Ennek alapeszköze az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oszcilloszkóp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,  amely elsõsorban az “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emberi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tényezõ”         (a látás!)  felhasználására épí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09760" y="1457280"/>
            <a:ext cx="8588520" cy="45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sztásvonal számlálás”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nuá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orrás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képernyõn megfigyelhetõ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gy gomb-nyomás”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utomatikus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forrás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memóriában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tárolt  hullámforma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merikus ad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S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ital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nal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S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: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plication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cific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3920" y="2881440"/>
            <a:ext cx="7872480" cy="9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0680" y="316080"/>
            <a:ext cx="66834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különbözik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mérés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2360" y="236520"/>
            <a:ext cx="8609040" cy="5629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0440" y="2809800"/>
            <a:ext cx="912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21160" y="2743200"/>
            <a:ext cx="971640" cy="1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133960" y="2571840"/>
            <a:ext cx="12733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fc0128"/>
                </a:solidFill>
                <a:latin typeface="Palatino"/>
                <a:ea typeface="Palatino"/>
              </a:rPr>
              <a:t>DSP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100480" y="1143000"/>
            <a:ext cx="28479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Digitiz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( ACQuisition; Captur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259240" y="4205160"/>
            <a:ext cx="295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36760" y="3914640"/>
            <a:ext cx="1044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IEE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194, 181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654960" y="3919680"/>
            <a:ext cx="91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FFT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464080" y="2274840"/>
            <a:ext cx="210024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[ WAVEFORM,  (TIME)RECORD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471920" y="3892680"/>
            <a:ext cx="11397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stogra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7400" y="401760"/>
            <a:ext cx="171612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Palatino"/>
                <a:ea typeface="Palatino"/>
              </a:rPr>
              <a:t>Analíz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018040" y="1131840"/>
            <a:ext cx="3327480" cy="2309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641520" y="316080"/>
            <a:ext cx="768024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Felbontás  “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ekvivalencia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4440" y="1281240"/>
            <a:ext cx="5954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: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/(1/30) =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24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/(1/30) =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300 : 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: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 bi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25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: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 bit = 5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0.5 Ksz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isplay ]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55800" y="3452760"/>
            <a:ext cx="523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796000" y="3463920"/>
            <a:ext cx="2549520" cy="2138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936720" y="3049560"/>
            <a:ext cx="388944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fc0128"/>
                </a:solidFill>
                <a:uFillTx/>
                <a:latin typeface="Palatino"/>
                <a:ea typeface="Palatino"/>
              </a:rPr>
              <a:t>Korlát</a:t>
            </a: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: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zaj  és  (idõ)eltérítés nemlineari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510160" y="1216080"/>
            <a:ext cx="803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V/Div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05720" y="2911320"/>
            <a:ext cx="7444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s/Div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31760" y="5657760"/>
            <a:ext cx="70279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00ff00"/>
                </a:solidFill>
                <a:uFillTx/>
                <a:latin typeface="Palatino"/>
                <a:ea typeface="Palatino"/>
              </a:rPr>
              <a:t>Korlát</a:t>
            </a:r>
            <a:r>
              <a:rPr b="1" lang="en-US" sz="1600" spc="-1" strike="noStrike">
                <a:solidFill>
                  <a:srgbClr val="00ff00"/>
                </a:solidFill>
                <a:latin typeface="Palatino"/>
                <a:ea typeface="Palatino"/>
              </a:rPr>
              <a:t>: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effektív bitszám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= zaj)  és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&gt; display horiz. pixel-szá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5360" y="277920"/>
            <a:ext cx="8643960" cy="5533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922320" y="334800"/>
            <a:ext cx="912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640" y="1447920"/>
            <a:ext cx="2628720" cy="609480"/>
          </a:xfrm>
          <a:prstGeom prst="ellipse">
            <a:avLst/>
          </a:prstGeom>
          <a:noFill/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00480" y="4819680"/>
            <a:ext cx="2552760" cy="609480"/>
          </a:xfrm>
          <a:prstGeom prst="ellipse">
            <a:avLst/>
          </a:prstGeom>
          <a:noFill/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15240" y="2800440"/>
            <a:ext cx="1638360" cy="59040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3240" y="514440"/>
            <a:ext cx="2000160" cy="59040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201680" y="1255680"/>
            <a:ext cx="7267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énykép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nyomvonalr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zámítógépes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zköz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play  Hardcopy  (“screen dump”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NUMERIKUS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árolás,  adatátvitel,  prezent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54200" y="3029040"/>
            <a:ext cx="6237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2000" y="316080"/>
            <a:ext cx="733104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tér el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dokumentálás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9000" y="1017720"/>
            <a:ext cx="3830760" cy="4927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519120" y="1554120"/>
            <a:ext cx="40053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floppy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hard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C-card (PCMCIA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memory card,  hard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GPIB (IEEE-48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RS-232 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networ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Internet, e-mail (ZI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hardcopy (Hcp 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lo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63520" y="307800"/>
            <a:ext cx="84675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display,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a és  eszköz-beállítás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rchiválá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33360" y="316080"/>
            <a:ext cx="582624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számítógépes kapcsol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327320" y="1300320"/>
            <a:ext cx="7704000" cy="4560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442880" y="5356080"/>
            <a:ext cx="76485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488.2;  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CPI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tandard Commands for Programmable Instruments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727360" y="322272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91040" y="2346480"/>
            <a:ext cx="103356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controller</a:t>
            </a: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55800" y="2840040"/>
            <a:ext cx="129384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+ Instr. Dri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567560" y="3747960"/>
            <a:ext cx="650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795840" y="1714680"/>
            <a:ext cx="27068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( instrument  network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31880" y="387360"/>
            <a:ext cx="8104320" cy="5430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7989840" y="541332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018200" y="3400560"/>
            <a:ext cx="10112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(D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7400" y="126828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46200" y="291780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35040" y="428004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811600" y="1171440"/>
            <a:ext cx="1908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7760" y="316080"/>
            <a:ext cx="6168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érõeszköz “generációk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16160" y="1314360"/>
            <a:ext cx="7689960" cy="4584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934320" y="1494000"/>
            <a:ext cx="145584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147840" y="880920"/>
            <a:ext cx="3711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(RS-232,  GPIB,  pci,  VX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52600" y="3911760"/>
            <a:ext cx="10987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pci = 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instr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015320" y="1538280"/>
            <a:ext cx="12985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515960" y="553716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869000" y="302256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6840" y="266760"/>
            <a:ext cx="6756480" cy="13186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irtuális”  mûszer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 ( Változtassa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számítógépét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digitális oszcilloszkóppá!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11520" y="2211480"/>
            <a:ext cx="2079720" cy="3311280"/>
            <a:chOff x="4511520" y="2211480"/>
            <a:chExt cx="2079720" cy="3311280"/>
          </a:xfrm>
        </p:grpSpPr>
        <p:grpSp>
          <p:nvGrpSpPr>
            <p:cNvPr id="327" name=""/>
            <p:cNvGrpSpPr/>
            <p:nvPr/>
          </p:nvGrpSpPr>
          <p:grpSpPr>
            <a:xfrm>
              <a:off x="4511520" y="2211480"/>
              <a:ext cx="1584360" cy="1325520"/>
              <a:chOff x="4511520" y="2211480"/>
              <a:chExt cx="1584360" cy="1325520"/>
            </a:xfrm>
          </p:grpSpPr>
          <p:sp>
            <p:nvSpPr>
              <p:cNvPr id="328" name=""/>
              <p:cNvSpPr/>
              <p:nvPr/>
            </p:nvSpPr>
            <p:spPr>
              <a:xfrm>
                <a:off x="4511520" y="2211480"/>
                <a:ext cx="1584360" cy="1325520"/>
              </a:xfrm>
              <a:prstGeom prst="rect">
                <a:avLst/>
              </a:prstGeom>
              <a:solidFill>
                <a:srgbClr val="006b6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4732200" y="2739960"/>
                <a:ext cx="1143000" cy="2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00ff00"/>
                    </a:solidFill>
                    <a:latin typeface="Arial"/>
                    <a:ea typeface="Arial"/>
                  </a:rPr>
                  <a:t>Analysi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 txBox="1"/>
            <p:nvPr/>
          </p:nvSpPr>
          <p:spPr>
            <a:xfrm>
              <a:off x="4511520" y="3848040"/>
              <a:ext cx="2079720" cy="167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Signal Process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Digital Filter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Array Oper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35680" y="2211480"/>
            <a:ext cx="1714680" cy="3542760"/>
            <a:chOff x="6835680" y="2211480"/>
            <a:chExt cx="1714680" cy="3542760"/>
          </a:xfrm>
        </p:grpSpPr>
        <p:grpSp>
          <p:nvGrpSpPr>
            <p:cNvPr id="332" name=""/>
            <p:cNvGrpSpPr/>
            <p:nvPr/>
          </p:nvGrpSpPr>
          <p:grpSpPr>
            <a:xfrm>
              <a:off x="6842160" y="2211480"/>
              <a:ext cx="1708200" cy="1325520"/>
              <a:chOff x="6842160" y="2211480"/>
              <a:chExt cx="1708200" cy="1325520"/>
            </a:xfrm>
          </p:grpSpPr>
          <p:sp>
            <p:nvSpPr>
              <p:cNvPr id="333" name=""/>
              <p:cNvSpPr/>
              <p:nvPr/>
            </p:nvSpPr>
            <p:spPr>
              <a:xfrm>
                <a:off x="6842160" y="2211480"/>
                <a:ext cx="1708200" cy="1325520"/>
              </a:xfrm>
              <a:prstGeom prst="rect">
                <a:avLst/>
              </a:prstGeom>
              <a:solidFill>
                <a:srgbClr val="006b6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6931080" y="2695680"/>
                <a:ext cx="1419120" cy="32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7000"/>
                  </a:lnSpc>
                  <a:spcBef>
                    <a:spcPts val="1176"/>
                  </a:spcBef>
                </a:pPr>
                <a:r>
                  <a:rPr b="1" lang="en-US" sz="1800" spc="-1" strike="noStrike">
                    <a:solidFill>
                      <a:srgbClr val="00ff00"/>
                    </a:solidFill>
                    <a:latin typeface="Arial"/>
                    <a:ea typeface="Arial"/>
                  </a:rPr>
                  <a:t>Present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 txBox="1"/>
            <p:nvPr/>
          </p:nvSpPr>
          <p:spPr>
            <a:xfrm>
              <a:off x="6835680" y="3848040"/>
              <a:ext cx="1611360" cy="19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GUI (Graphical   User Interface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Hardcopy out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File I/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. . 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 txBox="1"/>
          <p:nvPr/>
        </p:nvSpPr>
        <p:spPr>
          <a:xfrm>
            <a:off x="392040" y="2649600"/>
            <a:ext cx="1062000" cy="34920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spcBef>
                <a:spcPts val="1032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14520" y="2860560"/>
            <a:ext cx="6318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22840" y="2882880"/>
            <a:ext cx="6318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1680" y="2882880"/>
            <a:ext cx="6300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0760" y="561960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84920" y="1430280"/>
            <a:ext cx="1362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So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front pa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387520" y="1401840"/>
            <a:ext cx="359568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hardver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  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szoft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116080" y="2189160"/>
            <a:ext cx="2089080" cy="3568680"/>
            <a:chOff x="2116080" y="2189160"/>
            <a:chExt cx="2089080" cy="3568680"/>
          </a:xfrm>
        </p:grpSpPr>
        <p:sp>
          <p:nvSpPr>
            <p:cNvPr id="344" name=""/>
            <p:cNvSpPr/>
            <p:nvPr/>
          </p:nvSpPr>
          <p:spPr>
            <a:xfrm>
              <a:off x="2116080" y="3808440"/>
              <a:ext cx="2089080" cy="194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190600" y="2189160"/>
              <a:ext cx="1609560" cy="1327320"/>
              <a:chOff x="2190600" y="2189160"/>
              <a:chExt cx="1609560" cy="1327320"/>
            </a:xfrm>
          </p:grpSpPr>
          <p:sp>
            <p:nvSpPr>
              <p:cNvPr id="346" name=""/>
              <p:cNvSpPr/>
              <p:nvPr/>
            </p:nvSpPr>
            <p:spPr>
              <a:xfrm>
                <a:off x="2214720" y="2189160"/>
                <a:ext cx="1584360" cy="13273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2190600" y="2403360"/>
                <a:ext cx="1609560" cy="80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CQuisi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ontro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06400" y="152280"/>
            <a:ext cx="5773680" cy="6184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76520" y="914400"/>
            <a:ext cx="1447920" cy="6094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38440" y="6384960"/>
            <a:ext cx="575316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D.H.Sheingold,  with apologies to   </a:t>
            </a:r>
            <a:r>
              <a:rPr b="1" i="1" lang="en-US" sz="1200" spc="-1" strike="noStrike">
                <a:solidFill>
                  <a:srgbClr val="fc0128"/>
                </a:solidFill>
                <a:latin typeface="Palatino"/>
                <a:ea typeface="Palatino"/>
              </a:rPr>
              <a:t>Leonardo  da  Vinci:  RULE  OF  PROPORTIONS</a:t>
            </a: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Academy of Fine Arts, Ven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609480"/>
            <a:ext cx="1600200" cy="8380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1447920" cy="3808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00200"/>
            <a:ext cx="838080" cy="30492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876920"/>
            <a:ext cx="1371600" cy="45720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9040" y="5257800"/>
            <a:ext cx="798480" cy="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782640" y="324000"/>
            <a:ext cx="8074080" cy="17848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      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Mindent a szemnek, és a kéznek” (DSO)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                               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Szoftver teszi a mûszert”  (FE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0760" y="2903400"/>
            <a:ext cx="817236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izikai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virtuál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kezelõi  felü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összetett képesség  /  egyszerû mûködte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özvetlen,  dokumentálható  válasz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Lokáli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egosztot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llig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kféle  üzemmód  (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ameleon_lik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izuális  és  automatikus  mérés / analíz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Kompakt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odulár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ép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2040" y="1523880"/>
            <a:ext cx="838980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   analóg  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FEP  (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=  Front-End Processor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11120" y="2373480"/>
            <a:ext cx="835992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Dedikált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ontra  “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rendszer-kompatibilis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”  képesség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39560" y="2028960"/>
            <a:ext cx="752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va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70080" y="321300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9760" y="442764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65360" y="563724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2320" y="363600"/>
            <a:ext cx="5530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unkció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almoz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77880" y="1577880"/>
            <a:ext cx="817236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mbinált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ktor (!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író (rek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felbontás (12 bit)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pari (!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rek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kai (idõ)an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ites (!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bontás,  igen nagy csatorn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usz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B-gener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özvetlen rekord-transz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óg jel (!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konstrukcióh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9600" y="316080"/>
            <a:ext cx="8604360" cy="10724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okatlan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 specifikációk,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új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esség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0960" y="1038240"/>
            <a:ext cx="50356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ta  gyakorisá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AMPLE RAT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R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Real Time Samp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E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Equivalent Time Samp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kord  hoss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CORD LEN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ory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Segmentation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Sequence Mo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sonm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zély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Actua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erceptual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IASING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lbont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SOLU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ENO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Effective No. Of B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HiR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High Resol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yomvonal  reprodukció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DISP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Max-mi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Compression  (Binn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LINe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 SINC [= sin(x)/x]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po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Do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Vector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sistence;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Gra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Col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 gyakorisá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UPDATE R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91240" y="1033560"/>
            <a:ext cx="42433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UTO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CA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UTO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PRE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TRIG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peciális  trigger  feltétel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litch” figyelés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PEAK DETE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kord-átlagolá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VERAG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urkoló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ENVELOP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égtelen utánvilág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ZO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onalíró üzemmód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O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kus mérések,  tren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áncol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jelfeldolgozás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CHAIN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pektrum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FF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tisztikai méré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HISTOGRA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at / beállítás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rchivál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TORE /RECA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ávvezérlé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MOTE CONTRO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8760" y="155520"/>
            <a:ext cx="8434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t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ehéz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digitálisan  emulálni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5600" y="1533600"/>
            <a:ext cx="52117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lõ”kép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r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yors  reagálóképesség  jelváltozás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 vezérlésre  egyarán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agyományosan  közvetlen 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hetõség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bizalom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lytonos”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dáció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ay sca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zepes” kategória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DSO szolgáltatások  nélkül !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0440" y="172548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83200" y="497844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3560" y="1698480"/>
            <a:ext cx="2679840" cy="18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öbbprocesszo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rchitektúr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edikált “gombo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688000" y="3471840"/>
            <a:ext cx="32958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hatáso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 adatgyüjtõ,  je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feldolgozó és vizualizál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lgoritmu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(color, gr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21480" y="4946760"/>
            <a:ext cx="2998800" cy="11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gressz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echnológiai fejlesz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0720" y="743040"/>
            <a:ext cx="6691320" cy="11235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A  rekord-felvétel  után  az  eszköz: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számítógép”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de  a  funkció: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oszcilloszkóp”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21360" y="350676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15880" y="316080"/>
            <a:ext cx="7902720" cy="834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Jel  “kategóriák”</a:t>
            </a:r>
            <a:br>
              <a:rPr sz="3600"/>
            </a:b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(A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jel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 határozza meg  az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elsõdleges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specifikációka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52440" y="1557360"/>
            <a:ext cx="47577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métlõdési gyakorisá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peti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yakr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ismétlõdõ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0160" indent="-17136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áltoz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!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ti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ysz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tranziens  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itkán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étlõdõ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951440" y="135108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sávszélessé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futási id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namik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C sz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tart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igger késlelte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, </a:t>
            </a:r>
            <a:r>
              <a:rPr b="1" i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pontos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satoraszá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inkron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7440" y="316080"/>
            <a:ext cx="7958160" cy="834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lkalmazó  “típusok”</a:t>
            </a:r>
            <a:br>
              <a:rPr sz="3600"/>
            </a:b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(Az alkalmazás  a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másodlagos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specifikációkat  determinál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7760" y="149544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bavadász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troubleshoo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özvetlen  (vizuális - manuális)  interaktiv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áltozatos  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dozható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õsítõ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screeners  and  sort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 átbocsátóképesség  és  megbízható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szk  mér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szt  dokumentá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azságkeresõ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characteriz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ihetõ (valósághû)   vála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 érzékeny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zátor  képes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8920" y="361800"/>
            <a:ext cx="8394840" cy="16084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inc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egyetlen  DSO  “aszpirin” 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      valamennyi  mérési  “fejfájásra”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5000" y="1611360"/>
            <a:ext cx="775008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 készülékek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formák,  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mindenre képes” DS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 legjobb  képességek  gyak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lcsönösen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izárjá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m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sak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ipróbálva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önthetõ  el  a problé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  a megoldás  “távolsága”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sy_of_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ár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nagy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172040" y="4438800"/>
            <a:ext cx="4251240" cy="21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tek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hp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lecroy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(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fluke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98600" y="1409760"/>
            <a:ext cx="4178160" cy="42037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886280" y="1666800"/>
            <a:ext cx="4110120" cy="48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1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REKORD  FEL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 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capture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2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EGJELENÍ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viewing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3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ÉRÉS  és  ELEM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  meas. and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analyzis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4: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RENDSZER  KAPCSO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data </a:t>
            </a:r>
            <a:r>
              <a:rPr b="1" lang="en-US" sz="1800" spc="-1" strike="noStrike">
                <a:solidFill>
                  <a:srgbClr val="00ff00"/>
                </a:solidFill>
                <a:latin typeface="Palatino"/>
                <a:ea typeface="Palatino"/>
              </a:rPr>
              <a:t>interfacing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nd </a:t>
            </a:r>
            <a:r>
              <a:rPr b="1" lang="en-US" sz="1800" spc="-1" strike="noStrike">
                <a:solidFill>
                  <a:srgbClr val="00ff00"/>
                </a:solidFill>
                <a:latin typeface="Palatino"/>
                <a:ea typeface="Palatino"/>
              </a:rPr>
              <a:t>documenting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6360" y="372960"/>
            <a:ext cx="872820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ompakt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stand-alone)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”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lap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jellemzõk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71760" y="284040"/>
            <a:ext cx="6391440" cy="13708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Egy kép többet ér ezer szónál”                  </a:t>
            </a: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	</a:t>
            </a: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“De  (száz)ezer  digitális szó  hatékonyabb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5080" y="3081240"/>
            <a:ext cx="353880" cy="2588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4776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58000" y="2655720"/>
            <a:ext cx="0" cy="6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6840" y="32670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43720" y="3154320"/>
            <a:ext cx="473040" cy="325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73920" y="2674800"/>
            <a:ext cx="551160" cy="444960"/>
          </a:xfrm>
          <a:custGeom>
            <a:avLst/>
            <a:gdLst/>
            <a:ahLst/>
            <a:rect l="0" t="0" r="r" b="b"/>
            <a:pathLst>
              <a:path fill="none" w="1531" h="1236">
                <a:moveTo>
                  <a:pt x="0" y="1091"/>
                </a:moveTo>
                <a:lnTo>
                  <a:pt x="0" y="874"/>
                </a:lnTo>
                <a:lnTo>
                  <a:pt x="97" y="653"/>
                </a:lnTo>
                <a:lnTo>
                  <a:pt x="149" y="437"/>
                </a:lnTo>
                <a:lnTo>
                  <a:pt x="246" y="216"/>
                </a:lnTo>
                <a:lnTo>
                  <a:pt x="343" y="0"/>
                </a:lnTo>
                <a:lnTo>
                  <a:pt x="493" y="145"/>
                </a:lnTo>
                <a:lnTo>
                  <a:pt x="542" y="362"/>
                </a:lnTo>
                <a:lnTo>
                  <a:pt x="542" y="583"/>
                </a:lnTo>
                <a:lnTo>
                  <a:pt x="643" y="799"/>
                </a:lnTo>
                <a:lnTo>
                  <a:pt x="692" y="1020"/>
                </a:lnTo>
                <a:lnTo>
                  <a:pt x="740" y="1236"/>
                </a:lnTo>
                <a:lnTo>
                  <a:pt x="887" y="1166"/>
                </a:lnTo>
                <a:lnTo>
                  <a:pt x="940" y="945"/>
                </a:lnTo>
                <a:lnTo>
                  <a:pt x="1037" y="728"/>
                </a:lnTo>
                <a:lnTo>
                  <a:pt x="1085" y="508"/>
                </a:lnTo>
                <a:lnTo>
                  <a:pt x="1134" y="291"/>
                </a:lnTo>
                <a:lnTo>
                  <a:pt x="1235" y="70"/>
                </a:lnTo>
                <a:lnTo>
                  <a:pt x="1332" y="291"/>
                </a:lnTo>
                <a:lnTo>
                  <a:pt x="1434" y="508"/>
                </a:lnTo>
                <a:lnTo>
                  <a:pt x="1434" y="728"/>
                </a:lnTo>
                <a:lnTo>
                  <a:pt x="1482" y="945"/>
                </a:lnTo>
                <a:lnTo>
                  <a:pt x="1531" y="1166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1560" y="1563840"/>
            <a:ext cx="8035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 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SZCILLOSZKÓP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 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interaktí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jelala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zé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apeszköze.  Használata  “egyszerû, mint az  ABC”...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                                              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XY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dõ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/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mplitúdó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nzitá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.. “mûködhet”  az 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ember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sonlíthatat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ak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lismer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sszefüggé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res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énye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emel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épesség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708280" y="210960"/>
            <a:ext cx="2340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Idõ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bl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680" y="1144440"/>
            <a:ext cx="860760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43680" y="1752480"/>
            <a:ext cx="2038320" cy="15048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0" y="3278160"/>
            <a:ext cx="116532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/Di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1520" y="2747880"/>
            <a:ext cx="126684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V/Di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9400" y="3322800"/>
            <a:ext cx="5040" cy="614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48360" y="3884760"/>
            <a:ext cx="892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0560" y="1330200"/>
            <a:ext cx="12826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pekt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n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(“</a:t>
            </a: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FFT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1640" y="5373720"/>
            <a:ext cx="38926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Moduláció  Analizátor  (“</a:t>
            </a: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szoftver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5480" y="3295800"/>
            <a:ext cx="495720" cy="457560"/>
          </a:xfrm>
          <a:custGeom>
            <a:avLst/>
            <a:gdLst/>
            <a:ahLst/>
            <a:rect l="0" t="0" r="r" b="b"/>
            <a:pathLst>
              <a:path w="1377" h="1271">
                <a:moveTo>
                  <a:pt x="0" y="422"/>
                </a:moveTo>
                <a:lnTo>
                  <a:pt x="0" y="846"/>
                </a:lnTo>
                <a:lnTo>
                  <a:pt x="964" y="846"/>
                </a:lnTo>
                <a:lnTo>
                  <a:pt x="964" y="1271"/>
                </a:lnTo>
                <a:lnTo>
                  <a:pt x="1377" y="635"/>
                </a:lnTo>
                <a:lnTo>
                  <a:pt x="964" y="0"/>
                </a:lnTo>
                <a:lnTo>
                  <a:pt x="964" y="422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276720"/>
            <a:ext cx="476640" cy="438480"/>
          </a:xfrm>
          <a:custGeom>
            <a:avLst/>
            <a:gdLst/>
            <a:ahLst/>
            <a:rect l="0" t="0" r="r" b="b"/>
            <a:pathLst>
              <a:path fill="none" w="1324" h="1218">
                <a:moveTo>
                  <a:pt x="441" y="1218"/>
                </a:moveTo>
                <a:lnTo>
                  <a:pt x="882" y="1218"/>
                </a:lnTo>
                <a:lnTo>
                  <a:pt x="882" y="365"/>
                </a:lnTo>
                <a:lnTo>
                  <a:pt x="1324" y="365"/>
                </a:lnTo>
                <a:lnTo>
                  <a:pt x="662" y="0"/>
                </a:lnTo>
                <a:lnTo>
                  <a:pt x="0" y="365"/>
                </a:lnTo>
                <a:lnTo>
                  <a:pt x="441" y="365"/>
                </a:lnTo>
                <a:lnTo>
                  <a:pt x="441" y="12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38320" y="662040"/>
            <a:ext cx="54640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özvetlen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kála  (és  helyzet)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”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eáll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81600" y="1247760"/>
            <a:ext cx="215748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Oszcilloszkó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67000" y="5495760"/>
            <a:ext cx="874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F/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8960" y="2135160"/>
            <a:ext cx="8494560" cy="3651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357200" y="1468440"/>
            <a:ext cx="26049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közvetlen  “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rajzolás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képernyõre  ír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6040" y="257040"/>
            <a:ext cx="79390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Grafikus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jelalak-részlet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megjelení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05320" y="1449360"/>
            <a:ext cx="46245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numerikus  “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tárolás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”  (memóriába  ír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és  nyomvonal  “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rekonstrukció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351160"/>
            <a:ext cx="0" cy="28432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151160" y="927000"/>
            <a:ext cx="1968480" cy="4176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IGITÁLI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1720" y="927000"/>
            <a:ext cx="1697040" cy="4176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NALÓ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19600" y="540720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719440" y="293760"/>
            <a:ext cx="5927760" cy="178812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Hiszem, ha látom !”    (ART)</a:t>
            </a:r>
            <a:br>
              <a:rPr sz="1800"/>
            </a:b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Ha látom, hihetem ?” (D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3280" y="141120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hagyományos jel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gjelenít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aló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eszköznek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nalog Real-Time scope),  ma már árban is, domináns  versenytársa   a   jel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izál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gitál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szcilloszkóp (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it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rag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lloscope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it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l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e scope),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sõsorban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numeriku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l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árol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z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automatik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améter és maszk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ér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az igen széleskörû jel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dolgozás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mint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F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Fast Fourier Transform,  Hisztogram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özvetl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ér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dsz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 integrálás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PI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eneral Purpose Interface Bus  =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EE488  =  IEC625  =  HPI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hatáso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chiválás  és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kumentál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révé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8320" y="1123920"/>
            <a:ext cx="849960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KONDÍCIONÁLÁ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l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omvonal    [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vect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R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=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thod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be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..van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árolt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dõREK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DIGITALIZÁLÁ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Quisi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JELFELDOLGOZÁ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SP 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S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REKONSTRUKCI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Pla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l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ullámfor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omvonal   [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raster sc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DÍCIONÁLÁS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 mint A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4720" y="295200"/>
            <a:ext cx="73803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különbözik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kép”alkotá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60680" y="1600200"/>
            <a:ext cx="1439640" cy="309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57240" y="3643200"/>
            <a:ext cx="206640" cy="100332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0200" y="4157640"/>
            <a:ext cx="338040" cy="45864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67360" y="4568760"/>
            <a:ext cx="307800" cy="20340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442880" y="5160960"/>
            <a:ext cx="258840" cy="4302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87400" y="2376360"/>
            <a:ext cx="79185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5760" y="3073680"/>
            <a:ext cx="492480" cy="336600"/>
          </a:xfrm>
          <a:custGeom>
            <a:avLst/>
            <a:gdLst/>
            <a:ahLst/>
            <a:rect l="0" t="0" r="r" b="b"/>
            <a:pathLst>
              <a:path fill="none" w="1368" h="935">
                <a:moveTo>
                  <a:pt x="0" y="935"/>
                </a:moveTo>
                <a:lnTo>
                  <a:pt x="0" y="935"/>
                </a:lnTo>
                <a:lnTo>
                  <a:pt x="0" y="935"/>
                </a:lnTo>
                <a:cubicBezTo>
                  <a:pt x="240" y="935"/>
                  <a:pt x="476" y="892"/>
                  <a:pt x="684" y="810"/>
                </a:cubicBezTo>
                <a:cubicBezTo>
                  <a:pt x="892" y="727"/>
                  <a:pt x="1065" y="609"/>
                  <a:pt x="1185" y="467"/>
                </a:cubicBezTo>
                <a:cubicBezTo>
                  <a:pt x="1305" y="325"/>
                  <a:pt x="1368" y="164"/>
                  <a:pt x="1368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69720" y="1449360"/>
            <a:ext cx="83548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gár - eltérítést  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indí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[  sweep START 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n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trigg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- felvételt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leállít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[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AC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isitio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STOP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1000" y="3321000"/>
            <a:ext cx="6210000" cy="176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4360" y="316080"/>
            <a:ext cx="8112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ás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a “trigger” szerep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97560" y="4316760"/>
            <a:ext cx="679680" cy="374760"/>
          </a:xfrm>
          <a:custGeom>
            <a:avLst/>
            <a:gdLst/>
            <a:ahLst/>
            <a:rect l="0" t="0" r="r" b="b"/>
            <a:pathLst>
              <a:path fill="none" w="1888" h="1041">
                <a:moveTo>
                  <a:pt x="0" y="1041"/>
                </a:moveTo>
                <a:lnTo>
                  <a:pt x="0" y="1041"/>
                </a:lnTo>
                <a:lnTo>
                  <a:pt x="0" y="1041"/>
                </a:lnTo>
                <a:cubicBezTo>
                  <a:pt x="331" y="1041"/>
                  <a:pt x="657" y="993"/>
                  <a:pt x="944" y="901"/>
                </a:cubicBezTo>
                <a:cubicBezTo>
                  <a:pt x="1231" y="810"/>
                  <a:pt x="1469" y="678"/>
                  <a:pt x="1635" y="520"/>
                </a:cubicBezTo>
                <a:cubicBezTo>
                  <a:pt x="1800" y="362"/>
                  <a:pt x="1888" y="183"/>
                  <a:pt x="1888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dr. Pápay Zsolt</dc:creator>
  <dc:description/>
  <dc:language>en-US</dc:language>
  <cp:lastModifiedBy>DR PAPAY</cp:lastModifiedBy>
  <cp:revision>0</cp:revision>
  <dc:subject>DSO kontra ART, és a DSO alapvonásai</dc:subject>
  <dc:title> Digitális oszcilloszkóp (DSO)</dc:title>
</cp:coreProperties>
</file>